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whoosh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73E-9C7D-45E5-8074-3CAF94A9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D84-2D25-4907-8097-BEC0A7F4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FFC-79A0-467B-B5AC-B493B552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8EC-FD5F-4A02-A189-598092F3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392C-DD32-4A7A-B920-3633C03D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2D7-24B9-4529-B3E3-A5A6DF0B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E10-DC74-4B84-A313-712A6389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869-7023-4175-9CFA-2B9E8904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0E1-5808-4C1D-B154-96159186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047-34E6-40CB-8D2D-CD356F94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CFB-89F6-4F8A-B245-67CC322C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672-AE06-4050-B330-44E947FA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DD7C-AA84-4CAE-AB8E-5362D799C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can display information in the form of a matrix of any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can calculate the product of a matrix and a scalar quantit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can calculate the sum and product of two matric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can calculate the determinant and inverse 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a non-singular matrix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4292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292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3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ula buys 2kg cereal, 4kg bread and 5kg potato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reg buys 1kg cereal, 7kg bread and 3kg potato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play this information in a matri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843280" y="321300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708360" y="4437000"/>
            <a:ext cx="1441440" cy="1079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00360" y="4292640"/>
            <a:ext cx="9349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068640"/>
            <a:ext cx="151128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51280" y="4508640"/>
            <a:ext cx="122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48040" y="4562640"/>
            <a:ext cx="125640" cy="18864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10716" y="12799"/>
                </a:moveTo>
                <a:cubicBezTo>
                  <a:pt x="10708" y="12799"/>
                  <a:pt x="10699" y="12799"/>
                  <a:pt x="10691" y="12799"/>
                </a:cubicBezTo>
                <a:cubicBezTo>
                  <a:pt x="10699" y="12768"/>
                  <a:pt x="10729" y="12716"/>
                  <a:pt x="10765" y="12700"/>
                </a:cubicBezTo>
                <a:cubicBezTo>
                  <a:pt x="10796" y="12686"/>
                  <a:pt x="10875" y="12659"/>
                  <a:pt x="10914" y="12675"/>
                </a:cubicBezTo>
                <a:cubicBezTo>
                  <a:pt x="10955" y="12692"/>
                  <a:pt x="10946" y="12791"/>
                  <a:pt x="10939" y="12824"/>
                </a:cubicBezTo>
                <a:cubicBezTo>
                  <a:pt x="10923" y="12896"/>
                  <a:pt x="10868" y="13023"/>
                  <a:pt x="10815" y="13072"/>
                </a:cubicBezTo>
                <a:cubicBezTo>
                  <a:pt x="10761" y="13123"/>
                  <a:pt x="10765" y="13120"/>
                  <a:pt x="10765" y="13196"/>
                </a:cubicBezTo>
                <a:cubicBezTo>
                  <a:pt x="10829" y="13187"/>
                  <a:pt x="10868" y="13171"/>
                  <a:pt x="10939" y="13171"/>
                </a:cubicBezTo>
                <a:cubicBezTo>
                  <a:pt x="10972" y="13171"/>
                  <a:pt x="11005" y="13171"/>
                  <a:pt x="11038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13160" y="4616280"/>
            <a:ext cx="142920" cy="1350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2005" y="12824"/>
                </a:moveTo>
                <a:cubicBezTo>
                  <a:pt x="12061" y="12843"/>
                  <a:pt x="12014" y="12873"/>
                  <a:pt x="12005" y="12923"/>
                </a:cubicBezTo>
                <a:cubicBezTo>
                  <a:pt x="11996" y="12974"/>
                  <a:pt x="11981" y="13020"/>
                  <a:pt x="11981" y="13072"/>
                </a:cubicBezTo>
                <a:cubicBezTo>
                  <a:pt x="11981" y="13097"/>
                  <a:pt x="11981" y="13105"/>
                  <a:pt x="11981" y="13122"/>
                </a:cubicBezTo>
                <a:cubicBezTo>
                  <a:pt x="12028" y="13122"/>
                  <a:pt x="12044" y="13105"/>
                  <a:pt x="12080" y="13097"/>
                </a:cubicBezTo>
                <a:cubicBezTo>
                  <a:pt x="12146" y="13083"/>
                  <a:pt x="12203" y="13111"/>
                  <a:pt x="12254" y="13122"/>
                </a:cubicBezTo>
                <a:cubicBezTo>
                  <a:pt x="12306" y="13133"/>
                  <a:pt x="12361" y="13098"/>
                  <a:pt x="12378" y="13146"/>
                </a:cubicBezTo>
              </a:path>
              <a:path w="398" h="373">
                <a:moveTo>
                  <a:pt x="12229" y="13047"/>
                </a:moveTo>
                <a:cubicBezTo>
                  <a:pt x="12221" y="13047"/>
                  <a:pt x="12212" y="13047"/>
                  <a:pt x="12204" y="13047"/>
                </a:cubicBezTo>
                <a:cubicBezTo>
                  <a:pt x="12191" y="13097"/>
                  <a:pt x="12179" y="13111"/>
                  <a:pt x="12179" y="13171"/>
                </a:cubicBezTo>
                <a:cubicBezTo>
                  <a:pt x="12179" y="13179"/>
                  <a:pt x="12179" y="13188"/>
                  <a:pt x="12179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48120" y="4589640"/>
            <a:ext cx="162000" cy="214200"/>
          </a:xfrm>
          <a:custGeom>
            <a:avLst/>
            <a:gdLst/>
            <a:ahLst/>
            <a:rect l="l" t="t" r="r" b="b"/>
            <a:pathLst>
              <a:path w="447" h="596">
                <a:moveTo>
                  <a:pt x="13519" y="12824"/>
                </a:moveTo>
                <a:cubicBezTo>
                  <a:pt x="13519" y="12778"/>
                  <a:pt x="13476" y="12875"/>
                  <a:pt x="13469" y="12898"/>
                </a:cubicBezTo>
                <a:cubicBezTo>
                  <a:pt x="13452" y="12957"/>
                  <a:pt x="13465" y="13003"/>
                  <a:pt x="13519" y="13022"/>
                </a:cubicBezTo>
                <a:cubicBezTo>
                  <a:pt x="13577" y="13043"/>
                  <a:pt x="13631" y="13020"/>
                  <a:pt x="13692" y="13047"/>
                </a:cubicBezTo>
                <a:cubicBezTo>
                  <a:pt x="13785" y="13089"/>
                  <a:pt x="13767" y="13156"/>
                  <a:pt x="13767" y="13246"/>
                </a:cubicBezTo>
                <a:cubicBezTo>
                  <a:pt x="13767" y="13314"/>
                  <a:pt x="13719" y="13362"/>
                  <a:pt x="13643" y="13345"/>
                </a:cubicBezTo>
                <a:cubicBezTo>
                  <a:pt x="13586" y="13317"/>
                  <a:pt x="13563" y="13306"/>
                  <a:pt x="13519" y="13295"/>
                </a:cubicBezTo>
              </a:path>
              <a:path w="447" h="596">
                <a:moveTo>
                  <a:pt x="13866" y="12799"/>
                </a:moveTo>
                <a:cubicBezTo>
                  <a:pt x="13882" y="12783"/>
                  <a:pt x="13899" y="12766"/>
                  <a:pt x="13915" y="12750"/>
                </a:cubicBezTo>
                <a:cubicBezTo>
                  <a:pt x="13816" y="12750"/>
                  <a:pt x="13717" y="12750"/>
                  <a:pt x="13618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11760" y="5126040"/>
            <a:ext cx="27000" cy="160200"/>
          </a:xfrm>
          <a:custGeom>
            <a:avLst/>
            <a:gdLst/>
            <a:ahLst/>
            <a:rect l="l" t="t" r="r" b="b"/>
            <a:pathLst>
              <a:path w="76" h="447">
                <a:moveTo>
                  <a:pt x="10864" y="14288"/>
                </a:moveTo>
                <a:cubicBezTo>
                  <a:pt x="10864" y="14263"/>
                  <a:pt x="10864" y="14255"/>
                  <a:pt x="10864" y="14238"/>
                </a:cubicBezTo>
                <a:cubicBezTo>
                  <a:pt x="10864" y="14339"/>
                  <a:pt x="10903" y="14412"/>
                  <a:pt x="10914" y="14511"/>
                </a:cubicBezTo>
                <a:cubicBezTo>
                  <a:pt x="10914" y="14603"/>
                  <a:pt x="10912" y="14629"/>
                  <a:pt x="10939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8080" y="5106960"/>
            <a:ext cx="13500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2105" y="14213"/>
                </a:moveTo>
                <a:cubicBezTo>
                  <a:pt x="12054" y="14213"/>
                  <a:pt x="12154" y="14196"/>
                  <a:pt x="12204" y="14188"/>
                </a:cubicBezTo>
                <a:cubicBezTo>
                  <a:pt x="12272" y="14178"/>
                  <a:pt x="12418" y="14159"/>
                  <a:pt x="12452" y="14238"/>
                </a:cubicBezTo>
                <a:cubicBezTo>
                  <a:pt x="12486" y="14315"/>
                  <a:pt x="12412" y="14448"/>
                  <a:pt x="12378" y="14511"/>
                </a:cubicBezTo>
                <a:cubicBezTo>
                  <a:pt x="12338" y="14585"/>
                  <a:pt x="12306" y="14668"/>
                  <a:pt x="12254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68920" y="5099040"/>
            <a:ext cx="106200" cy="241200"/>
          </a:xfrm>
          <a:custGeom>
            <a:avLst/>
            <a:gdLst/>
            <a:ahLst/>
            <a:rect l="l" t="t" r="r" b="b"/>
            <a:pathLst>
              <a:path w="298" h="671">
                <a:moveTo>
                  <a:pt x="13271" y="14288"/>
                </a:moveTo>
                <a:cubicBezTo>
                  <a:pt x="13245" y="14275"/>
                  <a:pt x="13264" y="14248"/>
                  <a:pt x="13295" y="14213"/>
                </a:cubicBezTo>
                <a:cubicBezTo>
                  <a:pt x="13340" y="14162"/>
                  <a:pt x="13382" y="14163"/>
                  <a:pt x="13444" y="14163"/>
                </a:cubicBezTo>
                <a:cubicBezTo>
                  <a:pt x="13469" y="14163"/>
                  <a:pt x="13477" y="14163"/>
                  <a:pt x="13494" y="14163"/>
                </a:cubicBezTo>
                <a:cubicBezTo>
                  <a:pt x="13494" y="14226"/>
                  <a:pt x="13496" y="14255"/>
                  <a:pt x="13469" y="14312"/>
                </a:cubicBezTo>
                <a:cubicBezTo>
                  <a:pt x="13442" y="14368"/>
                  <a:pt x="13388" y="14408"/>
                  <a:pt x="13370" y="14461"/>
                </a:cubicBezTo>
                <a:cubicBezTo>
                  <a:pt x="13370" y="14469"/>
                  <a:pt x="13370" y="14478"/>
                  <a:pt x="13370" y="14486"/>
                </a:cubicBezTo>
                <a:cubicBezTo>
                  <a:pt x="13413" y="14486"/>
                  <a:pt x="13456" y="14495"/>
                  <a:pt x="13494" y="14511"/>
                </a:cubicBezTo>
                <a:cubicBezTo>
                  <a:pt x="13567" y="14541"/>
                  <a:pt x="13543" y="14591"/>
                  <a:pt x="13543" y="14660"/>
                </a:cubicBezTo>
                <a:cubicBezTo>
                  <a:pt x="13543" y="14722"/>
                  <a:pt x="13513" y="14795"/>
                  <a:pt x="13444" y="14808"/>
                </a:cubicBezTo>
                <a:cubicBezTo>
                  <a:pt x="13386" y="14819"/>
                  <a:pt x="13329" y="14826"/>
                  <a:pt x="13271" y="1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88000" y="3562200"/>
            <a:ext cx="830160" cy="287640"/>
          </a:xfrm>
          <a:custGeom>
            <a:avLst/>
            <a:gdLst/>
            <a:ahLst/>
            <a:rect l="l" t="t" r="r" b="b"/>
            <a:pathLst>
              <a:path w="2307" h="795">
                <a:moveTo>
                  <a:pt x="15875" y="10368"/>
                </a:moveTo>
                <a:cubicBezTo>
                  <a:pt x="15852" y="10391"/>
                  <a:pt x="15844" y="10395"/>
                  <a:pt x="15850" y="10418"/>
                </a:cubicBezTo>
                <a:cubicBezTo>
                  <a:pt x="15850" y="10325"/>
                  <a:pt x="15825" y="10236"/>
                  <a:pt x="15900" y="10170"/>
                </a:cubicBezTo>
                <a:cubicBezTo>
                  <a:pt x="15986" y="10094"/>
                  <a:pt x="16048" y="10125"/>
                  <a:pt x="16098" y="10220"/>
                </a:cubicBezTo>
                <a:cubicBezTo>
                  <a:pt x="16140" y="10300"/>
                  <a:pt x="16142" y="10447"/>
                  <a:pt x="16073" y="10517"/>
                </a:cubicBezTo>
                <a:cubicBezTo>
                  <a:pt x="16022" y="10568"/>
                  <a:pt x="15934" y="10585"/>
                  <a:pt x="15875" y="10542"/>
                </a:cubicBezTo>
                <a:cubicBezTo>
                  <a:pt x="15813" y="10497"/>
                  <a:pt x="15810" y="10482"/>
                  <a:pt x="15801" y="10418"/>
                </a:cubicBezTo>
              </a:path>
              <a:path w="2307" h="795">
                <a:moveTo>
                  <a:pt x="16346" y="10492"/>
                </a:moveTo>
                <a:cubicBezTo>
                  <a:pt x="16354" y="10500"/>
                  <a:pt x="16363" y="10509"/>
                  <a:pt x="16371" y="10517"/>
                </a:cubicBezTo>
                <a:cubicBezTo>
                  <a:pt x="16371" y="10454"/>
                  <a:pt x="16357" y="10392"/>
                  <a:pt x="16396" y="10344"/>
                </a:cubicBezTo>
                <a:cubicBezTo>
                  <a:pt x="16442" y="10287"/>
                  <a:pt x="16479" y="10279"/>
                  <a:pt x="16545" y="10319"/>
                </a:cubicBezTo>
                <a:cubicBezTo>
                  <a:pt x="16584" y="10343"/>
                  <a:pt x="16595" y="10348"/>
                  <a:pt x="16644" y="10368"/>
                </a:cubicBezTo>
              </a:path>
              <a:path w="2307" h="795">
                <a:moveTo>
                  <a:pt x="16793" y="10393"/>
                </a:moveTo>
                <a:cubicBezTo>
                  <a:pt x="16843" y="10376"/>
                  <a:pt x="16808" y="10358"/>
                  <a:pt x="16768" y="10393"/>
                </a:cubicBezTo>
                <a:cubicBezTo>
                  <a:pt x="16740" y="10418"/>
                  <a:pt x="16678" y="10502"/>
                  <a:pt x="16694" y="10542"/>
                </a:cubicBezTo>
                <a:cubicBezTo>
                  <a:pt x="16702" y="10550"/>
                  <a:pt x="16710" y="10559"/>
                  <a:pt x="16718" y="10567"/>
                </a:cubicBezTo>
                <a:cubicBezTo>
                  <a:pt x="16835" y="10494"/>
                  <a:pt x="16858" y="10420"/>
                  <a:pt x="16917" y="10294"/>
                </a:cubicBezTo>
                <a:cubicBezTo>
                  <a:pt x="16978" y="10165"/>
                  <a:pt x="16991" y="10062"/>
                  <a:pt x="16991" y="9922"/>
                </a:cubicBezTo>
                <a:cubicBezTo>
                  <a:pt x="16991" y="9859"/>
                  <a:pt x="16969" y="10033"/>
                  <a:pt x="16966" y="10046"/>
                </a:cubicBezTo>
                <a:cubicBezTo>
                  <a:pt x="16939" y="10151"/>
                  <a:pt x="16901" y="10310"/>
                  <a:pt x="16917" y="10418"/>
                </a:cubicBezTo>
                <a:cubicBezTo>
                  <a:pt x="16927" y="10487"/>
                  <a:pt x="16939" y="10504"/>
                  <a:pt x="16991" y="10517"/>
                </a:cubicBezTo>
              </a:path>
              <a:path w="2307" h="795">
                <a:moveTo>
                  <a:pt x="17115" y="10443"/>
                </a:moveTo>
                <a:cubicBezTo>
                  <a:pt x="17162" y="10469"/>
                  <a:pt x="17206" y="10511"/>
                  <a:pt x="17264" y="10492"/>
                </a:cubicBezTo>
                <a:cubicBezTo>
                  <a:pt x="17317" y="10475"/>
                  <a:pt x="17343" y="10415"/>
                  <a:pt x="17289" y="10368"/>
                </a:cubicBezTo>
                <a:cubicBezTo>
                  <a:pt x="17264" y="10368"/>
                  <a:pt x="17256" y="10368"/>
                  <a:pt x="17239" y="10368"/>
                </a:cubicBezTo>
                <a:cubicBezTo>
                  <a:pt x="17197" y="10432"/>
                  <a:pt x="17171" y="10511"/>
                  <a:pt x="17190" y="10592"/>
                </a:cubicBezTo>
                <a:cubicBezTo>
                  <a:pt x="17215" y="10699"/>
                  <a:pt x="17317" y="10663"/>
                  <a:pt x="17388" y="10641"/>
                </a:cubicBezTo>
                <a:cubicBezTo>
                  <a:pt x="17413" y="10633"/>
                  <a:pt x="17437" y="10624"/>
                  <a:pt x="17462" y="10616"/>
                </a:cubicBezTo>
              </a:path>
              <a:path w="2307" h="795">
                <a:moveTo>
                  <a:pt x="17686" y="10666"/>
                </a:moveTo>
                <a:cubicBezTo>
                  <a:pt x="17686" y="10734"/>
                  <a:pt x="17683" y="10581"/>
                  <a:pt x="17686" y="10567"/>
                </a:cubicBezTo>
                <a:cubicBezTo>
                  <a:pt x="17709" y="10464"/>
                  <a:pt x="17788" y="10399"/>
                  <a:pt x="17884" y="10368"/>
                </a:cubicBezTo>
                <a:cubicBezTo>
                  <a:pt x="17962" y="10343"/>
                  <a:pt x="18032" y="10328"/>
                  <a:pt x="18107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31000" y="3724200"/>
            <a:ext cx="9360" cy="125640"/>
          </a:xfrm>
          <a:custGeom>
            <a:avLst/>
            <a:gdLst/>
            <a:ahLst/>
            <a:rect l="l" t="t" r="r" b="b"/>
            <a:pathLst>
              <a:path w="25" h="348">
                <a:moveTo>
                  <a:pt x="18976" y="10368"/>
                </a:moveTo>
                <a:cubicBezTo>
                  <a:pt x="18976" y="10344"/>
                  <a:pt x="18976" y="10336"/>
                  <a:pt x="18976" y="10368"/>
                </a:cubicBezTo>
              </a:path>
              <a:path w="25" h="348">
                <a:moveTo>
                  <a:pt x="18976" y="10641"/>
                </a:moveTo>
                <a:cubicBezTo>
                  <a:pt x="18976" y="10682"/>
                  <a:pt x="18988" y="10653"/>
                  <a:pt x="19000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77040" y="3581280"/>
            <a:ext cx="733320" cy="330480"/>
          </a:xfrm>
          <a:custGeom>
            <a:avLst/>
            <a:gdLst/>
            <a:ahLst/>
            <a:rect l="l" t="t" r="r" b="b"/>
            <a:pathLst>
              <a:path w="2035" h="918">
                <a:moveTo>
                  <a:pt x="20315" y="10244"/>
                </a:moveTo>
                <a:cubicBezTo>
                  <a:pt x="20285" y="10222"/>
                  <a:pt x="20233" y="10210"/>
                  <a:pt x="20216" y="10170"/>
                </a:cubicBezTo>
                <a:cubicBezTo>
                  <a:pt x="20201" y="10135"/>
                  <a:pt x="20224" y="10072"/>
                  <a:pt x="20241" y="10046"/>
                </a:cubicBezTo>
                <a:cubicBezTo>
                  <a:pt x="20274" y="9995"/>
                  <a:pt x="20360" y="9953"/>
                  <a:pt x="20414" y="9947"/>
                </a:cubicBezTo>
                <a:cubicBezTo>
                  <a:pt x="20538" y="9933"/>
                  <a:pt x="20535" y="10024"/>
                  <a:pt x="20538" y="10120"/>
                </a:cubicBezTo>
                <a:cubicBezTo>
                  <a:pt x="20541" y="10237"/>
                  <a:pt x="20553" y="10387"/>
                  <a:pt x="20489" y="10492"/>
                </a:cubicBezTo>
                <a:cubicBezTo>
                  <a:pt x="20455" y="10548"/>
                  <a:pt x="20406" y="10614"/>
                  <a:pt x="20365" y="10666"/>
                </a:cubicBezTo>
                <a:cubicBezTo>
                  <a:pt x="20493" y="10666"/>
                  <a:pt x="20623" y="10669"/>
                  <a:pt x="20737" y="10691"/>
                </a:cubicBezTo>
                <a:cubicBezTo>
                  <a:pt x="20753" y="10691"/>
                  <a:pt x="20770" y="10691"/>
                  <a:pt x="20786" y="10691"/>
                </a:cubicBezTo>
              </a:path>
              <a:path w="2035" h="918">
                <a:moveTo>
                  <a:pt x="21332" y="10368"/>
                </a:moveTo>
                <a:cubicBezTo>
                  <a:pt x="21332" y="10360"/>
                  <a:pt x="21332" y="10352"/>
                  <a:pt x="21332" y="10344"/>
                </a:cubicBezTo>
                <a:cubicBezTo>
                  <a:pt x="21290" y="10385"/>
                  <a:pt x="21250" y="10427"/>
                  <a:pt x="21208" y="10468"/>
                </a:cubicBezTo>
                <a:cubicBezTo>
                  <a:pt x="21181" y="10495"/>
                  <a:pt x="21119" y="10551"/>
                  <a:pt x="21084" y="10567"/>
                </a:cubicBezTo>
                <a:cubicBezTo>
                  <a:pt x="21076" y="10567"/>
                  <a:pt x="21067" y="10567"/>
                  <a:pt x="21059" y="10567"/>
                </a:cubicBezTo>
              </a:path>
              <a:path w="2035" h="918">
                <a:moveTo>
                  <a:pt x="21307" y="10542"/>
                </a:moveTo>
                <a:cubicBezTo>
                  <a:pt x="21307" y="10550"/>
                  <a:pt x="21307" y="10559"/>
                  <a:pt x="21307" y="10567"/>
                </a:cubicBezTo>
                <a:cubicBezTo>
                  <a:pt x="21295" y="10530"/>
                  <a:pt x="21230" y="10515"/>
                  <a:pt x="21183" y="10492"/>
                </a:cubicBezTo>
                <a:cubicBezTo>
                  <a:pt x="21125" y="10463"/>
                  <a:pt x="21091" y="10407"/>
                  <a:pt x="21034" y="10393"/>
                </a:cubicBezTo>
              </a:path>
              <a:path w="2035" h="918">
                <a:moveTo>
                  <a:pt x="21679" y="10096"/>
                </a:moveTo>
                <a:cubicBezTo>
                  <a:pt x="21679" y="10061"/>
                  <a:pt x="21686" y="10034"/>
                  <a:pt x="21704" y="10021"/>
                </a:cubicBezTo>
                <a:cubicBezTo>
                  <a:pt x="21777" y="9968"/>
                  <a:pt x="21841" y="9971"/>
                  <a:pt x="21927" y="9971"/>
                </a:cubicBezTo>
                <a:cubicBezTo>
                  <a:pt x="21997" y="9971"/>
                  <a:pt x="22096" y="9957"/>
                  <a:pt x="22126" y="10046"/>
                </a:cubicBezTo>
                <a:cubicBezTo>
                  <a:pt x="22150" y="10119"/>
                  <a:pt x="22095" y="10174"/>
                  <a:pt x="22051" y="10220"/>
                </a:cubicBezTo>
                <a:cubicBezTo>
                  <a:pt x="21995" y="10279"/>
                  <a:pt x="21909" y="10316"/>
                  <a:pt x="21878" y="10393"/>
                </a:cubicBezTo>
                <a:cubicBezTo>
                  <a:pt x="21851" y="10461"/>
                  <a:pt x="21960" y="10500"/>
                  <a:pt x="22002" y="10517"/>
                </a:cubicBezTo>
                <a:cubicBezTo>
                  <a:pt x="22080" y="10548"/>
                  <a:pt x="22217" y="10571"/>
                  <a:pt x="22250" y="10666"/>
                </a:cubicBezTo>
                <a:cubicBezTo>
                  <a:pt x="22284" y="10763"/>
                  <a:pt x="22218" y="10839"/>
                  <a:pt x="22126" y="10864"/>
                </a:cubicBezTo>
                <a:cubicBezTo>
                  <a:pt x="22040" y="10887"/>
                  <a:pt x="21916" y="10864"/>
                  <a:pt x="21828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3 x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10) + (7 x 60) + (3 x 30) = 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98764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12000" y="2060640"/>
            <a:ext cx="431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04000" y="206064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56000" y="177336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24720" y="206064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5928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940360" y="256536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635280" y="170028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32720" y="2565360"/>
            <a:ext cx="431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56000" y="170028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451640" y="256536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39640" y="1557360"/>
                <a:ext cx="3672000" cy="19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24000" y="3860640"/>
                <a:ext cx="3887640" cy="18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inder: inverse of a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39640" y="2492280"/>
                <a:ext cx="12319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85" name=""/>
          <p:cNvGrpSpPr/>
          <p:nvPr/>
        </p:nvGrpSpPr>
        <p:grpSpPr>
          <a:xfrm>
            <a:off x="1908000" y="2492280"/>
            <a:ext cx="3168720" cy="1108080"/>
            <a:chOff x="1908000" y="2492280"/>
            <a:chExt cx="3168720" cy="1108080"/>
          </a:xfrm>
        </p:grpSpPr>
        <mc:AlternateContent>
          <mc:Choice xmlns:a14="http://schemas.microsoft.com/office/drawing/2010/main" Requires="a14">
            <p:sp>
              <p:nvSpPr>
                <p:cNvPr id="386" name=""/>
                <p:cNvSpPr txBox="1"/>
                <p:nvPr/>
              </p:nvSpPr>
              <p:spPr>
                <a:xfrm>
                  <a:off x="1908000" y="2492280"/>
                  <a:ext cx="3168720" cy="110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d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d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a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87" name=""/>
            <p:cNvSpPr/>
            <p:nvPr/>
          </p:nvSpPr>
          <p:spPr>
            <a:xfrm>
              <a:off x="3635280" y="2492280"/>
              <a:ext cx="57636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84720" y="3068640"/>
              <a:ext cx="576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3708360" y="2492280"/>
            <a:ext cx="432000" cy="48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27640" y="2997360"/>
            <a:ext cx="431640" cy="48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64000" y="321300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356000" y="263700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933720"/>
            <a:ext cx="8137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can we not have an inver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d – bc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ad – bc is the “determinant” – it determines if there is an in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556000" y="5589720"/>
                <a:ext cx="24336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5483160" y="6037200"/>
            <a:ext cx="125640" cy="88920"/>
          </a:xfrm>
          <a:custGeom>
            <a:avLst/>
            <a:gdLst/>
            <a:ahLst/>
            <a:rect l="l" t="t" r="r" b="b"/>
            <a:pathLst>
              <a:path w="348" h="249">
                <a:moveTo>
                  <a:pt x="15503" y="16842"/>
                </a:moveTo>
                <a:cubicBezTo>
                  <a:pt x="15526" y="16820"/>
                  <a:pt x="15531" y="16812"/>
                  <a:pt x="15553" y="16818"/>
                </a:cubicBezTo>
                <a:cubicBezTo>
                  <a:pt x="15470" y="16818"/>
                  <a:pt x="15406" y="16806"/>
                  <a:pt x="15329" y="16793"/>
                </a:cubicBezTo>
                <a:cubicBezTo>
                  <a:pt x="15276" y="16784"/>
                  <a:pt x="15245" y="16814"/>
                  <a:pt x="15230" y="16768"/>
                </a:cubicBezTo>
              </a:path>
              <a:path w="348" h="249">
                <a:moveTo>
                  <a:pt x="15577" y="17016"/>
                </a:moveTo>
                <a:cubicBezTo>
                  <a:pt x="15487" y="17016"/>
                  <a:pt x="15413" y="17010"/>
                  <a:pt x="15329" y="16991"/>
                </a:cubicBezTo>
                <a:cubicBezTo>
                  <a:pt x="15321" y="16991"/>
                  <a:pt x="15312" y="16991"/>
                  <a:pt x="15304" y="169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48200" y="5634000"/>
            <a:ext cx="1117800" cy="884160"/>
          </a:xfrm>
          <a:custGeom>
            <a:avLst/>
            <a:gdLst/>
            <a:ahLst/>
            <a:rect l="l" t="t" r="r" b="b"/>
            <a:pathLst>
              <a:path w="3102" h="2456">
                <a:moveTo>
                  <a:pt x="16396" y="16966"/>
                </a:moveTo>
                <a:cubicBezTo>
                  <a:pt x="16389" y="16945"/>
                  <a:pt x="16356" y="16923"/>
                  <a:pt x="16321" y="16942"/>
                </a:cubicBezTo>
                <a:cubicBezTo>
                  <a:pt x="16254" y="16979"/>
                  <a:pt x="16247" y="16992"/>
                  <a:pt x="16247" y="17066"/>
                </a:cubicBezTo>
                <a:cubicBezTo>
                  <a:pt x="16247" y="17114"/>
                  <a:pt x="16302" y="17134"/>
                  <a:pt x="16346" y="17115"/>
                </a:cubicBezTo>
                <a:cubicBezTo>
                  <a:pt x="16388" y="17097"/>
                  <a:pt x="16450" y="16952"/>
                  <a:pt x="16470" y="16917"/>
                </a:cubicBezTo>
                <a:cubicBezTo>
                  <a:pt x="16520" y="16828"/>
                  <a:pt x="16517" y="16738"/>
                  <a:pt x="16545" y="16644"/>
                </a:cubicBezTo>
                <a:cubicBezTo>
                  <a:pt x="16566" y="16573"/>
                  <a:pt x="16588" y="16495"/>
                  <a:pt x="16594" y="16421"/>
                </a:cubicBezTo>
                <a:cubicBezTo>
                  <a:pt x="16600" y="16352"/>
                  <a:pt x="16597" y="16531"/>
                  <a:pt x="16594" y="16545"/>
                </a:cubicBezTo>
                <a:cubicBezTo>
                  <a:pt x="16571" y="16654"/>
                  <a:pt x="16549" y="16754"/>
                  <a:pt x="16545" y="16867"/>
                </a:cubicBezTo>
                <a:cubicBezTo>
                  <a:pt x="16542" y="16958"/>
                  <a:pt x="16552" y="17031"/>
                  <a:pt x="16570" y="17115"/>
                </a:cubicBezTo>
                <a:cubicBezTo>
                  <a:pt x="16570" y="17140"/>
                  <a:pt x="16570" y="17148"/>
                  <a:pt x="16570" y="17165"/>
                </a:cubicBezTo>
              </a:path>
              <a:path w="3102" h="2456">
                <a:moveTo>
                  <a:pt x="16694" y="17066"/>
                </a:moveTo>
                <a:cubicBezTo>
                  <a:pt x="16734" y="17083"/>
                  <a:pt x="16806" y="17099"/>
                  <a:pt x="16842" y="17066"/>
                </a:cubicBezTo>
                <a:cubicBezTo>
                  <a:pt x="16873" y="17038"/>
                  <a:pt x="16954" y="16962"/>
                  <a:pt x="16966" y="16917"/>
                </a:cubicBezTo>
                <a:cubicBezTo>
                  <a:pt x="16966" y="16900"/>
                  <a:pt x="16966" y="16884"/>
                  <a:pt x="16966" y="16867"/>
                </a:cubicBezTo>
                <a:cubicBezTo>
                  <a:pt x="16927" y="16867"/>
                  <a:pt x="16892" y="16856"/>
                  <a:pt x="16867" y="16892"/>
                </a:cubicBezTo>
                <a:cubicBezTo>
                  <a:pt x="16832" y="16942"/>
                  <a:pt x="16786" y="17028"/>
                  <a:pt x="16818" y="17090"/>
                </a:cubicBezTo>
                <a:cubicBezTo>
                  <a:pt x="16853" y="17158"/>
                  <a:pt x="16942" y="17204"/>
                  <a:pt x="17016" y="17190"/>
                </a:cubicBezTo>
                <a:cubicBezTo>
                  <a:pt x="17090" y="17176"/>
                  <a:pt x="17153" y="17104"/>
                  <a:pt x="17214" y="17066"/>
                </a:cubicBezTo>
              </a:path>
              <a:path w="3102" h="2456">
                <a:moveTo>
                  <a:pt x="17363" y="16793"/>
                </a:moveTo>
                <a:cubicBezTo>
                  <a:pt x="17383" y="16752"/>
                  <a:pt x="17381" y="16736"/>
                  <a:pt x="17413" y="16743"/>
                </a:cubicBezTo>
                <a:cubicBezTo>
                  <a:pt x="17368" y="16799"/>
                  <a:pt x="17342" y="16845"/>
                  <a:pt x="17338" y="16917"/>
                </a:cubicBezTo>
                <a:cubicBezTo>
                  <a:pt x="17333" y="17001"/>
                  <a:pt x="17339" y="17069"/>
                  <a:pt x="17388" y="17140"/>
                </a:cubicBezTo>
                <a:cubicBezTo>
                  <a:pt x="17417" y="17182"/>
                  <a:pt x="17468" y="17165"/>
                  <a:pt x="17512" y="17165"/>
                </a:cubicBezTo>
              </a:path>
              <a:path w="3102" h="2456">
                <a:moveTo>
                  <a:pt x="17611" y="16917"/>
                </a:moveTo>
                <a:cubicBezTo>
                  <a:pt x="17550" y="16882"/>
                  <a:pt x="17533" y="16867"/>
                  <a:pt x="17462" y="16867"/>
                </a:cubicBezTo>
                <a:cubicBezTo>
                  <a:pt x="17413" y="16867"/>
                  <a:pt x="17396" y="16867"/>
                  <a:pt x="17363" y="16867"/>
                </a:cubicBezTo>
              </a:path>
              <a:path w="3102" h="2456">
                <a:moveTo>
                  <a:pt x="18554" y="15701"/>
                </a:moveTo>
                <a:cubicBezTo>
                  <a:pt x="18554" y="15677"/>
                  <a:pt x="18554" y="15669"/>
                  <a:pt x="18579" y="15677"/>
                </a:cubicBezTo>
                <a:cubicBezTo>
                  <a:pt x="18546" y="15681"/>
                  <a:pt x="18524" y="15656"/>
                  <a:pt x="18479" y="15701"/>
                </a:cubicBezTo>
                <a:cubicBezTo>
                  <a:pt x="18441" y="15739"/>
                  <a:pt x="18357" y="15830"/>
                  <a:pt x="18331" y="15875"/>
                </a:cubicBezTo>
                <a:cubicBezTo>
                  <a:pt x="18286" y="15954"/>
                  <a:pt x="18215" y="16062"/>
                  <a:pt x="18182" y="16148"/>
                </a:cubicBezTo>
                <a:cubicBezTo>
                  <a:pt x="18128" y="16287"/>
                  <a:pt x="18111" y="16429"/>
                  <a:pt x="18083" y="16570"/>
                </a:cubicBezTo>
                <a:cubicBezTo>
                  <a:pt x="18057" y="16700"/>
                  <a:pt x="18037" y="16833"/>
                  <a:pt x="18033" y="16966"/>
                </a:cubicBezTo>
                <a:cubicBezTo>
                  <a:pt x="18029" y="17098"/>
                  <a:pt x="18039" y="17234"/>
                  <a:pt x="18058" y="17363"/>
                </a:cubicBezTo>
                <a:cubicBezTo>
                  <a:pt x="18080" y="17513"/>
                  <a:pt x="18139" y="17664"/>
                  <a:pt x="18182" y="17810"/>
                </a:cubicBezTo>
                <a:cubicBezTo>
                  <a:pt x="18203" y="17880"/>
                  <a:pt x="18246" y="18000"/>
                  <a:pt x="18281" y="18058"/>
                </a:cubicBezTo>
                <a:cubicBezTo>
                  <a:pt x="18301" y="18092"/>
                  <a:pt x="18333" y="18091"/>
                  <a:pt x="18355" y="18107"/>
                </a:cubicBezTo>
              </a:path>
              <a:path w="3102" h="2456">
                <a:moveTo>
                  <a:pt x="19124" y="16148"/>
                </a:moveTo>
                <a:cubicBezTo>
                  <a:pt x="19149" y="16148"/>
                  <a:pt x="19157" y="16148"/>
                  <a:pt x="19149" y="16123"/>
                </a:cubicBezTo>
                <a:cubicBezTo>
                  <a:pt x="19139" y="16094"/>
                  <a:pt x="19115" y="16078"/>
                  <a:pt x="19075" y="16073"/>
                </a:cubicBezTo>
                <a:cubicBezTo>
                  <a:pt x="19041" y="16069"/>
                  <a:pt x="18972" y="16119"/>
                  <a:pt x="18951" y="16148"/>
                </a:cubicBezTo>
                <a:cubicBezTo>
                  <a:pt x="18921" y="16189"/>
                  <a:pt x="18883" y="16243"/>
                  <a:pt x="18901" y="16297"/>
                </a:cubicBezTo>
                <a:cubicBezTo>
                  <a:pt x="18924" y="16365"/>
                  <a:pt x="18961" y="16391"/>
                  <a:pt x="19025" y="16396"/>
                </a:cubicBezTo>
                <a:cubicBezTo>
                  <a:pt x="19069" y="16400"/>
                  <a:pt x="19115" y="16336"/>
                  <a:pt x="19124" y="16297"/>
                </a:cubicBezTo>
                <a:cubicBezTo>
                  <a:pt x="19138" y="16236"/>
                  <a:pt x="19129" y="16242"/>
                  <a:pt x="19174" y="16197"/>
                </a:cubicBezTo>
                <a:cubicBezTo>
                  <a:pt x="19206" y="16272"/>
                  <a:pt x="19211" y="16294"/>
                  <a:pt x="19273" y="16346"/>
                </a:cubicBezTo>
                <a:cubicBezTo>
                  <a:pt x="19303" y="16376"/>
                  <a:pt x="19317" y="16387"/>
                  <a:pt x="19348" y="16396"/>
                </a:cubicBezTo>
              </a:path>
              <a:path w="3102" h="2456">
                <a:moveTo>
                  <a:pt x="19000" y="17413"/>
                </a:moveTo>
                <a:cubicBezTo>
                  <a:pt x="19023" y="17390"/>
                  <a:pt x="19031" y="17386"/>
                  <a:pt x="19025" y="17363"/>
                </a:cubicBezTo>
                <a:cubicBezTo>
                  <a:pt x="18972" y="17363"/>
                  <a:pt x="18964" y="17375"/>
                  <a:pt x="18926" y="17413"/>
                </a:cubicBezTo>
                <a:cubicBezTo>
                  <a:pt x="18873" y="17466"/>
                  <a:pt x="18876" y="17485"/>
                  <a:pt x="18876" y="17562"/>
                </a:cubicBezTo>
                <a:cubicBezTo>
                  <a:pt x="18876" y="17654"/>
                  <a:pt x="18923" y="17636"/>
                  <a:pt x="19000" y="17636"/>
                </a:cubicBezTo>
                <a:cubicBezTo>
                  <a:pt x="19076" y="17636"/>
                  <a:pt x="19102" y="17636"/>
                  <a:pt x="19149" y="176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224840" y="5599080"/>
            <a:ext cx="339480" cy="785880"/>
          </a:xfrm>
          <a:custGeom>
            <a:avLst/>
            <a:gdLst/>
            <a:ahLst/>
            <a:rect l="l" t="t" r="r" b="b"/>
            <a:pathLst>
              <a:path w="944" h="2183">
                <a:moveTo>
                  <a:pt x="20265" y="15900"/>
                </a:moveTo>
                <a:cubicBezTo>
                  <a:pt x="20265" y="15875"/>
                  <a:pt x="20265" y="15867"/>
                  <a:pt x="20265" y="15850"/>
                </a:cubicBezTo>
                <a:cubicBezTo>
                  <a:pt x="20232" y="15862"/>
                  <a:pt x="20237" y="15904"/>
                  <a:pt x="20216" y="15949"/>
                </a:cubicBezTo>
                <a:cubicBezTo>
                  <a:pt x="20182" y="16022"/>
                  <a:pt x="20151" y="16096"/>
                  <a:pt x="20141" y="16173"/>
                </a:cubicBezTo>
                <a:cubicBezTo>
                  <a:pt x="20136" y="16211"/>
                  <a:pt x="20141" y="16258"/>
                  <a:pt x="20141" y="16297"/>
                </a:cubicBezTo>
                <a:cubicBezTo>
                  <a:pt x="20182" y="16256"/>
                  <a:pt x="20219" y="16231"/>
                  <a:pt x="20265" y="16197"/>
                </a:cubicBezTo>
                <a:cubicBezTo>
                  <a:pt x="20317" y="16158"/>
                  <a:pt x="20365" y="16154"/>
                  <a:pt x="20389" y="16222"/>
                </a:cubicBezTo>
                <a:cubicBezTo>
                  <a:pt x="20401" y="16257"/>
                  <a:pt x="20405" y="16376"/>
                  <a:pt x="20365" y="16396"/>
                </a:cubicBezTo>
                <a:cubicBezTo>
                  <a:pt x="20321" y="16418"/>
                  <a:pt x="20251" y="16364"/>
                  <a:pt x="20216" y="16346"/>
                </a:cubicBezTo>
                <a:cubicBezTo>
                  <a:pt x="20172" y="16324"/>
                  <a:pt x="20161" y="16321"/>
                  <a:pt x="20141" y="16297"/>
                </a:cubicBezTo>
              </a:path>
              <a:path w="944" h="2183">
                <a:moveTo>
                  <a:pt x="20216" y="17314"/>
                </a:moveTo>
                <a:cubicBezTo>
                  <a:pt x="20224" y="17306"/>
                  <a:pt x="20233" y="17297"/>
                  <a:pt x="20241" y="17289"/>
                </a:cubicBezTo>
                <a:cubicBezTo>
                  <a:pt x="20195" y="17289"/>
                  <a:pt x="20176" y="17283"/>
                  <a:pt x="20141" y="17314"/>
                </a:cubicBezTo>
                <a:cubicBezTo>
                  <a:pt x="20114" y="17338"/>
                  <a:pt x="20051" y="17424"/>
                  <a:pt x="20067" y="17462"/>
                </a:cubicBezTo>
                <a:cubicBezTo>
                  <a:pt x="20075" y="17470"/>
                  <a:pt x="20084" y="17479"/>
                  <a:pt x="20092" y="17487"/>
                </a:cubicBezTo>
                <a:cubicBezTo>
                  <a:pt x="20129" y="17515"/>
                  <a:pt x="20183" y="17513"/>
                  <a:pt x="20216" y="17462"/>
                </a:cubicBezTo>
                <a:cubicBezTo>
                  <a:pt x="20273" y="17372"/>
                  <a:pt x="20323" y="17264"/>
                  <a:pt x="20365" y="17165"/>
                </a:cubicBezTo>
                <a:cubicBezTo>
                  <a:pt x="20394" y="17096"/>
                  <a:pt x="20399" y="17013"/>
                  <a:pt x="20414" y="16942"/>
                </a:cubicBezTo>
                <a:cubicBezTo>
                  <a:pt x="20379" y="16953"/>
                  <a:pt x="20358" y="17019"/>
                  <a:pt x="20340" y="17066"/>
                </a:cubicBezTo>
                <a:cubicBezTo>
                  <a:pt x="20304" y="17157"/>
                  <a:pt x="20298" y="17291"/>
                  <a:pt x="20315" y="17388"/>
                </a:cubicBezTo>
                <a:cubicBezTo>
                  <a:pt x="20324" y="17440"/>
                  <a:pt x="20360" y="17558"/>
                  <a:pt x="20439" y="17537"/>
                </a:cubicBezTo>
                <a:cubicBezTo>
                  <a:pt x="20489" y="17512"/>
                  <a:pt x="20505" y="17504"/>
                  <a:pt x="20538" y="17487"/>
                </a:cubicBezTo>
              </a:path>
              <a:path w="944" h="2183">
                <a:moveTo>
                  <a:pt x="20712" y="15553"/>
                </a:moveTo>
                <a:cubicBezTo>
                  <a:pt x="20733" y="15595"/>
                  <a:pt x="20763" y="15635"/>
                  <a:pt x="20786" y="15677"/>
                </a:cubicBezTo>
                <a:cubicBezTo>
                  <a:pt x="20819" y="15736"/>
                  <a:pt x="20856" y="15788"/>
                  <a:pt x="20886" y="15850"/>
                </a:cubicBezTo>
                <a:cubicBezTo>
                  <a:pt x="20921" y="15921"/>
                  <a:pt x="20973" y="16019"/>
                  <a:pt x="20985" y="16098"/>
                </a:cubicBezTo>
                <a:cubicBezTo>
                  <a:pt x="20997" y="16175"/>
                  <a:pt x="21010" y="16242"/>
                  <a:pt x="21010" y="16321"/>
                </a:cubicBezTo>
                <a:cubicBezTo>
                  <a:pt x="21010" y="16457"/>
                  <a:pt x="21002" y="16598"/>
                  <a:pt x="20985" y="16718"/>
                </a:cubicBezTo>
                <a:cubicBezTo>
                  <a:pt x="20974" y="16794"/>
                  <a:pt x="20947" y="16827"/>
                  <a:pt x="20910" y="16892"/>
                </a:cubicBezTo>
                <a:cubicBezTo>
                  <a:pt x="20868" y="16966"/>
                  <a:pt x="20812" y="17022"/>
                  <a:pt x="20762" y="17090"/>
                </a:cubicBezTo>
                <a:cubicBezTo>
                  <a:pt x="20706" y="17165"/>
                  <a:pt x="20647" y="17244"/>
                  <a:pt x="20588" y="17314"/>
                </a:cubicBezTo>
                <a:cubicBezTo>
                  <a:pt x="20527" y="17386"/>
                  <a:pt x="20473" y="17466"/>
                  <a:pt x="20414" y="17537"/>
                </a:cubicBezTo>
                <a:cubicBezTo>
                  <a:pt x="20372" y="17588"/>
                  <a:pt x="20317" y="17650"/>
                  <a:pt x="20290" y="17711"/>
                </a:cubicBezTo>
                <a:cubicBezTo>
                  <a:pt x="20290" y="17719"/>
                  <a:pt x="20290" y="17727"/>
                  <a:pt x="20290" y="177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77920" y="6197760"/>
            <a:ext cx="206280" cy="88920"/>
          </a:xfrm>
          <a:custGeom>
            <a:avLst/>
            <a:gdLst/>
            <a:ahLst/>
            <a:rect l="l" t="t" r="r" b="b"/>
            <a:pathLst>
              <a:path w="572" h="249">
                <a:moveTo>
                  <a:pt x="3274" y="17462"/>
                </a:moveTo>
                <a:cubicBezTo>
                  <a:pt x="3436" y="17455"/>
                  <a:pt x="3534" y="17457"/>
                  <a:pt x="3671" y="17388"/>
                </a:cubicBezTo>
                <a:cubicBezTo>
                  <a:pt x="3747" y="17350"/>
                  <a:pt x="3767" y="17298"/>
                  <a:pt x="3820" y="17239"/>
                </a:cubicBezTo>
                <a:cubicBezTo>
                  <a:pt x="3843" y="17216"/>
                  <a:pt x="3854" y="17208"/>
                  <a:pt x="3820" y="17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Motion origin="layout" path="M 8.33333E-007 -2.13873E-006 C 0.0743 -0.037 0.14878 -0.07399 0.1618 -0.06127 C 0.17482 -0.04856 0.09184 0.05318 0.07777 0.07607 E">
                                      <p:cBhvr>
                                        <p:cTn id="74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5.20231E-007 C 0.05018 -0.06728 0.10053 -0.13433 0.08733 -0.14798 C 0.07414 -0.16162 -0.00260000000000001 -0.12208 -0.07934 -0.08254 E">
                                      <p:cBhvr>
                                        <p:cTn id="76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2060640"/>
            <a:ext cx="151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8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6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01840" y="1989000"/>
            <a:ext cx="1657440" cy="136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69840" y="2349360"/>
            <a:ext cx="7489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              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2349360"/>
            <a:ext cx="505080" cy="57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042920" y="2997000"/>
            <a:ext cx="73080" cy="93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0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5640" y="2060640"/>
            <a:ext cx="3816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8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6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1989000"/>
            <a:ext cx="3024000" cy="136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3933720"/>
            <a:ext cx="2016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56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52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2560" y="3862440"/>
            <a:ext cx="1873440" cy="136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4221000"/>
            <a:ext cx="7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04000" y="4292640"/>
            <a:ext cx="3240000" cy="1944720"/>
          </a:xfrm>
          <a:prstGeom prst="cloudCallout">
            <a:avLst>
              <a:gd name="adj1" fmla="val -64111"/>
              <a:gd name="adj2" fmla="val 58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sy... multiply each element of the matrix by the sca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2060640"/>
            <a:ext cx="720720" cy="574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1484280"/>
            <a:ext cx="7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2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93080" y="1052640"/>
            <a:ext cx="18000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mat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the invers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o” a matrix, giving us the identity matrix. (Which is special...wh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564000" y="3500280"/>
                <a:ext cx="11700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5653080" y="1571760"/>
            <a:ext cx="204840" cy="277560"/>
          </a:xfrm>
          <a:custGeom>
            <a:avLst/>
            <a:gdLst/>
            <a:ahLst/>
            <a:rect l="l" t="t" r="r" b="b"/>
            <a:pathLst>
              <a:path w="572" h="770">
                <a:moveTo>
                  <a:pt x="15776" y="4961"/>
                </a:moveTo>
                <a:cubicBezTo>
                  <a:pt x="15768" y="4985"/>
                  <a:pt x="15767" y="5007"/>
                  <a:pt x="15751" y="5035"/>
                </a:cubicBezTo>
                <a:cubicBezTo>
                  <a:pt x="15730" y="5072"/>
                  <a:pt x="15711" y="5093"/>
                  <a:pt x="15701" y="5135"/>
                </a:cubicBezTo>
                <a:cubicBezTo>
                  <a:pt x="15713" y="5088"/>
                  <a:pt x="15748" y="5032"/>
                  <a:pt x="15776" y="4986"/>
                </a:cubicBezTo>
                <a:cubicBezTo>
                  <a:pt x="15841" y="4878"/>
                  <a:pt x="15887" y="4771"/>
                  <a:pt x="15949" y="4663"/>
                </a:cubicBezTo>
                <a:cubicBezTo>
                  <a:pt x="15998" y="4577"/>
                  <a:pt x="16056" y="4487"/>
                  <a:pt x="16123" y="4415"/>
                </a:cubicBezTo>
                <a:cubicBezTo>
                  <a:pt x="16148" y="4390"/>
                  <a:pt x="16156" y="4382"/>
                  <a:pt x="16173" y="4366"/>
                </a:cubicBezTo>
                <a:cubicBezTo>
                  <a:pt x="16216" y="4380"/>
                  <a:pt x="16197" y="4438"/>
                  <a:pt x="16197" y="4490"/>
                </a:cubicBezTo>
                <a:cubicBezTo>
                  <a:pt x="16197" y="4651"/>
                  <a:pt x="16201" y="4805"/>
                  <a:pt x="16222" y="4961"/>
                </a:cubicBezTo>
                <a:cubicBezTo>
                  <a:pt x="16231" y="5025"/>
                  <a:pt x="16241" y="5083"/>
                  <a:pt x="16272" y="5135"/>
                </a:cubicBezTo>
              </a:path>
              <a:path w="572" h="770">
                <a:moveTo>
                  <a:pt x="16148" y="4837"/>
                </a:moveTo>
                <a:cubicBezTo>
                  <a:pt x="16148" y="4845"/>
                  <a:pt x="16148" y="4854"/>
                  <a:pt x="16148" y="4862"/>
                </a:cubicBezTo>
                <a:cubicBezTo>
                  <a:pt x="16094" y="4862"/>
                  <a:pt x="16078" y="4884"/>
                  <a:pt x="16024" y="4887"/>
                </a:cubicBezTo>
                <a:cubicBezTo>
                  <a:pt x="15982" y="4887"/>
                  <a:pt x="15974" y="4887"/>
                  <a:pt x="15949" y="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62760" y="1589040"/>
            <a:ext cx="804600" cy="277920"/>
          </a:xfrm>
          <a:custGeom>
            <a:avLst/>
            <a:gdLst/>
            <a:ahLst/>
            <a:rect l="l" t="t" r="r" b="b"/>
            <a:pathLst>
              <a:path w="2234" h="770">
                <a:moveTo>
                  <a:pt x="17165" y="4812"/>
                </a:moveTo>
                <a:cubicBezTo>
                  <a:pt x="17187" y="4790"/>
                  <a:pt x="17192" y="4781"/>
                  <a:pt x="17214" y="4787"/>
                </a:cubicBezTo>
                <a:cubicBezTo>
                  <a:pt x="17156" y="4787"/>
                  <a:pt x="17161" y="4807"/>
                  <a:pt x="17115" y="4837"/>
                </a:cubicBezTo>
                <a:cubicBezTo>
                  <a:pt x="17060" y="4873"/>
                  <a:pt x="16979" y="4917"/>
                  <a:pt x="16917" y="4936"/>
                </a:cubicBezTo>
                <a:cubicBezTo>
                  <a:pt x="16889" y="4945"/>
                  <a:pt x="16871" y="4954"/>
                  <a:pt x="16842" y="4961"/>
                </a:cubicBezTo>
              </a:path>
              <a:path w="2234" h="770">
                <a:moveTo>
                  <a:pt x="17140" y="4986"/>
                </a:moveTo>
                <a:cubicBezTo>
                  <a:pt x="17148" y="4986"/>
                  <a:pt x="17157" y="4986"/>
                  <a:pt x="17165" y="4986"/>
                </a:cubicBezTo>
                <a:cubicBezTo>
                  <a:pt x="17150" y="4924"/>
                  <a:pt x="17112" y="4903"/>
                  <a:pt x="17066" y="4862"/>
                </a:cubicBezTo>
                <a:cubicBezTo>
                  <a:pt x="17019" y="4820"/>
                  <a:pt x="16975" y="4777"/>
                  <a:pt x="16917" y="4762"/>
                </a:cubicBezTo>
              </a:path>
              <a:path w="2234" h="770">
                <a:moveTo>
                  <a:pt x="17661" y="5060"/>
                </a:moveTo>
                <a:cubicBezTo>
                  <a:pt x="17689" y="5116"/>
                  <a:pt x="17703" y="5016"/>
                  <a:pt x="17711" y="4986"/>
                </a:cubicBezTo>
                <a:cubicBezTo>
                  <a:pt x="17740" y="4876"/>
                  <a:pt x="17791" y="4788"/>
                  <a:pt x="17835" y="4688"/>
                </a:cubicBezTo>
                <a:cubicBezTo>
                  <a:pt x="17865" y="4620"/>
                  <a:pt x="17912" y="4536"/>
                  <a:pt x="17934" y="4465"/>
                </a:cubicBezTo>
                <a:cubicBezTo>
                  <a:pt x="17943" y="4436"/>
                  <a:pt x="17985" y="4418"/>
                  <a:pt x="18008" y="4465"/>
                </a:cubicBezTo>
                <a:cubicBezTo>
                  <a:pt x="18034" y="4517"/>
                  <a:pt x="18044" y="4583"/>
                  <a:pt x="18058" y="4638"/>
                </a:cubicBezTo>
                <a:cubicBezTo>
                  <a:pt x="18082" y="4731"/>
                  <a:pt x="18101" y="4819"/>
                  <a:pt x="18132" y="4911"/>
                </a:cubicBezTo>
                <a:cubicBezTo>
                  <a:pt x="18159" y="4993"/>
                  <a:pt x="18188" y="5078"/>
                  <a:pt x="18207" y="5159"/>
                </a:cubicBezTo>
                <a:cubicBezTo>
                  <a:pt x="18207" y="5167"/>
                  <a:pt x="18207" y="5176"/>
                  <a:pt x="18207" y="5184"/>
                </a:cubicBezTo>
              </a:path>
              <a:path w="2234" h="770">
                <a:moveTo>
                  <a:pt x="18157" y="4911"/>
                </a:moveTo>
                <a:cubicBezTo>
                  <a:pt x="18101" y="4856"/>
                  <a:pt x="18083" y="4818"/>
                  <a:pt x="18008" y="4812"/>
                </a:cubicBezTo>
                <a:cubicBezTo>
                  <a:pt x="17975" y="4809"/>
                  <a:pt x="17942" y="4812"/>
                  <a:pt x="17909" y="4812"/>
                </a:cubicBezTo>
              </a:path>
              <a:path w="2234" h="770">
                <a:moveTo>
                  <a:pt x="18554" y="4614"/>
                </a:moveTo>
                <a:cubicBezTo>
                  <a:pt x="18598" y="4581"/>
                  <a:pt x="18620" y="4589"/>
                  <a:pt x="18678" y="4589"/>
                </a:cubicBezTo>
                <a:cubicBezTo>
                  <a:pt x="18722" y="4589"/>
                  <a:pt x="18717" y="4591"/>
                  <a:pt x="18752" y="4564"/>
                </a:cubicBezTo>
              </a:path>
              <a:path w="2234" h="770">
                <a:moveTo>
                  <a:pt x="19075" y="4415"/>
                </a:moveTo>
                <a:cubicBezTo>
                  <a:pt x="19075" y="4487"/>
                  <a:pt x="19064" y="4518"/>
                  <a:pt x="19050" y="4589"/>
                </a:cubicBezTo>
                <a:cubicBezTo>
                  <a:pt x="19050" y="4622"/>
                  <a:pt x="19050" y="4638"/>
                  <a:pt x="19050" y="4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40760" y="1714680"/>
            <a:ext cx="98280" cy="71280"/>
          </a:xfrm>
          <a:custGeom>
            <a:avLst/>
            <a:gdLst/>
            <a:ahLst/>
            <a:rect l="l" t="t" r="r" b="b"/>
            <a:pathLst>
              <a:path w="274" h="200">
                <a:moveTo>
                  <a:pt x="20638" y="4787"/>
                </a:moveTo>
                <a:cubicBezTo>
                  <a:pt x="20662" y="4787"/>
                  <a:pt x="20670" y="4787"/>
                  <a:pt x="20662" y="4762"/>
                </a:cubicBezTo>
                <a:cubicBezTo>
                  <a:pt x="20609" y="4762"/>
                  <a:pt x="20593" y="4784"/>
                  <a:pt x="20538" y="4787"/>
                </a:cubicBezTo>
                <a:cubicBezTo>
                  <a:pt x="20489" y="4790"/>
                  <a:pt x="20438" y="4787"/>
                  <a:pt x="20389" y="4787"/>
                </a:cubicBezTo>
              </a:path>
              <a:path w="274" h="200">
                <a:moveTo>
                  <a:pt x="20613" y="4887"/>
                </a:moveTo>
                <a:cubicBezTo>
                  <a:pt x="20670" y="4924"/>
                  <a:pt x="20662" y="4902"/>
                  <a:pt x="20662" y="4961"/>
                </a:cubicBezTo>
                <a:cubicBezTo>
                  <a:pt x="20621" y="4961"/>
                  <a:pt x="20579" y="4961"/>
                  <a:pt x="20538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732800" y="1589040"/>
            <a:ext cx="403200" cy="223920"/>
          </a:xfrm>
          <a:custGeom>
            <a:avLst/>
            <a:gdLst/>
            <a:ahLst/>
            <a:rect l="l" t="t" r="r" b="b"/>
            <a:pathLst>
              <a:path w="1117" h="621">
                <a:moveTo>
                  <a:pt x="22027" y="4638"/>
                </a:moveTo>
                <a:cubicBezTo>
                  <a:pt x="22047" y="4598"/>
                  <a:pt x="22045" y="4582"/>
                  <a:pt x="22076" y="4589"/>
                </a:cubicBezTo>
                <a:cubicBezTo>
                  <a:pt x="22063" y="4653"/>
                  <a:pt x="22035" y="4723"/>
                  <a:pt x="22027" y="4787"/>
                </a:cubicBezTo>
                <a:cubicBezTo>
                  <a:pt x="22020" y="4843"/>
                  <a:pt x="22027" y="4905"/>
                  <a:pt x="22027" y="4961"/>
                </a:cubicBezTo>
              </a:path>
              <a:path w="1117" h="621">
                <a:moveTo>
                  <a:pt x="22374" y="4465"/>
                </a:moveTo>
                <a:cubicBezTo>
                  <a:pt x="22384" y="4465"/>
                  <a:pt x="22539" y="4465"/>
                  <a:pt x="22473" y="4465"/>
                </a:cubicBezTo>
                <a:cubicBezTo>
                  <a:pt x="22362" y="4465"/>
                  <a:pt x="22258" y="4450"/>
                  <a:pt x="22151" y="4440"/>
                </a:cubicBezTo>
                <a:cubicBezTo>
                  <a:pt x="22036" y="4429"/>
                  <a:pt x="21915" y="4425"/>
                  <a:pt x="21803" y="4415"/>
                </a:cubicBezTo>
                <a:cubicBezTo>
                  <a:pt x="21714" y="4407"/>
                  <a:pt x="21620" y="4415"/>
                  <a:pt x="21530" y="4415"/>
                </a:cubicBezTo>
              </a:path>
              <a:path w="1117" h="621">
                <a:moveTo>
                  <a:pt x="22572" y="5011"/>
                </a:moveTo>
                <a:cubicBezTo>
                  <a:pt x="22580" y="5011"/>
                  <a:pt x="22589" y="5011"/>
                  <a:pt x="22597" y="5011"/>
                </a:cubicBezTo>
                <a:cubicBezTo>
                  <a:pt x="22581" y="5056"/>
                  <a:pt x="22501" y="5035"/>
                  <a:pt x="22448" y="5035"/>
                </a:cubicBezTo>
                <a:cubicBezTo>
                  <a:pt x="22301" y="5035"/>
                  <a:pt x="22147" y="5029"/>
                  <a:pt x="22002" y="5011"/>
                </a:cubicBezTo>
                <a:cubicBezTo>
                  <a:pt x="21853" y="4992"/>
                  <a:pt x="21702" y="4980"/>
                  <a:pt x="21555" y="4961"/>
                </a:cubicBezTo>
                <a:cubicBezTo>
                  <a:pt x="21514" y="4961"/>
                  <a:pt x="21506" y="4961"/>
                  <a:pt x="21481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43080" y="3490920"/>
            <a:ext cx="509760" cy="689040"/>
          </a:xfrm>
          <a:custGeom>
            <a:avLst/>
            <a:gdLst/>
            <a:ahLst/>
            <a:rect l="l" t="t" r="r" b="b"/>
            <a:pathLst>
              <a:path w="1415" h="1911">
                <a:moveTo>
                  <a:pt x="6176" y="9773"/>
                </a:moveTo>
                <a:cubicBezTo>
                  <a:pt x="6201" y="9732"/>
                  <a:pt x="6194" y="9744"/>
                  <a:pt x="6201" y="9699"/>
                </a:cubicBezTo>
                <a:cubicBezTo>
                  <a:pt x="6134" y="9774"/>
                  <a:pt x="6117" y="9829"/>
                  <a:pt x="6077" y="9922"/>
                </a:cubicBezTo>
                <a:cubicBezTo>
                  <a:pt x="6020" y="10056"/>
                  <a:pt x="5968" y="10196"/>
                  <a:pt x="5953" y="10344"/>
                </a:cubicBezTo>
                <a:cubicBezTo>
                  <a:pt x="5936" y="10508"/>
                  <a:pt x="5937" y="10705"/>
                  <a:pt x="5978" y="10864"/>
                </a:cubicBezTo>
                <a:cubicBezTo>
                  <a:pt x="6006" y="10973"/>
                  <a:pt x="6046" y="11090"/>
                  <a:pt x="6102" y="11187"/>
                </a:cubicBezTo>
                <a:cubicBezTo>
                  <a:pt x="6168" y="11302"/>
                  <a:pt x="6248" y="11426"/>
                  <a:pt x="6325" y="11534"/>
                </a:cubicBezTo>
                <a:cubicBezTo>
                  <a:pt x="6345" y="11562"/>
                  <a:pt x="6360" y="11584"/>
                  <a:pt x="6375" y="11609"/>
                </a:cubicBezTo>
              </a:path>
              <a:path w="1415" h="1911">
                <a:moveTo>
                  <a:pt x="6846" y="9922"/>
                </a:moveTo>
                <a:cubicBezTo>
                  <a:pt x="6846" y="9897"/>
                  <a:pt x="6846" y="9889"/>
                  <a:pt x="6871" y="9897"/>
                </a:cubicBezTo>
                <a:cubicBezTo>
                  <a:pt x="6860" y="9940"/>
                  <a:pt x="6833" y="9980"/>
                  <a:pt x="6821" y="10021"/>
                </a:cubicBezTo>
                <a:cubicBezTo>
                  <a:pt x="6821" y="10054"/>
                  <a:pt x="6821" y="10071"/>
                  <a:pt x="6821" y="10096"/>
                </a:cubicBezTo>
                <a:cubicBezTo>
                  <a:pt x="6908" y="10096"/>
                  <a:pt x="6986" y="10089"/>
                  <a:pt x="7069" y="10120"/>
                </a:cubicBezTo>
                <a:cubicBezTo>
                  <a:pt x="7144" y="10148"/>
                  <a:pt x="7165" y="10221"/>
                  <a:pt x="7169" y="10294"/>
                </a:cubicBezTo>
                <a:cubicBezTo>
                  <a:pt x="7174" y="10375"/>
                  <a:pt x="7146" y="10414"/>
                  <a:pt x="7069" y="10418"/>
                </a:cubicBezTo>
                <a:cubicBezTo>
                  <a:pt x="6994" y="10421"/>
                  <a:pt x="6962" y="10418"/>
                  <a:pt x="6896" y="10393"/>
                </a:cubicBezTo>
              </a:path>
              <a:path w="1415" h="1911">
                <a:moveTo>
                  <a:pt x="7243" y="9897"/>
                </a:moveTo>
                <a:cubicBezTo>
                  <a:pt x="7243" y="9880"/>
                  <a:pt x="7243" y="9864"/>
                  <a:pt x="7243" y="9847"/>
                </a:cubicBezTo>
                <a:cubicBezTo>
                  <a:pt x="7194" y="9859"/>
                  <a:pt x="7144" y="9897"/>
                  <a:pt x="7094" y="9922"/>
                </a:cubicBezTo>
              </a:path>
              <a:path w="1415" h="1911">
                <a:moveTo>
                  <a:pt x="6921" y="11112"/>
                </a:moveTo>
                <a:cubicBezTo>
                  <a:pt x="6941" y="11072"/>
                  <a:pt x="6939" y="11056"/>
                  <a:pt x="6970" y="11063"/>
                </a:cubicBezTo>
                <a:cubicBezTo>
                  <a:pt x="6925" y="11108"/>
                  <a:pt x="6911" y="11149"/>
                  <a:pt x="6896" y="11212"/>
                </a:cubicBezTo>
                <a:cubicBezTo>
                  <a:pt x="6884" y="11264"/>
                  <a:pt x="6891" y="11323"/>
                  <a:pt x="6921" y="11361"/>
                </a:cubicBezTo>
                <a:cubicBezTo>
                  <a:pt x="6951" y="11399"/>
                  <a:pt x="7048" y="11395"/>
                  <a:pt x="7094" y="11385"/>
                </a:cubicBezTo>
                <a:cubicBezTo>
                  <a:pt x="7150" y="11373"/>
                  <a:pt x="7233" y="11339"/>
                  <a:pt x="7293" y="11361"/>
                </a:cubicBezTo>
                <a:cubicBezTo>
                  <a:pt x="7318" y="11370"/>
                  <a:pt x="7345" y="11394"/>
                  <a:pt x="7367" y="11410"/>
                </a:cubicBezTo>
              </a:path>
              <a:path w="1415" h="1911">
                <a:moveTo>
                  <a:pt x="7193" y="11261"/>
                </a:moveTo>
                <a:cubicBezTo>
                  <a:pt x="7185" y="11253"/>
                  <a:pt x="7177" y="11245"/>
                  <a:pt x="7169" y="11237"/>
                </a:cubicBezTo>
                <a:cubicBezTo>
                  <a:pt x="7169" y="11344"/>
                  <a:pt x="7169" y="11452"/>
                  <a:pt x="7169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01960" y="3537000"/>
            <a:ext cx="492120" cy="758880"/>
          </a:xfrm>
          <a:custGeom>
            <a:avLst/>
            <a:gdLst/>
            <a:ahLst/>
            <a:rect l="l" t="t" r="r" b="b"/>
            <a:pathLst>
              <a:path w="1365" h="2109">
                <a:moveTo>
                  <a:pt x="9103" y="9847"/>
                </a:moveTo>
                <a:cubicBezTo>
                  <a:pt x="9103" y="9839"/>
                  <a:pt x="9103" y="9831"/>
                  <a:pt x="9103" y="9823"/>
                </a:cubicBezTo>
                <a:cubicBezTo>
                  <a:pt x="9133" y="9840"/>
                  <a:pt x="9160" y="9855"/>
                  <a:pt x="9178" y="9872"/>
                </a:cubicBezTo>
                <a:cubicBezTo>
                  <a:pt x="9233" y="9925"/>
                  <a:pt x="9274" y="9975"/>
                  <a:pt x="9302" y="10046"/>
                </a:cubicBezTo>
                <a:cubicBezTo>
                  <a:pt x="9341" y="10144"/>
                  <a:pt x="9387" y="10263"/>
                  <a:pt x="9401" y="10368"/>
                </a:cubicBezTo>
                <a:cubicBezTo>
                  <a:pt x="9415" y="10469"/>
                  <a:pt x="9426" y="10563"/>
                  <a:pt x="9426" y="10666"/>
                </a:cubicBezTo>
                <a:cubicBezTo>
                  <a:pt x="9426" y="10860"/>
                  <a:pt x="9428" y="11048"/>
                  <a:pt x="9401" y="11237"/>
                </a:cubicBezTo>
                <a:cubicBezTo>
                  <a:pt x="9389" y="11320"/>
                  <a:pt x="9381" y="11406"/>
                  <a:pt x="9351" y="11485"/>
                </a:cubicBezTo>
                <a:cubicBezTo>
                  <a:pt x="9322" y="11563"/>
                  <a:pt x="9262" y="11615"/>
                  <a:pt x="9227" y="11683"/>
                </a:cubicBezTo>
                <a:cubicBezTo>
                  <a:pt x="9190" y="11755"/>
                  <a:pt x="9128" y="11826"/>
                  <a:pt x="9103" y="11906"/>
                </a:cubicBezTo>
                <a:cubicBezTo>
                  <a:pt x="9103" y="11914"/>
                  <a:pt x="9103" y="11923"/>
                  <a:pt x="9103" y="11931"/>
                </a:cubicBezTo>
              </a:path>
              <a:path w="1365" h="2109">
                <a:moveTo>
                  <a:pt x="8334" y="9947"/>
                </a:moveTo>
                <a:cubicBezTo>
                  <a:pt x="8402" y="9879"/>
                  <a:pt x="8287" y="10043"/>
                  <a:pt x="8285" y="10046"/>
                </a:cubicBezTo>
                <a:cubicBezTo>
                  <a:pt x="8246" y="10117"/>
                  <a:pt x="8222" y="10285"/>
                  <a:pt x="8235" y="10368"/>
                </a:cubicBezTo>
                <a:cubicBezTo>
                  <a:pt x="8250" y="10461"/>
                  <a:pt x="8324" y="10513"/>
                  <a:pt x="8409" y="10517"/>
                </a:cubicBezTo>
                <a:cubicBezTo>
                  <a:pt x="8501" y="10521"/>
                  <a:pt x="8550" y="10508"/>
                  <a:pt x="8558" y="10418"/>
                </a:cubicBezTo>
                <a:cubicBezTo>
                  <a:pt x="8564" y="10347"/>
                  <a:pt x="8480" y="10368"/>
                  <a:pt x="8434" y="10368"/>
                </a:cubicBezTo>
                <a:cubicBezTo>
                  <a:pt x="8368" y="10368"/>
                  <a:pt x="8351" y="10368"/>
                  <a:pt x="8310" y="10368"/>
                </a:cubicBezTo>
              </a:path>
              <a:path w="1365" h="2109">
                <a:moveTo>
                  <a:pt x="8235" y="11187"/>
                </a:moveTo>
                <a:cubicBezTo>
                  <a:pt x="8266" y="11187"/>
                  <a:pt x="8302" y="11179"/>
                  <a:pt x="8310" y="11162"/>
                </a:cubicBezTo>
                <a:cubicBezTo>
                  <a:pt x="8310" y="11137"/>
                  <a:pt x="8310" y="11129"/>
                  <a:pt x="8310" y="11112"/>
                </a:cubicBezTo>
                <a:cubicBezTo>
                  <a:pt x="8256" y="11112"/>
                  <a:pt x="8208" y="11103"/>
                  <a:pt x="8161" y="11137"/>
                </a:cubicBezTo>
                <a:cubicBezTo>
                  <a:pt x="8097" y="11184"/>
                  <a:pt x="8048" y="11265"/>
                  <a:pt x="8086" y="11336"/>
                </a:cubicBezTo>
                <a:cubicBezTo>
                  <a:pt x="8124" y="11407"/>
                  <a:pt x="8209" y="11319"/>
                  <a:pt x="8235" y="11286"/>
                </a:cubicBezTo>
                <a:cubicBezTo>
                  <a:pt x="8257" y="11243"/>
                  <a:pt x="8261" y="11231"/>
                  <a:pt x="8285" y="11212"/>
                </a:cubicBezTo>
                <a:cubicBezTo>
                  <a:pt x="8333" y="11228"/>
                  <a:pt x="8310" y="11331"/>
                  <a:pt x="8310" y="11385"/>
                </a:cubicBezTo>
                <a:cubicBezTo>
                  <a:pt x="8310" y="11525"/>
                  <a:pt x="8343" y="11649"/>
                  <a:pt x="8384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84880" y="3554280"/>
            <a:ext cx="723960" cy="911520"/>
          </a:xfrm>
          <a:custGeom>
            <a:avLst/>
            <a:gdLst/>
            <a:ahLst/>
            <a:rect l="l" t="t" r="r" b="b"/>
            <a:pathLst>
              <a:path w="2010" h="2531">
                <a:moveTo>
                  <a:pt x="15180" y="11187"/>
                </a:moveTo>
                <a:cubicBezTo>
                  <a:pt x="15232" y="11165"/>
                  <a:pt x="15243" y="11173"/>
                  <a:pt x="15255" y="11137"/>
                </a:cubicBezTo>
                <a:cubicBezTo>
                  <a:pt x="15159" y="11137"/>
                  <a:pt x="15035" y="11115"/>
                  <a:pt x="14957" y="11162"/>
                </a:cubicBezTo>
              </a:path>
              <a:path w="2010" h="2531">
                <a:moveTo>
                  <a:pt x="15180" y="11261"/>
                </a:moveTo>
                <a:cubicBezTo>
                  <a:pt x="15231" y="11290"/>
                  <a:pt x="15242" y="11285"/>
                  <a:pt x="15255" y="11336"/>
                </a:cubicBezTo>
                <a:cubicBezTo>
                  <a:pt x="15197" y="11336"/>
                  <a:pt x="15139" y="11336"/>
                  <a:pt x="15081" y="11336"/>
                </a:cubicBezTo>
              </a:path>
              <a:path w="2010" h="2531">
                <a:moveTo>
                  <a:pt x="16545" y="9922"/>
                </a:moveTo>
                <a:cubicBezTo>
                  <a:pt x="16560" y="9901"/>
                  <a:pt x="16554" y="9893"/>
                  <a:pt x="16570" y="9872"/>
                </a:cubicBezTo>
                <a:cubicBezTo>
                  <a:pt x="16508" y="9911"/>
                  <a:pt x="16467" y="9949"/>
                  <a:pt x="16421" y="10021"/>
                </a:cubicBezTo>
                <a:cubicBezTo>
                  <a:pt x="16305" y="10202"/>
                  <a:pt x="16256" y="10382"/>
                  <a:pt x="16222" y="10592"/>
                </a:cubicBezTo>
                <a:cubicBezTo>
                  <a:pt x="16185" y="10817"/>
                  <a:pt x="16175" y="11062"/>
                  <a:pt x="16222" y="11286"/>
                </a:cubicBezTo>
                <a:cubicBezTo>
                  <a:pt x="16266" y="11496"/>
                  <a:pt x="16335" y="11734"/>
                  <a:pt x="16470" y="11906"/>
                </a:cubicBezTo>
                <a:cubicBezTo>
                  <a:pt x="16610" y="12085"/>
                  <a:pt x="16805" y="12241"/>
                  <a:pt x="16966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358040" y="3633840"/>
            <a:ext cx="214200" cy="831960"/>
          </a:xfrm>
          <a:custGeom>
            <a:avLst/>
            <a:gdLst/>
            <a:ahLst/>
            <a:rect l="l" t="t" r="r" b="b"/>
            <a:pathLst>
              <a:path w="596" h="2307">
                <a:moveTo>
                  <a:pt x="20464" y="10120"/>
                </a:moveTo>
                <a:cubicBezTo>
                  <a:pt x="20512" y="10131"/>
                  <a:pt x="20528" y="10091"/>
                  <a:pt x="20588" y="10170"/>
                </a:cubicBezTo>
                <a:cubicBezTo>
                  <a:pt x="20654" y="10256"/>
                  <a:pt x="20705" y="10349"/>
                  <a:pt x="20762" y="10443"/>
                </a:cubicBezTo>
                <a:cubicBezTo>
                  <a:pt x="20835" y="10564"/>
                  <a:pt x="20896" y="10689"/>
                  <a:pt x="20960" y="10815"/>
                </a:cubicBezTo>
                <a:cubicBezTo>
                  <a:pt x="21020" y="10935"/>
                  <a:pt x="21047" y="11100"/>
                  <a:pt x="21034" y="11237"/>
                </a:cubicBezTo>
                <a:cubicBezTo>
                  <a:pt x="21019" y="11405"/>
                  <a:pt x="20984" y="11605"/>
                  <a:pt x="20910" y="11757"/>
                </a:cubicBezTo>
                <a:cubicBezTo>
                  <a:pt x="20835" y="11910"/>
                  <a:pt x="20737" y="12019"/>
                  <a:pt x="20638" y="12154"/>
                </a:cubicBezTo>
                <a:cubicBezTo>
                  <a:pt x="20580" y="12233"/>
                  <a:pt x="20531" y="12307"/>
                  <a:pt x="20464" y="12378"/>
                </a:cubicBezTo>
                <a:cubicBezTo>
                  <a:pt x="20456" y="12386"/>
                  <a:pt x="20447" y="12394"/>
                  <a:pt x="20439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26120" y="3643200"/>
            <a:ext cx="16992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17066" y="10220"/>
                </a:moveTo>
                <a:cubicBezTo>
                  <a:pt x="17088" y="10197"/>
                  <a:pt x="17096" y="10192"/>
                  <a:pt x="17090" y="10170"/>
                </a:cubicBezTo>
                <a:cubicBezTo>
                  <a:pt x="17063" y="10216"/>
                  <a:pt x="17034" y="10287"/>
                  <a:pt x="17016" y="10344"/>
                </a:cubicBezTo>
                <a:cubicBezTo>
                  <a:pt x="16993" y="10419"/>
                  <a:pt x="17116" y="10411"/>
                  <a:pt x="17140" y="10418"/>
                </a:cubicBezTo>
                <a:cubicBezTo>
                  <a:pt x="17192" y="10434"/>
                  <a:pt x="17307" y="10477"/>
                  <a:pt x="17338" y="10517"/>
                </a:cubicBezTo>
                <a:cubicBezTo>
                  <a:pt x="17373" y="10562"/>
                  <a:pt x="17419" y="10647"/>
                  <a:pt x="17363" y="10691"/>
                </a:cubicBezTo>
                <a:cubicBezTo>
                  <a:pt x="17301" y="10739"/>
                  <a:pt x="17238" y="10740"/>
                  <a:pt x="17165" y="10740"/>
                </a:cubicBezTo>
                <a:cubicBezTo>
                  <a:pt x="17105" y="10740"/>
                  <a:pt x="17091" y="10728"/>
                  <a:pt x="17041" y="10716"/>
                </a:cubicBezTo>
              </a:path>
              <a:path w="472" h="621">
                <a:moveTo>
                  <a:pt x="17413" y="10269"/>
                </a:moveTo>
                <a:cubicBezTo>
                  <a:pt x="17445" y="10223"/>
                  <a:pt x="17475" y="10192"/>
                  <a:pt x="17487" y="10145"/>
                </a:cubicBezTo>
                <a:cubicBezTo>
                  <a:pt x="17447" y="10114"/>
                  <a:pt x="17393" y="10108"/>
                  <a:pt x="17338" y="10120"/>
                </a:cubicBezTo>
                <a:cubicBezTo>
                  <a:pt x="17260" y="10137"/>
                  <a:pt x="17206" y="10178"/>
                  <a:pt x="17140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00920" y="3687840"/>
            <a:ext cx="196920" cy="733320"/>
          </a:xfrm>
          <a:custGeom>
            <a:avLst/>
            <a:gdLst/>
            <a:ahLst/>
            <a:rect l="l" t="t" r="r" b="b"/>
            <a:pathLst>
              <a:path w="547" h="2035">
                <a:moveTo>
                  <a:pt x="19819" y="10368"/>
                </a:moveTo>
                <a:cubicBezTo>
                  <a:pt x="19826" y="10317"/>
                  <a:pt x="19844" y="10295"/>
                  <a:pt x="19844" y="10244"/>
                </a:cubicBezTo>
                <a:cubicBezTo>
                  <a:pt x="19783" y="10259"/>
                  <a:pt x="19750" y="10311"/>
                  <a:pt x="19720" y="10368"/>
                </a:cubicBezTo>
                <a:cubicBezTo>
                  <a:pt x="19647" y="10504"/>
                  <a:pt x="19600" y="10610"/>
                  <a:pt x="19596" y="10765"/>
                </a:cubicBezTo>
                <a:cubicBezTo>
                  <a:pt x="19593" y="10861"/>
                  <a:pt x="19602" y="10987"/>
                  <a:pt x="19720" y="11013"/>
                </a:cubicBezTo>
                <a:cubicBezTo>
                  <a:pt x="19823" y="11035"/>
                  <a:pt x="19911" y="10967"/>
                  <a:pt x="19968" y="10889"/>
                </a:cubicBezTo>
                <a:cubicBezTo>
                  <a:pt x="20028" y="10807"/>
                  <a:pt x="19982" y="10746"/>
                  <a:pt x="19893" y="10740"/>
                </a:cubicBezTo>
                <a:cubicBezTo>
                  <a:pt x="19786" y="10732"/>
                  <a:pt x="19699" y="10778"/>
                  <a:pt x="19596" y="10790"/>
                </a:cubicBezTo>
              </a:path>
              <a:path w="547" h="2035">
                <a:moveTo>
                  <a:pt x="19794" y="11534"/>
                </a:moveTo>
                <a:cubicBezTo>
                  <a:pt x="19829" y="11507"/>
                  <a:pt x="19833" y="11517"/>
                  <a:pt x="19844" y="11485"/>
                </a:cubicBezTo>
                <a:cubicBezTo>
                  <a:pt x="19797" y="11450"/>
                  <a:pt x="19757" y="11460"/>
                  <a:pt x="19695" y="11460"/>
                </a:cubicBezTo>
                <a:cubicBezTo>
                  <a:pt x="19629" y="11460"/>
                  <a:pt x="19549" y="11482"/>
                  <a:pt x="19496" y="11509"/>
                </a:cubicBezTo>
                <a:cubicBezTo>
                  <a:pt x="19426" y="11544"/>
                  <a:pt x="19447" y="11587"/>
                  <a:pt x="19447" y="11658"/>
                </a:cubicBezTo>
                <a:cubicBezTo>
                  <a:pt x="19447" y="11686"/>
                  <a:pt x="19449" y="11697"/>
                  <a:pt x="19472" y="11708"/>
                </a:cubicBezTo>
                <a:cubicBezTo>
                  <a:pt x="19542" y="11694"/>
                  <a:pt x="19570" y="11660"/>
                  <a:pt x="19621" y="11609"/>
                </a:cubicBezTo>
                <a:cubicBezTo>
                  <a:pt x="19653" y="11577"/>
                  <a:pt x="19661" y="11551"/>
                  <a:pt x="19695" y="11534"/>
                </a:cubicBezTo>
                <a:cubicBezTo>
                  <a:pt x="19742" y="11674"/>
                  <a:pt x="19808" y="11815"/>
                  <a:pt x="19844" y="11956"/>
                </a:cubicBezTo>
                <a:cubicBezTo>
                  <a:pt x="19871" y="12061"/>
                  <a:pt x="19885" y="12171"/>
                  <a:pt x="19893" y="122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53120" y="4089240"/>
            <a:ext cx="223920" cy="268560"/>
          </a:xfrm>
          <a:custGeom>
            <a:avLst/>
            <a:gdLst/>
            <a:ahLst/>
            <a:rect l="l" t="t" r="r" b="b"/>
            <a:pathLst>
              <a:path w="622" h="745">
                <a:moveTo>
                  <a:pt x="17090" y="11509"/>
                </a:moveTo>
                <a:cubicBezTo>
                  <a:pt x="17106" y="11457"/>
                  <a:pt x="17100" y="11324"/>
                  <a:pt x="17140" y="11361"/>
                </a:cubicBezTo>
                <a:cubicBezTo>
                  <a:pt x="17168" y="11386"/>
                  <a:pt x="17094" y="11515"/>
                  <a:pt x="17090" y="11534"/>
                </a:cubicBezTo>
                <a:cubicBezTo>
                  <a:pt x="17082" y="11576"/>
                  <a:pt x="17066" y="11813"/>
                  <a:pt x="17115" y="11832"/>
                </a:cubicBezTo>
                <a:cubicBezTo>
                  <a:pt x="17247" y="11883"/>
                  <a:pt x="17421" y="11807"/>
                  <a:pt x="17562" y="11857"/>
                </a:cubicBezTo>
                <a:cubicBezTo>
                  <a:pt x="17606" y="11873"/>
                  <a:pt x="17644" y="11901"/>
                  <a:pt x="17686" y="11906"/>
                </a:cubicBezTo>
                <a:cubicBezTo>
                  <a:pt x="17694" y="11906"/>
                  <a:pt x="17703" y="11906"/>
                  <a:pt x="17711" y="11906"/>
                </a:cubicBezTo>
              </a:path>
              <a:path w="622" h="745">
                <a:moveTo>
                  <a:pt x="17462" y="11733"/>
                </a:moveTo>
                <a:cubicBezTo>
                  <a:pt x="17446" y="11725"/>
                  <a:pt x="17429" y="11716"/>
                  <a:pt x="17413" y="11708"/>
                </a:cubicBezTo>
                <a:cubicBezTo>
                  <a:pt x="17413" y="11840"/>
                  <a:pt x="17413" y="11973"/>
                  <a:pt x="17413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37040" y="3973680"/>
            <a:ext cx="106200" cy="27000"/>
          </a:xfrm>
          <a:custGeom>
            <a:avLst/>
            <a:gdLst/>
            <a:ahLst/>
            <a:rect l="l" t="t" r="r" b="b"/>
            <a:pathLst>
              <a:path w="298" h="75">
                <a:moveTo>
                  <a:pt x="11212" y="11038"/>
                </a:moveTo>
                <a:cubicBezTo>
                  <a:pt x="11250" y="11060"/>
                  <a:pt x="11294" y="11109"/>
                  <a:pt x="11336" y="11112"/>
                </a:cubicBezTo>
                <a:cubicBezTo>
                  <a:pt x="11403" y="11117"/>
                  <a:pt x="11444" y="11105"/>
                  <a:pt x="11509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72000" y="1557360"/>
                <a:ext cx="259236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0" y="1700280"/>
            <a:ext cx="374508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|A| and explain its signific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59720" y="1384200"/>
            <a:ext cx="90360" cy="179640"/>
          </a:xfrm>
          <a:custGeom>
            <a:avLst/>
            <a:gdLst/>
            <a:ahLst/>
            <a:rect l="l" t="t" r="r" b="b"/>
            <a:pathLst>
              <a:path w="249" h="497">
                <a:moveTo>
                  <a:pt x="18802" y="3894"/>
                </a:moveTo>
                <a:cubicBezTo>
                  <a:pt x="18802" y="3870"/>
                  <a:pt x="18802" y="3861"/>
                  <a:pt x="18802" y="3845"/>
                </a:cubicBezTo>
                <a:cubicBezTo>
                  <a:pt x="18772" y="3895"/>
                  <a:pt x="18777" y="3932"/>
                  <a:pt x="18777" y="3994"/>
                </a:cubicBezTo>
                <a:cubicBezTo>
                  <a:pt x="18777" y="4073"/>
                  <a:pt x="18755" y="4179"/>
                  <a:pt x="18802" y="4242"/>
                </a:cubicBezTo>
                <a:cubicBezTo>
                  <a:pt x="18811" y="4215"/>
                  <a:pt x="18836" y="4195"/>
                  <a:pt x="18876" y="4192"/>
                </a:cubicBezTo>
                <a:cubicBezTo>
                  <a:pt x="18920" y="4189"/>
                  <a:pt x="19005" y="4188"/>
                  <a:pt x="19025" y="4242"/>
                </a:cubicBezTo>
                <a:cubicBezTo>
                  <a:pt x="19032" y="4263"/>
                  <a:pt x="19025" y="4316"/>
                  <a:pt x="19025" y="4341"/>
                </a:cubicBezTo>
                <a:cubicBezTo>
                  <a:pt x="18976" y="4341"/>
                  <a:pt x="18939" y="4324"/>
                  <a:pt x="18901" y="4316"/>
                </a:cubicBezTo>
                <a:cubicBezTo>
                  <a:pt x="18850" y="4316"/>
                  <a:pt x="18831" y="4315"/>
                  <a:pt x="18802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23000" y="2867040"/>
            <a:ext cx="61920" cy="106200"/>
          </a:xfrm>
          <a:custGeom>
            <a:avLst/>
            <a:gdLst/>
            <a:ahLst/>
            <a:rect l="l" t="t" r="r" b="b"/>
            <a:pathLst>
              <a:path w="174" h="299">
                <a:moveTo>
                  <a:pt x="16321" y="7987"/>
                </a:moveTo>
                <a:cubicBezTo>
                  <a:pt x="16329" y="7987"/>
                  <a:pt x="16338" y="7987"/>
                  <a:pt x="16346" y="7987"/>
                </a:cubicBezTo>
                <a:cubicBezTo>
                  <a:pt x="16321" y="7937"/>
                  <a:pt x="16281" y="8035"/>
                  <a:pt x="16247" y="8062"/>
                </a:cubicBezTo>
                <a:cubicBezTo>
                  <a:pt x="16222" y="8081"/>
                  <a:pt x="16144" y="8161"/>
                  <a:pt x="16173" y="8210"/>
                </a:cubicBezTo>
                <a:cubicBezTo>
                  <a:pt x="16220" y="8289"/>
                  <a:pt x="16278" y="8261"/>
                  <a:pt x="16346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634080" y="2705040"/>
            <a:ext cx="117720" cy="206280"/>
          </a:xfrm>
          <a:custGeom>
            <a:avLst/>
            <a:gdLst/>
            <a:ahLst/>
            <a:rect l="l" t="t" r="r" b="b"/>
            <a:pathLst>
              <a:path w="323" h="571">
                <a:moveTo>
                  <a:pt x="18653" y="7962"/>
                </a:moveTo>
                <a:cubicBezTo>
                  <a:pt x="18619" y="7937"/>
                  <a:pt x="18568" y="7937"/>
                  <a:pt x="18529" y="7962"/>
                </a:cubicBezTo>
                <a:cubicBezTo>
                  <a:pt x="18489" y="7988"/>
                  <a:pt x="18441" y="8043"/>
                  <a:pt x="18430" y="8086"/>
                </a:cubicBezTo>
                <a:cubicBezTo>
                  <a:pt x="18485" y="8073"/>
                  <a:pt x="18528" y="8043"/>
                  <a:pt x="18554" y="7987"/>
                </a:cubicBezTo>
                <a:cubicBezTo>
                  <a:pt x="18603" y="7879"/>
                  <a:pt x="18624" y="7756"/>
                  <a:pt x="18628" y="7640"/>
                </a:cubicBezTo>
                <a:cubicBezTo>
                  <a:pt x="18629" y="7599"/>
                  <a:pt x="18628" y="7557"/>
                  <a:pt x="18628" y="7516"/>
                </a:cubicBezTo>
                <a:cubicBezTo>
                  <a:pt x="18579" y="7591"/>
                  <a:pt x="18565" y="7672"/>
                  <a:pt x="18579" y="7764"/>
                </a:cubicBezTo>
                <a:cubicBezTo>
                  <a:pt x="18591" y="7839"/>
                  <a:pt x="18636" y="7964"/>
                  <a:pt x="18703" y="8012"/>
                </a:cubicBezTo>
                <a:cubicBezTo>
                  <a:pt x="18719" y="8020"/>
                  <a:pt x="18736" y="8029"/>
                  <a:pt x="18752" y="8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187960" y="3214800"/>
            <a:ext cx="2500200" cy="349200"/>
          </a:xfrm>
          <a:custGeom>
            <a:avLst/>
            <a:gdLst/>
            <a:ahLst/>
            <a:rect l="l" t="t" r="r" b="b"/>
            <a:pathLst>
              <a:path w="6946" h="968">
                <a:moveTo>
                  <a:pt x="14412" y="9575"/>
                </a:moveTo>
                <a:cubicBezTo>
                  <a:pt x="14458" y="9580"/>
                  <a:pt x="14492" y="9592"/>
                  <a:pt x="14536" y="9599"/>
                </a:cubicBezTo>
                <a:cubicBezTo>
                  <a:pt x="14877" y="9654"/>
                  <a:pt x="15259" y="9596"/>
                  <a:pt x="15602" y="9624"/>
                </a:cubicBezTo>
                <a:cubicBezTo>
                  <a:pt x="15770" y="9638"/>
                  <a:pt x="15933" y="9626"/>
                  <a:pt x="16098" y="9649"/>
                </a:cubicBezTo>
                <a:cubicBezTo>
                  <a:pt x="16170" y="9659"/>
                  <a:pt x="16248" y="9649"/>
                  <a:pt x="16321" y="9649"/>
                </a:cubicBezTo>
                <a:cubicBezTo>
                  <a:pt x="16279" y="9733"/>
                  <a:pt x="16263" y="9740"/>
                  <a:pt x="16173" y="9798"/>
                </a:cubicBezTo>
                <a:cubicBezTo>
                  <a:pt x="16083" y="9856"/>
                  <a:pt x="16005" y="9892"/>
                  <a:pt x="15900" y="9897"/>
                </a:cubicBezTo>
                <a:cubicBezTo>
                  <a:pt x="15858" y="9897"/>
                  <a:pt x="15850" y="9897"/>
                  <a:pt x="15825" y="9897"/>
                </a:cubicBezTo>
                <a:cubicBezTo>
                  <a:pt x="15890" y="9840"/>
                  <a:pt x="15950" y="9814"/>
                  <a:pt x="16024" y="9773"/>
                </a:cubicBezTo>
                <a:cubicBezTo>
                  <a:pt x="16104" y="9728"/>
                  <a:pt x="16183" y="9689"/>
                  <a:pt x="16272" y="9674"/>
                </a:cubicBezTo>
                <a:cubicBezTo>
                  <a:pt x="16352" y="9661"/>
                  <a:pt x="16357" y="9654"/>
                  <a:pt x="16396" y="9599"/>
                </a:cubicBezTo>
                <a:cubicBezTo>
                  <a:pt x="16274" y="9546"/>
                  <a:pt x="16148" y="9498"/>
                  <a:pt x="16024" y="9451"/>
                </a:cubicBezTo>
              </a:path>
              <a:path w="6946" h="968">
                <a:moveTo>
                  <a:pt x="17140" y="9153"/>
                </a:moveTo>
                <a:cubicBezTo>
                  <a:pt x="17181" y="9167"/>
                  <a:pt x="17175" y="9252"/>
                  <a:pt x="17165" y="9302"/>
                </a:cubicBezTo>
                <a:cubicBezTo>
                  <a:pt x="17146" y="9402"/>
                  <a:pt x="17105" y="9501"/>
                  <a:pt x="17090" y="9599"/>
                </a:cubicBezTo>
                <a:cubicBezTo>
                  <a:pt x="17090" y="9616"/>
                  <a:pt x="17090" y="9632"/>
                  <a:pt x="17090" y="9649"/>
                </a:cubicBezTo>
              </a:path>
              <a:path w="6946" h="968">
                <a:moveTo>
                  <a:pt x="17115" y="9227"/>
                </a:moveTo>
                <a:cubicBezTo>
                  <a:pt x="17196" y="9176"/>
                  <a:pt x="17262" y="9129"/>
                  <a:pt x="17363" y="9153"/>
                </a:cubicBezTo>
                <a:cubicBezTo>
                  <a:pt x="17464" y="9177"/>
                  <a:pt x="17500" y="9251"/>
                  <a:pt x="17487" y="9351"/>
                </a:cubicBezTo>
                <a:cubicBezTo>
                  <a:pt x="17470" y="9489"/>
                  <a:pt x="17430" y="9563"/>
                  <a:pt x="17314" y="9624"/>
                </a:cubicBezTo>
                <a:cubicBezTo>
                  <a:pt x="17242" y="9662"/>
                  <a:pt x="17211" y="9648"/>
                  <a:pt x="17140" y="9624"/>
                </a:cubicBezTo>
              </a:path>
              <a:path w="6946" h="968">
                <a:moveTo>
                  <a:pt x="17661" y="9426"/>
                </a:moveTo>
                <a:cubicBezTo>
                  <a:pt x="17661" y="9380"/>
                  <a:pt x="17668" y="9355"/>
                  <a:pt x="17711" y="9327"/>
                </a:cubicBezTo>
                <a:cubicBezTo>
                  <a:pt x="17780" y="9283"/>
                  <a:pt x="17857" y="9287"/>
                  <a:pt x="17909" y="9351"/>
                </a:cubicBezTo>
                <a:cubicBezTo>
                  <a:pt x="17984" y="9443"/>
                  <a:pt x="17966" y="9536"/>
                  <a:pt x="17909" y="9624"/>
                </a:cubicBezTo>
                <a:cubicBezTo>
                  <a:pt x="17852" y="9711"/>
                  <a:pt x="17760" y="9649"/>
                  <a:pt x="17686" y="9624"/>
                </a:cubicBezTo>
              </a:path>
              <a:path w="6946" h="968">
                <a:moveTo>
                  <a:pt x="18380" y="9252"/>
                </a:moveTo>
                <a:cubicBezTo>
                  <a:pt x="18438" y="9195"/>
                  <a:pt x="18447" y="9187"/>
                  <a:pt x="18479" y="9153"/>
                </a:cubicBezTo>
                <a:cubicBezTo>
                  <a:pt x="18458" y="9086"/>
                  <a:pt x="18389" y="9171"/>
                  <a:pt x="18355" y="9203"/>
                </a:cubicBezTo>
                <a:cubicBezTo>
                  <a:pt x="18275" y="9280"/>
                  <a:pt x="18178" y="9360"/>
                  <a:pt x="18157" y="9475"/>
                </a:cubicBezTo>
                <a:cubicBezTo>
                  <a:pt x="18140" y="9570"/>
                  <a:pt x="18153" y="9607"/>
                  <a:pt x="18231" y="9649"/>
                </a:cubicBezTo>
                <a:cubicBezTo>
                  <a:pt x="18286" y="9677"/>
                  <a:pt x="18309" y="9685"/>
                  <a:pt x="18355" y="9674"/>
                </a:cubicBezTo>
              </a:path>
              <a:path w="6946" h="968">
                <a:moveTo>
                  <a:pt x="18529" y="9575"/>
                </a:moveTo>
                <a:cubicBezTo>
                  <a:pt x="18500" y="9503"/>
                  <a:pt x="18493" y="9455"/>
                  <a:pt x="18405" y="9451"/>
                </a:cubicBezTo>
                <a:cubicBezTo>
                  <a:pt x="18331" y="9447"/>
                  <a:pt x="18256" y="9451"/>
                  <a:pt x="18182" y="9451"/>
                </a:cubicBezTo>
              </a:path>
              <a:path w="6946" h="968">
                <a:moveTo>
                  <a:pt x="18653" y="9277"/>
                </a:moveTo>
                <a:cubicBezTo>
                  <a:pt x="18727" y="9231"/>
                  <a:pt x="18812" y="9186"/>
                  <a:pt x="18876" y="9128"/>
                </a:cubicBezTo>
                <a:cubicBezTo>
                  <a:pt x="18884" y="9120"/>
                  <a:pt x="18893" y="9111"/>
                  <a:pt x="18901" y="9103"/>
                </a:cubicBezTo>
                <a:cubicBezTo>
                  <a:pt x="18844" y="9111"/>
                  <a:pt x="18768" y="9131"/>
                  <a:pt x="18752" y="9203"/>
                </a:cubicBezTo>
                <a:cubicBezTo>
                  <a:pt x="18726" y="9315"/>
                  <a:pt x="18780" y="9354"/>
                  <a:pt x="18852" y="9426"/>
                </a:cubicBezTo>
                <a:cubicBezTo>
                  <a:pt x="18906" y="9480"/>
                  <a:pt x="18968" y="9494"/>
                  <a:pt x="18976" y="9575"/>
                </a:cubicBezTo>
                <a:cubicBezTo>
                  <a:pt x="18985" y="9661"/>
                  <a:pt x="18856" y="9656"/>
                  <a:pt x="18802" y="9674"/>
                </a:cubicBezTo>
              </a:path>
              <a:path w="6946" h="968">
                <a:moveTo>
                  <a:pt x="19670" y="9079"/>
                </a:moveTo>
                <a:cubicBezTo>
                  <a:pt x="19705" y="9023"/>
                  <a:pt x="19731" y="8945"/>
                  <a:pt x="19794" y="8930"/>
                </a:cubicBezTo>
                <a:cubicBezTo>
                  <a:pt x="19777" y="9029"/>
                  <a:pt x="19740" y="9127"/>
                  <a:pt x="19720" y="9227"/>
                </a:cubicBezTo>
                <a:cubicBezTo>
                  <a:pt x="19697" y="9342"/>
                  <a:pt x="19673" y="9473"/>
                  <a:pt x="19645" y="9575"/>
                </a:cubicBezTo>
                <a:cubicBezTo>
                  <a:pt x="19645" y="9583"/>
                  <a:pt x="19645" y="9591"/>
                  <a:pt x="19645" y="9599"/>
                </a:cubicBezTo>
                <a:cubicBezTo>
                  <a:pt x="19698" y="9547"/>
                  <a:pt x="19742" y="9473"/>
                  <a:pt x="19794" y="9426"/>
                </a:cubicBezTo>
                <a:cubicBezTo>
                  <a:pt x="19846" y="9380"/>
                  <a:pt x="19897" y="9362"/>
                  <a:pt x="19943" y="9426"/>
                </a:cubicBezTo>
                <a:cubicBezTo>
                  <a:pt x="19970" y="9463"/>
                  <a:pt x="19985" y="9508"/>
                  <a:pt x="19993" y="9550"/>
                </a:cubicBezTo>
              </a:path>
              <a:path w="6946" h="968">
                <a:moveTo>
                  <a:pt x="20141" y="9475"/>
                </a:moveTo>
                <a:cubicBezTo>
                  <a:pt x="20181" y="9416"/>
                  <a:pt x="20185" y="9404"/>
                  <a:pt x="20216" y="9376"/>
                </a:cubicBezTo>
                <a:cubicBezTo>
                  <a:pt x="20172" y="9387"/>
                  <a:pt x="20135" y="9430"/>
                  <a:pt x="20117" y="9475"/>
                </a:cubicBezTo>
                <a:cubicBezTo>
                  <a:pt x="20110" y="9493"/>
                  <a:pt x="20117" y="9531"/>
                  <a:pt x="20117" y="9550"/>
                </a:cubicBezTo>
                <a:cubicBezTo>
                  <a:pt x="20169" y="9550"/>
                  <a:pt x="20199" y="9538"/>
                  <a:pt x="20241" y="9525"/>
                </a:cubicBezTo>
                <a:cubicBezTo>
                  <a:pt x="20279" y="9513"/>
                  <a:pt x="20324" y="9540"/>
                  <a:pt x="20340" y="9575"/>
                </a:cubicBezTo>
                <a:cubicBezTo>
                  <a:pt x="20356" y="9609"/>
                  <a:pt x="20353" y="9587"/>
                  <a:pt x="20365" y="9624"/>
                </a:cubicBezTo>
              </a:path>
              <a:path w="6946" h="968">
                <a:moveTo>
                  <a:pt x="20464" y="9401"/>
                </a:moveTo>
                <a:cubicBezTo>
                  <a:pt x="20484" y="9361"/>
                  <a:pt x="20482" y="9344"/>
                  <a:pt x="20513" y="9351"/>
                </a:cubicBezTo>
                <a:cubicBezTo>
                  <a:pt x="20524" y="9407"/>
                  <a:pt x="20554" y="9476"/>
                  <a:pt x="20588" y="9525"/>
                </a:cubicBezTo>
                <a:cubicBezTo>
                  <a:pt x="20613" y="9550"/>
                  <a:pt x="20621" y="9558"/>
                  <a:pt x="20638" y="9575"/>
                </a:cubicBezTo>
                <a:cubicBezTo>
                  <a:pt x="20638" y="9514"/>
                  <a:pt x="20636" y="9476"/>
                  <a:pt x="20662" y="9426"/>
                </a:cubicBezTo>
                <a:cubicBezTo>
                  <a:pt x="20689" y="9375"/>
                  <a:pt x="20698" y="9319"/>
                  <a:pt x="20762" y="9302"/>
                </a:cubicBezTo>
                <a:cubicBezTo>
                  <a:pt x="20826" y="9285"/>
                  <a:pt x="20918" y="9302"/>
                  <a:pt x="20985" y="9302"/>
                </a:cubicBezTo>
                <a:cubicBezTo>
                  <a:pt x="20955" y="9339"/>
                  <a:pt x="20892" y="9398"/>
                  <a:pt x="20910" y="9451"/>
                </a:cubicBezTo>
                <a:cubicBezTo>
                  <a:pt x="20930" y="9511"/>
                  <a:pt x="21001" y="9574"/>
                  <a:pt x="21059" y="9599"/>
                </a:cubicBezTo>
                <a:cubicBezTo>
                  <a:pt x="21131" y="9630"/>
                  <a:pt x="21233" y="9637"/>
                  <a:pt x="21307" y="9649"/>
                </a:cubicBezTo>
                <a:cubicBezTo>
                  <a:pt x="21324" y="9649"/>
                  <a:pt x="21340" y="9649"/>
                  <a:pt x="21357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16800" y="3571920"/>
            <a:ext cx="866520" cy="268200"/>
          </a:xfrm>
          <a:custGeom>
            <a:avLst/>
            <a:gdLst/>
            <a:ahLst/>
            <a:rect l="l" t="t" r="r" b="b"/>
            <a:pathLst>
              <a:path w="2407" h="745">
                <a:moveTo>
                  <a:pt x="18405" y="10170"/>
                </a:moveTo>
                <a:cubicBezTo>
                  <a:pt x="18405" y="10253"/>
                  <a:pt x="18405" y="10335"/>
                  <a:pt x="18405" y="10418"/>
                </a:cubicBezTo>
              </a:path>
              <a:path w="2407" h="745">
                <a:moveTo>
                  <a:pt x="18380" y="9971"/>
                </a:moveTo>
                <a:cubicBezTo>
                  <a:pt x="18388" y="9955"/>
                  <a:pt x="18397" y="9938"/>
                  <a:pt x="18405" y="9922"/>
                </a:cubicBezTo>
              </a:path>
              <a:path w="2407" h="745">
                <a:moveTo>
                  <a:pt x="18504" y="10096"/>
                </a:moveTo>
                <a:cubicBezTo>
                  <a:pt x="18507" y="10114"/>
                  <a:pt x="18526" y="10321"/>
                  <a:pt x="18554" y="10344"/>
                </a:cubicBezTo>
                <a:cubicBezTo>
                  <a:pt x="18562" y="10344"/>
                  <a:pt x="18571" y="10344"/>
                  <a:pt x="18579" y="10344"/>
                </a:cubicBezTo>
                <a:cubicBezTo>
                  <a:pt x="18616" y="10297"/>
                  <a:pt x="18635" y="10208"/>
                  <a:pt x="18678" y="10170"/>
                </a:cubicBezTo>
                <a:cubicBezTo>
                  <a:pt x="18721" y="10132"/>
                  <a:pt x="18806" y="10193"/>
                  <a:pt x="18827" y="10220"/>
                </a:cubicBezTo>
                <a:cubicBezTo>
                  <a:pt x="18868" y="10273"/>
                  <a:pt x="18883" y="10340"/>
                  <a:pt x="18926" y="10393"/>
                </a:cubicBezTo>
              </a:path>
              <a:path w="2407" h="745">
                <a:moveTo>
                  <a:pt x="18976" y="10220"/>
                </a:moveTo>
                <a:cubicBezTo>
                  <a:pt x="19016" y="10260"/>
                  <a:pt x="19038" y="10304"/>
                  <a:pt x="19075" y="10344"/>
                </a:cubicBezTo>
                <a:cubicBezTo>
                  <a:pt x="19097" y="10366"/>
                  <a:pt x="19102" y="10374"/>
                  <a:pt x="19124" y="10368"/>
                </a:cubicBezTo>
                <a:cubicBezTo>
                  <a:pt x="19137" y="10292"/>
                  <a:pt x="19158" y="10218"/>
                  <a:pt x="19174" y="10145"/>
                </a:cubicBezTo>
                <a:cubicBezTo>
                  <a:pt x="19174" y="10117"/>
                  <a:pt x="19176" y="10106"/>
                  <a:pt x="19199" y="10096"/>
                </a:cubicBezTo>
                <a:cubicBezTo>
                  <a:pt x="19243" y="10107"/>
                  <a:pt x="19264" y="10136"/>
                  <a:pt x="19298" y="10170"/>
                </a:cubicBezTo>
                <a:cubicBezTo>
                  <a:pt x="19330" y="10202"/>
                  <a:pt x="19353" y="10239"/>
                  <a:pt x="19397" y="10244"/>
                </a:cubicBezTo>
                <a:cubicBezTo>
                  <a:pt x="19449" y="10250"/>
                  <a:pt x="19447" y="10243"/>
                  <a:pt x="19447" y="10195"/>
                </a:cubicBezTo>
                <a:cubicBezTo>
                  <a:pt x="19447" y="10170"/>
                  <a:pt x="19447" y="10162"/>
                  <a:pt x="19447" y="10145"/>
                </a:cubicBezTo>
                <a:cubicBezTo>
                  <a:pt x="19381" y="10178"/>
                  <a:pt x="19376" y="10242"/>
                  <a:pt x="19372" y="10319"/>
                </a:cubicBezTo>
                <a:cubicBezTo>
                  <a:pt x="19369" y="10387"/>
                  <a:pt x="19392" y="10445"/>
                  <a:pt x="19472" y="10418"/>
                </a:cubicBezTo>
                <a:cubicBezTo>
                  <a:pt x="19521" y="10393"/>
                  <a:pt x="19538" y="10384"/>
                  <a:pt x="19571" y="10368"/>
                </a:cubicBezTo>
              </a:path>
              <a:path w="2407" h="745">
                <a:moveTo>
                  <a:pt x="19670" y="10294"/>
                </a:moveTo>
                <a:cubicBezTo>
                  <a:pt x="19711" y="10314"/>
                  <a:pt x="19727" y="10312"/>
                  <a:pt x="19720" y="10344"/>
                </a:cubicBezTo>
                <a:cubicBezTo>
                  <a:pt x="19755" y="10297"/>
                  <a:pt x="19728" y="10274"/>
                  <a:pt x="19745" y="10220"/>
                </a:cubicBezTo>
                <a:cubicBezTo>
                  <a:pt x="19769" y="10146"/>
                  <a:pt x="19814" y="10137"/>
                  <a:pt x="19869" y="10096"/>
                </a:cubicBezTo>
                <a:cubicBezTo>
                  <a:pt x="19897" y="10067"/>
                  <a:pt x="19910" y="10059"/>
                  <a:pt x="19943" y="10071"/>
                </a:cubicBezTo>
              </a:path>
              <a:path w="2407" h="745">
                <a:moveTo>
                  <a:pt x="20092" y="10120"/>
                </a:moveTo>
                <a:cubicBezTo>
                  <a:pt x="20150" y="10120"/>
                  <a:pt x="20058" y="10134"/>
                  <a:pt x="20042" y="10145"/>
                </a:cubicBezTo>
                <a:cubicBezTo>
                  <a:pt x="20017" y="10170"/>
                  <a:pt x="20009" y="10178"/>
                  <a:pt x="19993" y="10195"/>
                </a:cubicBezTo>
                <a:cubicBezTo>
                  <a:pt x="20040" y="10233"/>
                  <a:pt x="20091" y="10283"/>
                  <a:pt x="20141" y="10319"/>
                </a:cubicBezTo>
                <a:cubicBezTo>
                  <a:pt x="20187" y="10352"/>
                  <a:pt x="20247" y="10396"/>
                  <a:pt x="20216" y="10468"/>
                </a:cubicBezTo>
                <a:cubicBezTo>
                  <a:pt x="20201" y="10503"/>
                  <a:pt x="20099" y="10501"/>
                  <a:pt x="20067" y="10492"/>
                </a:cubicBezTo>
                <a:cubicBezTo>
                  <a:pt x="20024" y="10480"/>
                  <a:pt x="20000" y="10467"/>
                  <a:pt x="19968" y="10443"/>
                </a:cubicBezTo>
                <a:cubicBezTo>
                  <a:pt x="19984" y="10396"/>
                  <a:pt x="20064" y="10396"/>
                  <a:pt x="20117" y="10368"/>
                </a:cubicBezTo>
                <a:cubicBezTo>
                  <a:pt x="20214" y="10316"/>
                  <a:pt x="20310" y="10245"/>
                  <a:pt x="20389" y="10170"/>
                </a:cubicBezTo>
                <a:cubicBezTo>
                  <a:pt x="20428" y="10131"/>
                  <a:pt x="20445" y="10130"/>
                  <a:pt x="20439" y="10096"/>
                </a:cubicBezTo>
                <a:cubicBezTo>
                  <a:pt x="20395" y="10183"/>
                  <a:pt x="20427" y="10297"/>
                  <a:pt x="20464" y="10393"/>
                </a:cubicBezTo>
                <a:cubicBezTo>
                  <a:pt x="20509" y="10510"/>
                  <a:pt x="20614" y="10632"/>
                  <a:pt x="20737" y="10666"/>
                </a:cubicBezTo>
                <a:cubicBezTo>
                  <a:pt x="20753" y="10666"/>
                  <a:pt x="20770" y="10666"/>
                  <a:pt x="20786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87280" y="2625840"/>
            <a:ext cx="1527480" cy="731880"/>
          </a:xfrm>
          <a:custGeom>
            <a:avLst/>
            <a:gdLst/>
            <a:ahLst/>
            <a:rect l="l" t="t" r="r" b="b"/>
            <a:pathLst>
              <a:path w="4243" h="2035">
                <a:moveTo>
                  <a:pt x="4415" y="7789"/>
                </a:moveTo>
                <a:cubicBezTo>
                  <a:pt x="4445" y="7776"/>
                  <a:pt x="4507" y="7754"/>
                  <a:pt x="4514" y="7739"/>
                </a:cubicBezTo>
                <a:cubicBezTo>
                  <a:pt x="4514" y="7714"/>
                  <a:pt x="4514" y="7706"/>
                  <a:pt x="4514" y="7689"/>
                </a:cubicBezTo>
                <a:cubicBezTo>
                  <a:pt x="4443" y="7710"/>
                  <a:pt x="4381" y="7783"/>
                  <a:pt x="4341" y="7863"/>
                </a:cubicBezTo>
                <a:cubicBezTo>
                  <a:pt x="4295" y="7956"/>
                  <a:pt x="4299" y="8031"/>
                  <a:pt x="4366" y="8086"/>
                </a:cubicBezTo>
                <a:cubicBezTo>
                  <a:pt x="4418" y="8034"/>
                  <a:pt x="4433" y="7979"/>
                  <a:pt x="4465" y="7913"/>
                </a:cubicBezTo>
                <a:cubicBezTo>
                  <a:pt x="4487" y="7869"/>
                  <a:pt x="4490" y="7858"/>
                  <a:pt x="4514" y="7838"/>
                </a:cubicBezTo>
                <a:cubicBezTo>
                  <a:pt x="4587" y="7856"/>
                  <a:pt x="4594" y="7931"/>
                  <a:pt x="4638" y="7987"/>
                </a:cubicBezTo>
                <a:cubicBezTo>
                  <a:pt x="4655" y="8004"/>
                  <a:pt x="4671" y="8020"/>
                  <a:pt x="4688" y="8037"/>
                </a:cubicBezTo>
              </a:path>
              <a:path w="4243" h="2035">
                <a:moveTo>
                  <a:pt x="4986" y="7813"/>
                </a:moveTo>
                <a:cubicBezTo>
                  <a:pt x="4986" y="7797"/>
                  <a:pt x="4986" y="7780"/>
                  <a:pt x="4986" y="7764"/>
                </a:cubicBezTo>
                <a:cubicBezTo>
                  <a:pt x="4926" y="7764"/>
                  <a:pt x="4912" y="7777"/>
                  <a:pt x="4887" y="7838"/>
                </a:cubicBezTo>
                <a:cubicBezTo>
                  <a:pt x="4846" y="7940"/>
                  <a:pt x="4853" y="7977"/>
                  <a:pt x="4936" y="8037"/>
                </a:cubicBezTo>
                <a:cubicBezTo>
                  <a:pt x="5022" y="7951"/>
                  <a:pt x="5032" y="7913"/>
                  <a:pt x="5035" y="7789"/>
                </a:cubicBezTo>
                <a:cubicBezTo>
                  <a:pt x="5038" y="7683"/>
                  <a:pt x="5027" y="7592"/>
                  <a:pt x="5011" y="7491"/>
                </a:cubicBezTo>
                <a:cubicBezTo>
                  <a:pt x="4955" y="7528"/>
                  <a:pt x="4995" y="7642"/>
                  <a:pt x="5011" y="7714"/>
                </a:cubicBezTo>
                <a:cubicBezTo>
                  <a:pt x="5041" y="7846"/>
                  <a:pt x="5096" y="7937"/>
                  <a:pt x="5184" y="8037"/>
                </a:cubicBezTo>
              </a:path>
              <a:path w="4243" h="2035">
                <a:moveTo>
                  <a:pt x="5581" y="7789"/>
                </a:moveTo>
                <a:cubicBezTo>
                  <a:pt x="5587" y="7770"/>
                  <a:pt x="5626" y="7745"/>
                  <a:pt x="5655" y="7739"/>
                </a:cubicBezTo>
                <a:cubicBezTo>
                  <a:pt x="5732" y="7722"/>
                  <a:pt x="5826" y="7718"/>
                  <a:pt x="5904" y="7714"/>
                </a:cubicBezTo>
                <a:cubicBezTo>
                  <a:pt x="5963" y="7714"/>
                  <a:pt x="5989" y="7711"/>
                  <a:pt x="6028" y="7689"/>
                </a:cubicBezTo>
              </a:path>
              <a:path w="4243" h="2035">
                <a:moveTo>
                  <a:pt x="6474" y="7417"/>
                </a:moveTo>
                <a:cubicBezTo>
                  <a:pt x="6474" y="7359"/>
                  <a:pt x="6474" y="7350"/>
                  <a:pt x="6474" y="7317"/>
                </a:cubicBezTo>
                <a:cubicBezTo>
                  <a:pt x="6474" y="7255"/>
                  <a:pt x="6450" y="7406"/>
                  <a:pt x="6449" y="7417"/>
                </a:cubicBezTo>
                <a:cubicBezTo>
                  <a:pt x="6435" y="7545"/>
                  <a:pt x="6458" y="7667"/>
                  <a:pt x="6474" y="7789"/>
                </a:cubicBezTo>
                <a:cubicBezTo>
                  <a:pt x="6474" y="7830"/>
                  <a:pt x="6466" y="7846"/>
                  <a:pt x="6499" y="7838"/>
                </a:cubicBezTo>
                <a:cubicBezTo>
                  <a:pt x="6533" y="7771"/>
                  <a:pt x="6534" y="7694"/>
                  <a:pt x="6598" y="7665"/>
                </a:cubicBezTo>
                <a:cubicBezTo>
                  <a:pt x="6627" y="7652"/>
                  <a:pt x="6713" y="7782"/>
                  <a:pt x="6722" y="7813"/>
                </a:cubicBezTo>
                <a:cubicBezTo>
                  <a:pt x="6737" y="7866"/>
                  <a:pt x="6727" y="7926"/>
                  <a:pt x="6672" y="7938"/>
                </a:cubicBezTo>
                <a:cubicBezTo>
                  <a:pt x="6604" y="7953"/>
                  <a:pt x="6502" y="7945"/>
                  <a:pt x="6449" y="7913"/>
                </a:cubicBezTo>
              </a:path>
              <a:path w="4243" h="2035">
                <a:moveTo>
                  <a:pt x="6970" y="7689"/>
                </a:moveTo>
                <a:cubicBezTo>
                  <a:pt x="6995" y="7664"/>
                  <a:pt x="7020" y="7640"/>
                  <a:pt x="7045" y="7615"/>
                </a:cubicBezTo>
                <a:cubicBezTo>
                  <a:pt x="7000" y="7677"/>
                  <a:pt x="6925" y="7718"/>
                  <a:pt x="6945" y="7813"/>
                </a:cubicBezTo>
                <a:cubicBezTo>
                  <a:pt x="6968" y="7920"/>
                  <a:pt x="7103" y="7950"/>
                  <a:pt x="7193" y="7962"/>
                </a:cubicBezTo>
                <a:cubicBezTo>
                  <a:pt x="7307" y="7977"/>
                  <a:pt x="7388" y="7910"/>
                  <a:pt x="7491" y="7888"/>
                </a:cubicBezTo>
                <a:cubicBezTo>
                  <a:pt x="7508" y="7888"/>
                  <a:pt x="7524" y="7888"/>
                  <a:pt x="7541" y="7888"/>
                </a:cubicBezTo>
              </a:path>
              <a:path w="4243" h="2035">
                <a:moveTo>
                  <a:pt x="3324" y="8756"/>
                </a:moveTo>
                <a:cubicBezTo>
                  <a:pt x="3275" y="8740"/>
                  <a:pt x="3303" y="8719"/>
                  <a:pt x="3324" y="8682"/>
                </a:cubicBezTo>
                <a:cubicBezTo>
                  <a:pt x="3362" y="8616"/>
                  <a:pt x="3437" y="8564"/>
                  <a:pt x="3522" y="8582"/>
                </a:cubicBezTo>
                <a:cubicBezTo>
                  <a:pt x="3618" y="8602"/>
                  <a:pt x="3618" y="8731"/>
                  <a:pt x="3621" y="8806"/>
                </a:cubicBezTo>
                <a:cubicBezTo>
                  <a:pt x="3625" y="8926"/>
                  <a:pt x="3570" y="8989"/>
                  <a:pt x="3497" y="9079"/>
                </a:cubicBezTo>
                <a:cubicBezTo>
                  <a:pt x="3471" y="9111"/>
                  <a:pt x="3458" y="9115"/>
                  <a:pt x="3448" y="9153"/>
                </a:cubicBezTo>
                <a:cubicBezTo>
                  <a:pt x="3508" y="9189"/>
                  <a:pt x="3572" y="9178"/>
                  <a:pt x="3646" y="9178"/>
                </a:cubicBezTo>
                <a:cubicBezTo>
                  <a:pt x="3704" y="9178"/>
                  <a:pt x="3763" y="9188"/>
                  <a:pt x="3770" y="9252"/>
                </a:cubicBezTo>
                <a:cubicBezTo>
                  <a:pt x="3775" y="9303"/>
                  <a:pt x="3681" y="9290"/>
                  <a:pt x="3646" y="9302"/>
                </a:cubicBezTo>
                <a:cubicBezTo>
                  <a:pt x="3592" y="9320"/>
                  <a:pt x="3577" y="9327"/>
                  <a:pt x="3522" y="9327"/>
                </a:cubicBezTo>
              </a:path>
              <a:path w="4243" h="2035">
                <a:moveTo>
                  <a:pt x="4192" y="8954"/>
                </a:moveTo>
                <a:cubicBezTo>
                  <a:pt x="4231" y="8917"/>
                  <a:pt x="4242" y="8908"/>
                  <a:pt x="4242" y="8855"/>
                </a:cubicBezTo>
                <a:cubicBezTo>
                  <a:pt x="4212" y="8862"/>
                  <a:pt x="4140" y="8905"/>
                  <a:pt x="4118" y="8930"/>
                </a:cubicBezTo>
                <a:cubicBezTo>
                  <a:pt x="4079" y="8975"/>
                  <a:pt x="4048" y="9049"/>
                  <a:pt x="4043" y="9103"/>
                </a:cubicBezTo>
                <a:cubicBezTo>
                  <a:pt x="4043" y="9111"/>
                  <a:pt x="4043" y="9120"/>
                  <a:pt x="4043" y="9128"/>
                </a:cubicBezTo>
              </a:path>
              <a:path w="4243" h="2035">
                <a:moveTo>
                  <a:pt x="4192" y="9128"/>
                </a:moveTo>
                <a:cubicBezTo>
                  <a:pt x="4192" y="9061"/>
                  <a:pt x="4197" y="9034"/>
                  <a:pt x="4118" y="9029"/>
                </a:cubicBezTo>
                <a:cubicBezTo>
                  <a:pt x="4056" y="9025"/>
                  <a:pt x="4021" y="9017"/>
                  <a:pt x="3969" y="9004"/>
                </a:cubicBezTo>
              </a:path>
              <a:path w="4243" h="2035">
                <a:moveTo>
                  <a:pt x="4514" y="8930"/>
                </a:moveTo>
                <a:cubicBezTo>
                  <a:pt x="4506" y="8930"/>
                  <a:pt x="4498" y="8930"/>
                  <a:pt x="4490" y="8930"/>
                </a:cubicBezTo>
                <a:cubicBezTo>
                  <a:pt x="4532" y="8919"/>
                  <a:pt x="4566" y="8888"/>
                  <a:pt x="4614" y="8880"/>
                </a:cubicBezTo>
                <a:cubicBezTo>
                  <a:pt x="4652" y="8873"/>
                  <a:pt x="4699" y="8880"/>
                  <a:pt x="4738" y="8880"/>
                </a:cubicBezTo>
              </a:path>
              <a:path w="4243" h="2035">
                <a:moveTo>
                  <a:pt x="4986" y="8731"/>
                </a:moveTo>
                <a:cubicBezTo>
                  <a:pt x="5025" y="8692"/>
                  <a:pt x="5041" y="8691"/>
                  <a:pt x="5035" y="8657"/>
                </a:cubicBezTo>
                <a:cubicBezTo>
                  <a:pt x="4986" y="8707"/>
                  <a:pt x="4965" y="8734"/>
                  <a:pt x="4961" y="8806"/>
                </a:cubicBezTo>
                <a:cubicBezTo>
                  <a:pt x="4956" y="8903"/>
                  <a:pt x="5009" y="8917"/>
                  <a:pt x="5085" y="8954"/>
                </a:cubicBezTo>
                <a:cubicBezTo>
                  <a:pt x="5182" y="9002"/>
                  <a:pt x="5225" y="8987"/>
                  <a:pt x="5308" y="9054"/>
                </a:cubicBezTo>
                <a:cubicBezTo>
                  <a:pt x="5345" y="9084"/>
                  <a:pt x="5391" y="9111"/>
                  <a:pt x="5358" y="9178"/>
                </a:cubicBezTo>
                <a:cubicBezTo>
                  <a:pt x="5335" y="9223"/>
                  <a:pt x="5201" y="9225"/>
                  <a:pt x="5159" y="9227"/>
                </a:cubicBezTo>
                <a:cubicBezTo>
                  <a:pt x="5093" y="9227"/>
                  <a:pt x="5076" y="9227"/>
                  <a:pt x="5035" y="9227"/>
                </a:cubicBezTo>
              </a:path>
              <a:path w="4243" h="2035">
                <a:moveTo>
                  <a:pt x="5110" y="8682"/>
                </a:moveTo>
                <a:cubicBezTo>
                  <a:pt x="5102" y="8674"/>
                  <a:pt x="5093" y="8665"/>
                  <a:pt x="5085" y="8657"/>
                </a:cubicBezTo>
                <a:cubicBezTo>
                  <a:pt x="5146" y="8620"/>
                  <a:pt x="5209" y="8586"/>
                  <a:pt x="5283" y="8558"/>
                </a:cubicBezTo>
                <a:cubicBezTo>
                  <a:pt x="5308" y="8550"/>
                  <a:pt x="5333" y="8541"/>
                  <a:pt x="5358" y="8533"/>
                </a:cubicBezTo>
              </a:path>
              <a:path w="4243" h="2035">
                <a:moveTo>
                  <a:pt x="6276" y="8905"/>
                </a:moveTo>
                <a:cubicBezTo>
                  <a:pt x="6268" y="8897"/>
                  <a:pt x="6259" y="8888"/>
                  <a:pt x="6251" y="8880"/>
                </a:cubicBezTo>
                <a:cubicBezTo>
                  <a:pt x="6291" y="8850"/>
                  <a:pt x="6325" y="8853"/>
                  <a:pt x="6375" y="8830"/>
                </a:cubicBezTo>
                <a:cubicBezTo>
                  <a:pt x="6432" y="8804"/>
                  <a:pt x="6463" y="8789"/>
                  <a:pt x="6524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57680" y="3071880"/>
            <a:ext cx="884160" cy="277920"/>
          </a:xfrm>
          <a:custGeom>
            <a:avLst/>
            <a:gdLst/>
            <a:ahLst/>
            <a:rect l="l" t="t" r="r" b="b"/>
            <a:pathLst>
              <a:path w="2456" h="770">
                <a:moveTo>
                  <a:pt x="7962" y="8731"/>
                </a:moveTo>
                <a:cubicBezTo>
                  <a:pt x="7942" y="8772"/>
                  <a:pt x="7934" y="8778"/>
                  <a:pt x="7938" y="8806"/>
                </a:cubicBezTo>
                <a:cubicBezTo>
                  <a:pt x="8002" y="8806"/>
                  <a:pt x="8050" y="8777"/>
                  <a:pt x="8111" y="8756"/>
                </a:cubicBezTo>
                <a:cubicBezTo>
                  <a:pt x="8196" y="8726"/>
                  <a:pt x="8268" y="8688"/>
                  <a:pt x="8359" y="8682"/>
                </a:cubicBezTo>
                <a:cubicBezTo>
                  <a:pt x="8429" y="8677"/>
                  <a:pt x="8423" y="8837"/>
                  <a:pt x="8409" y="8880"/>
                </a:cubicBezTo>
                <a:cubicBezTo>
                  <a:pt x="8374" y="8992"/>
                  <a:pt x="8330" y="9117"/>
                  <a:pt x="8285" y="9227"/>
                </a:cubicBezTo>
                <a:cubicBezTo>
                  <a:pt x="8265" y="9268"/>
                  <a:pt x="8256" y="9274"/>
                  <a:pt x="8260" y="9302"/>
                </a:cubicBezTo>
              </a:path>
              <a:path w="2456" h="770">
                <a:moveTo>
                  <a:pt x="8855" y="8806"/>
                </a:moveTo>
                <a:cubicBezTo>
                  <a:pt x="8878" y="8783"/>
                  <a:pt x="8882" y="8775"/>
                  <a:pt x="8905" y="8781"/>
                </a:cubicBezTo>
                <a:cubicBezTo>
                  <a:pt x="8860" y="8837"/>
                  <a:pt x="8820" y="8894"/>
                  <a:pt x="8781" y="8954"/>
                </a:cubicBezTo>
                <a:cubicBezTo>
                  <a:pt x="8741" y="9016"/>
                  <a:pt x="8706" y="9036"/>
                  <a:pt x="8706" y="9103"/>
                </a:cubicBezTo>
              </a:path>
              <a:path w="2456" h="770">
                <a:moveTo>
                  <a:pt x="8905" y="9103"/>
                </a:moveTo>
                <a:cubicBezTo>
                  <a:pt x="8913" y="9087"/>
                  <a:pt x="8922" y="9070"/>
                  <a:pt x="8930" y="9054"/>
                </a:cubicBezTo>
                <a:cubicBezTo>
                  <a:pt x="8883" y="9042"/>
                  <a:pt x="8856" y="9018"/>
                  <a:pt x="8806" y="9004"/>
                </a:cubicBezTo>
                <a:cubicBezTo>
                  <a:pt x="8753" y="8989"/>
                  <a:pt x="8708" y="8964"/>
                  <a:pt x="8657" y="8954"/>
                </a:cubicBezTo>
              </a:path>
              <a:path w="2456" h="770">
                <a:moveTo>
                  <a:pt x="9252" y="8979"/>
                </a:moveTo>
                <a:cubicBezTo>
                  <a:pt x="9187" y="8979"/>
                  <a:pt x="9333" y="8959"/>
                  <a:pt x="9351" y="8954"/>
                </a:cubicBezTo>
                <a:cubicBezTo>
                  <a:pt x="9420" y="8937"/>
                  <a:pt x="9456" y="8930"/>
                  <a:pt x="9525" y="8930"/>
                </a:cubicBezTo>
              </a:path>
              <a:path w="2456" h="770">
                <a:moveTo>
                  <a:pt x="9748" y="8806"/>
                </a:moveTo>
                <a:cubicBezTo>
                  <a:pt x="9723" y="8748"/>
                  <a:pt x="9715" y="8706"/>
                  <a:pt x="9773" y="8657"/>
                </a:cubicBezTo>
                <a:cubicBezTo>
                  <a:pt x="9819" y="8618"/>
                  <a:pt x="9959" y="8530"/>
                  <a:pt x="10021" y="8533"/>
                </a:cubicBezTo>
                <a:cubicBezTo>
                  <a:pt x="10110" y="8538"/>
                  <a:pt x="10107" y="8673"/>
                  <a:pt x="10096" y="8731"/>
                </a:cubicBezTo>
                <a:cubicBezTo>
                  <a:pt x="10080" y="8811"/>
                  <a:pt x="10018" y="8910"/>
                  <a:pt x="9971" y="8979"/>
                </a:cubicBezTo>
                <a:cubicBezTo>
                  <a:pt x="9948" y="9012"/>
                  <a:pt x="9935" y="9062"/>
                  <a:pt x="9996" y="9079"/>
                </a:cubicBezTo>
                <a:cubicBezTo>
                  <a:pt x="10077" y="9102"/>
                  <a:pt x="10192" y="9077"/>
                  <a:pt x="10269" y="9054"/>
                </a:cubicBezTo>
                <a:cubicBezTo>
                  <a:pt x="10334" y="9032"/>
                  <a:pt x="10349" y="9024"/>
                  <a:pt x="10393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85920" y="3687840"/>
            <a:ext cx="71280" cy="98280"/>
          </a:xfrm>
          <a:custGeom>
            <a:avLst/>
            <a:gdLst/>
            <a:ahLst/>
            <a:rect l="l" t="t" r="r" b="b"/>
            <a:pathLst>
              <a:path w="199" h="274">
                <a:moveTo>
                  <a:pt x="3721" y="10269"/>
                </a:moveTo>
                <a:cubicBezTo>
                  <a:pt x="3729" y="10261"/>
                  <a:pt x="3738" y="10252"/>
                  <a:pt x="3746" y="10244"/>
                </a:cubicBezTo>
                <a:cubicBezTo>
                  <a:pt x="3719" y="10265"/>
                  <a:pt x="3678" y="10305"/>
                  <a:pt x="3646" y="10319"/>
                </a:cubicBezTo>
                <a:cubicBezTo>
                  <a:pt x="3614" y="10333"/>
                  <a:pt x="3601" y="10339"/>
                  <a:pt x="3572" y="10368"/>
                </a:cubicBezTo>
              </a:path>
              <a:path w="199" h="274">
                <a:moveTo>
                  <a:pt x="3721" y="10418"/>
                </a:moveTo>
                <a:cubicBezTo>
                  <a:pt x="3737" y="10418"/>
                  <a:pt x="3754" y="10418"/>
                  <a:pt x="3770" y="10418"/>
                </a:cubicBezTo>
                <a:cubicBezTo>
                  <a:pt x="3724" y="10430"/>
                  <a:pt x="3713" y="10474"/>
                  <a:pt x="3671" y="10492"/>
                </a:cubicBezTo>
                <a:cubicBezTo>
                  <a:pt x="3643" y="10492"/>
                  <a:pt x="3632" y="10494"/>
                  <a:pt x="3621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608120" y="3500280"/>
            <a:ext cx="419040" cy="258840"/>
          </a:xfrm>
          <a:custGeom>
            <a:avLst/>
            <a:gdLst/>
            <a:ahLst/>
            <a:rect l="l" t="t" r="r" b="b"/>
            <a:pathLst>
              <a:path w="1167" h="721">
                <a:moveTo>
                  <a:pt x="4787" y="10046"/>
                </a:moveTo>
                <a:cubicBezTo>
                  <a:pt x="4754" y="10021"/>
                  <a:pt x="4710" y="10007"/>
                  <a:pt x="4663" y="10021"/>
                </a:cubicBezTo>
                <a:cubicBezTo>
                  <a:pt x="4597" y="10041"/>
                  <a:pt x="4527" y="10069"/>
                  <a:pt x="4465" y="10096"/>
                </a:cubicBezTo>
              </a:path>
              <a:path w="1167" h="721">
                <a:moveTo>
                  <a:pt x="5209" y="9773"/>
                </a:moveTo>
                <a:cubicBezTo>
                  <a:pt x="5234" y="9748"/>
                  <a:pt x="5242" y="9740"/>
                  <a:pt x="5259" y="9723"/>
                </a:cubicBezTo>
                <a:cubicBezTo>
                  <a:pt x="5223" y="9782"/>
                  <a:pt x="5212" y="9847"/>
                  <a:pt x="5209" y="9922"/>
                </a:cubicBezTo>
                <a:cubicBezTo>
                  <a:pt x="5207" y="9981"/>
                  <a:pt x="5191" y="10065"/>
                  <a:pt x="5259" y="10096"/>
                </a:cubicBezTo>
                <a:cubicBezTo>
                  <a:pt x="5300" y="10115"/>
                  <a:pt x="5349" y="10080"/>
                  <a:pt x="5383" y="10071"/>
                </a:cubicBezTo>
                <a:cubicBezTo>
                  <a:pt x="5437" y="10057"/>
                  <a:pt x="5510" y="10068"/>
                  <a:pt x="5556" y="10096"/>
                </a:cubicBezTo>
                <a:cubicBezTo>
                  <a:pt x="5617" y="10133"/>
                  <a:pt x="5653" y="10164"/>
                  <a:pt x="5631" y="10244"/>
                </a:cubicBezTo>
                <a:cubicBezTo>
                  <a:pt x="5607" y="10331"/>
                  <a:pt x="5528" y="10359"/>
                  <a:pt x="5457" y="10393"/>
                </a:cubicBezTo>
                <a:cubicBezTo>
                  <a:pt x="5400" y="10420"/>
                  <a:pt x="5370" y="10435"/>
                  <a:pt x="5308" y="10443"/>
                </a:cubicBezTo>
              </a:path>
              <a:path w="1167" h="721">
                <a:moveTo>
                  <a:pt x="5184" y="9872"/>
                </a:moveTo>
                <a:cubicBezTo>
                  <a:pt x="5176" y="9872"/>
                  <a:pt x="5167" y="9872"/>
                  <a:pt x="5159" y="9872"/>
                </a:cubicBezTo>
                <a:cubicBezTo>
                  <a:pt x="5204" y="9861"/>
                  <a:pt x="5237" y="9822"/>
                  <a:pt x="5283" y="9798"/>
                </a:cubicBezTo>
                <a:cubicBezTo>
                  <a:pt x="5335" y="9770"/>
                  <a:pt x="5374" y="9748"/>
                  <a:pt x="5432" y="9748"/>
                </a:cubicBezTo>
              </a:path>
              <a:path w="1167" h="721">
                <a:moveTo>
                  <a:pt x="4887" y="9847"/>
                </a:moveTo>
                <a:cubicBezTo>
                  <a:pt x="4921" y="9895"/>
                  <a:pt x="4921" y="9939"/>
                  <a:pt x="4936" y="9996"/>
                </a:cubicBezTo>
                <a:cubicBezTo>
                  <a:pt x="4964" y="10102"/>
                  <a:pt x="5041" y="10190"/>
                  <a:pt x="5060" y="10294"/>
                </a:cubicBezTo>
                <a:cubicBezTo>
                  <a:pt x="5060" y="10355"/>
                  <a:pt x="5051" y="10371"/>
                  <a:pt x="5085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97080" y="3625920"/>
            <a:ext cx="108000" cy="27000"/>
          </a:xfrm>
          <a:custGeom>
            <a:avLst/>
            <a:gdLst/>
            <a:ahLst/>
            <a:rect l="l" t="t" r="r" b="b"/>
            <a:pathLst>
              <a:path w="299" h="75">
                <a:moveTo>
                  <a:pt x="6127" y="10120"/>
                </a:moveTo>
                <a:cubicBezTo>
                  <a:pt x="6119" y="10120"/>
                  <a:pt x="6110" y="10120"/>
                  <a:pt x="6102" y="10120"/>
                </a:cubicBezTo>
                <a:cubicBezTo>
                  <a:pt x="6120" y="10175"/>
                  <a:pt x="6137" y="10133"/>
                  <a:pt x="6176" y="10120"/>
                </a:cubicBezTo>
                <a:cubicBezTo>
                  <a:pt x="6216" y="10106"/>
                  <a:pt x="6256" y="10096"/>
                  <a:pt x="6300" y="10096"/>
                </a:cubicBezTo>
                <a:cubicBezTo>
                  <a:pt x="6349" y="10096"/>
                  <a:pt x="6362" y="10100"/>
                  <a:pt x="6400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33760" y="3581280"/>
            <a:ext cx="546120" cy="214560"/>
          </a:xfrm>
          <a:custGeom>
            <a:avLst/>
            <a:gdLst/>
            <a:ahLst/>
            <a:rect l="l" t="t" r="r" b="b"/>
            <a:pathLst>
              <a:path w="1514" h="596">
                <a:moveTo>
                  <a:pt x="7342" y="10443"/>
                </a:moveTo>
                <a:cubicBezTo>
                  <a:pt x="7290" y="10443"/>
                  <a:pt x="7393" y="10429"/>
                  <a:pt x="7417" y="10418"/>
                </a:cubicBezTo>
                <a:cubicBezTo>
                  <a:pt x="7498" y="10380"/>
                  <a:pt x="7583" y="10355"/>
                  <a:pt x="7665" y="10319"/>
                </a:cubicBezTo>
              </a:path>
              <a:path w="1514" h="596">
                <a:moveTo>
                  <a:pt x="7888" y="9947"/>
                </a:moveTo>
                <a:cubicBezTo>
                  <a:pt x="7938" y="9963"/>
                  <a:pt x="7903" y="10017"/>
                  <a:pt x="7913" y="10071"/>
                </a:cubicBezTo>
                <a:cubicBezTo>
                  <a:pt x="7935" y="10193"/>
                  <a:pt x="7966" y="10328"/>
                  <a:pt x="8012" y="10443"/>
                </a:cubicBezTo>
                <a:cubicBezTo>
                  <a:pt x="8020" y="10459"/>
                  <a:pt x="8029" y="10476"/>
                  <a:pt x="8037" y="10492"/>
                </a:cubicBezTo>
              </a:path>
              <a:path w="1514" h="596">
                <a:moveTo>
                  <a:pt x="8186" y="10071"/>
                </a:moveTo>
                <a:cubicBezTo>
                  <a:pt x="8194" y="10054"/>
                  <a:pt x="8202" y="10038"/>
                  <a:pt x="8210" y="10021"/>
                </a:cubicBezTo>
                <a:cubicBezTo>
                  <a:pt x="8210" y="10098"/>
                  <a:pt x="8183" y="10231"/>
                  <a:pt x="8235" y="10294"/>
                </a:cubicBezTo>
                <a:cubicBezTo>
                  <a:pt x="8299" y="10372"/>
                  <a:pt x="8357" y="10368"/>
                  <a:pt x="8458" y="10368"/>
                </a:cubicBezTo>
                <a:cubicBezTo>
                  <a:pt x="8590" y="10368"/>
                  <a:pt x="8938" y="10368"/>
                  <a:pt x="8806" y="10368"/>
                </a:cubicBezTo>
              </a:path>
              <a:path w="1514" h="596">
                <a:moveTo>
                  <a:pt x="8582" y="10244"/>
                </a:moveTo>
                <a:cubicBezTo>
                  <a:pt x="8488" y="10271"/>
                  <a:pt x="8490" y="10362"/>
                  <a:pt x="8508" y="10468"/>
                </a:cubicBezTo>
                <a:cubicBezTo>
                  <a:pt x="8516" y="10493"/>
                  <a:pt x="8525" y="10517"/>
                  <a:pt x="8533" y="10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098960" y="3643200"/>
            <a:ext cx="54000" cy="115920"/>
          </a:xfrm>
          <a:custGeom>
            <a:avLst/>
            <a:gdLst/>
            <a:ahLst/>
            <a:rect l="l" t="t" r="r" b="b"/>
            <a:pathLst>
              <a:path w="150" h="324">
                <a:moveTo>
                  <a:pt x="11534" y="10145"/>
                </a:moveTo>
                <a:cubicBezTo>
                  <a:pt x="11534" y="10137"/>
                  <a:pt x="11534" y="10128"/>
                  <a:pt x="11534" y="10120"/>
                </a:cubicBezTo>
                <a:cubicBezTo>
                  <a:pt x="11489" y="10154"/>
                  <a:pt x="11468" y="10162"/>
                  <a:pt x="11410" y="10170"/>
                </a:cubicBezTo>
              </a:path>
              <a:path w="150" h="324">
                <a:moveTo>
                  <a:pt x="11485" y="10294"/>
                </a:moveTo>
                <a:cubicBezTo>
                  <a:pt x="11528" y="10330"/>
                  <a:pt x="11568" y="10381"/>
                  <a:pt x="11485" y="10418"/>
                </a:cubicBezTo>
                <a:cubicBezTo>
                  <a:pt x="11457" y="10431"/>
                  <a:pt x="11416" y="10437"/>
                  <a:pt x="11385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340160" y="3544920"/>
            <a:ext cx="268200" cy="187200"/>
          </a:xfrm>
          <a:custGeom>
            <a:avLst/>
            <a:gdLst/>
            <a:ahLst/>
            <a:rect l="l" t="t" r="r" b="b"/>
            <a:pathLst>
              <a:path w="745" h="522">
                <a:moveTo>
                  <a:pt x="12055" y="10220"/>
                </a:moveTo>
                <a:cubicBezTo>
                  <a:pt x="12055" y="10203"/>
                  <a:pt x="12055" y="10187"/>
                  <a:pt x="12055" y="10170"/>
                </a:cubicBezTo>
                <a:cubicBezTo>
                  <a:pt x="12119" y="10161"/>
                  <a:pt x="12186" y="10159"/>
                  <a:pt x="12254" y="10145"/>
                </a:cubicBezTo>
                <a:cubicBezTo>
                  <a:pt x="12322" y="10131"/>
                  <a:pt x="12358" y="10120"/>
                  <a:pt x="12427" y="10120"/>
                </a:cubicBezTo>
              </a:path>
              <a:path w="745" h="522">
                <a:moveTo>
                  <a:pt x="12774" y="9922"/>
                </a:moveTo>
                <a:cubicBezTo>
                  <a:pt x="12774" y="9877"/>
                  <a:pt x="12771" y="9864"/>
                  <a:pt x="12799" y="9847"/>
                </a:cubicBezTo>
                <a:cubicBezTo>
                  <a:pt x="12783" y="9927"/>
                  <a:pt x="12757" y="10011"/>
                  <a:pt x="12750" y="10096"/>
                </a:cubicBezTo>
                <a:cubicBezTo>
                  <a:pt x="12743" y="10185"/>
                  <a:pt x="12750" y="10278"/>
                  <a:pt x="12750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732200" y="3751200"/>
            <a:ext cx="27000" cy="27000"/>
          </a:xfrm>
          <a:custGeom>
            <a:avLst/>
            <a:gdLst/>
            <a:ahLst/>
            <a:rect l="l" t="t" r="r" b="b"/>
            <a:pathLst>
              <a:path w="76" h="75">
                <a:moveTo>
                  <a:pt x="13146" y="10492"/>
                </a:moveTo>
                <a:cubicBezTo>
                  <a:pt x="13192" y="10454"/>
                  <a:pt x="13209" y="10453"/>
                  <a:pt x="13221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97000" y="4456080"/>
            <a:ext cx="839880" cy="642960"/>
          </a:xfrm>
          <a:custGeom>
            <a:avLst/>
            <a:gdLst/>
            <a:ahLst/>
            <a:rect l="l" t="t" r="r" b="b"/>
            <a:pathLst>
              <a:path w="2332" h="1786">
                <a:moveTo>
                  <a:pt x="4118" y="12601"/>
                </a:moveTo>
                <a:cubicBezTo>
                  <a:pt x="4126" y="12534"/>
                  <a:pt x="4151" y="12490"/>
                  <a:pt x="4167" y="12427"/>
                </a:cubicBezTo>
                <a:cubicBezTo>
                  <a:pt x="4167" y="12402"/>
                  <a:pt x="4167" y="12394"/>
                  <a:pt x="4167" y="12378"/>
                </a:cubicBezTo>
                <a:cubicBezTo>
                  <a:pt x="4149" y="12464"/>
                  <a:pt x="4142" y="12532"/>
                  <a:pt x="4142" y="12626"/>
                </a:cubicBezTo>
                <a:cubicBezTo>
                  <a:pt x="4142" y="12726"/>
                  <a:pt x="4145" y="12803"/>
                  <a:pt x="4167" y="12898"/>
                </a:cubicBezTo>
              </a:path>
              <a:path w="2332" h="1786">
                <a:moveTo>
                  <a:pt x="5655" y="13320"/>
                </a:moveTo>
                <a:cubicBezTo>
                  <a:pt x="5632" y="13334"/>
                  <a:pt x="5626" y="13332"/>
                  <a:pt x="5581" y="13345"/>
                </a:cubicBezTo>
                <a:cubicBezTo>
                  <a:pt x="5457" y="13379"/>
                  <a:pt x="5337" y="13361"/>
                  <a:pt x="5209" y="13345"/>
                </a:cubicBezTo>
                <a:cubicBezTo>
                  <a:pt x="5018" y="13321"/>
                  <a:pt x="4829" y="13262"/>
                  <a:pt x="4638" y="13246"/>
                </a:cubicBezTo>
                <a:cubicBezTo>
                  <a:pt x="4493" y="13234"/>
                  <a:pt x="4338" y="13203"/>
                  <a:pt x="4192" y="13221"/>
                </a:cubicBezTo>
                <a:cubicBezTo>
                  <a:pt x="4056" y="13237"/>
                  <a:pt x="3900" y="13245"/>
                  <a:pt x="3770" y="13295"/>
                </a:cubicBezTo>
                <a:cubicBezTo>
                  <a:pt x="3654" y="13340"/>
                  <a:pt x="3567" y="13369"/>
                  <a:pt x="3448" y="13395"/>
                </a:cubicBezTo>
                <a:cubicBezTo>
                  <a:pt x="3381" y="13417"/>
                  <a:pt x="3363" y="13421"/>
                  <a:pt x="3324" y="13444"/>
                </a:cubicBezTo>
              </a:path>
              <a:path w="2332" h="1786">
                <a:moveTo>
                  <a:pt x="3473" y="13891"/>
                </a:moveTo>
                <a:cubicBezTo>
                  <a:pt x="3529" y="13853"/>
                  <a:pt x="3522" y="13875"/>
                  <a:pt x="3522" y="13816"/>
                </a:cubicBezTo>
                <a:cubicBezTo>
                  <a:pt x="3472" y="13816"/>
                  <a:pt x="3437" y="13807"/>
                  <a:pt x="3398" y="13841"/>
                </a:cubicBezTo>
                <a:cubicBezTo>
                  <a:pt x="3334" y="13897"/>
                  <a:pt x="3324" y="13935"/>
                  <a:pt x="3324" y="14015"/>
                </a:cubicBezTo>
                <a:cubicBezTo>
                  <a:pt x="3394" y="14015"/>
                  <a:pt x="3382" y="13995"/>
                  <a:pt x="3423" y="13940"/>
                </a:cubicBezTo>
                <a:cubicBezTo>
                  <a:pt x="3461" y="13890"/>
                  <a:pt x="3500" y="13886"/>
                  <a:pt x="3547" y="13940"/>
                </a:cubicBezTo>
                <a:cubicBezTo>
                  <a:pt x="3584" y="13983"/>
                  <a:pt x="3608" y="14043"/>
                  <a:pt x="3646" y="14089"/>
                </a:cubicBezTo>
              </a:path>
              <a:path w="2332" h="1786">
                <a:moveTo>
                  <a:pt x="3894" y="13915"/>
                </a:moveTo>
                <a:cubicBezTo>
                  <a:pt x="3945" y="13841"/>
                  <a:pt x="3860" y="13940"/>
                  <a:pt x="3845" y="13965"/>
                </a:cubicBezTo>
                <a:cubicBezTo>
                  <a:pt x="3814" y="14016"/>
                  <a:pt x="3820" y="14032"/>
                  <a:pt x="3820" y="14089"/>
                </a:cubicBezTo>
                <a:cubicBezTo>
                  <a:pt x="3883" y="14080"/>
                  <a:pt x="3940" y="14032"/>
                  <a:pt x="3969" y="13965"/>
                </a:cubicBezTo>
                <a:cubicBezTo>
                  <a:pt x="4014" y="13861"/>
                  <a:pt x="4018" y="13753"/>
                  <a:pt x="4018" y="13643"/>
                </a:cubicBezTo>
                <a:cubicBezTo>
                  <a:pt x="4018" y="13626"/>
                  <a:pt x="4018" y="13610"/>
                  <a:pt x="4018" y="13593"/>
                </a:cubicBezTo>
                <a:cubicBezTo>
                  <a:pt x="4018" y="13693"/>
                  <a:pt x="4025" y="13794"/>
                  <a:pt x="4043" y="13891"/>
                </a:cubicBezTo>
                <a:cubicBezTo>
                  <a:pt x="4057" y="13966"/>
                  <a:pt x="4084" y="14017"/>
                  <a:pt x="4093" y="14089"/>
                </a:cubicBezTo>
              </a:path>
              <a:path w="2332" h="1786">
                <a:moveTo>
                  <a:pt x="4366" y="13940"/>
                </a:moveTo>
                <a:cubicBezTo>
                  <a:pt x="4358" y="13940"/>
                  <a:pt x="4349" y="13940"/>
                  <a:pt x="4341" y="13940"/>
                </a:cubicBezTo>
                <a:cubicBezTo>
                  <a:pt x="4354" y="13978"/>
                  <a:pt x="4370" y="13965"/>
                  <a:pt x="4415" y="13965"/>
                </a:cubicBezTo>
                <a:cubicBezTo>
                  <a:pt x="4451" y="13965"/>
                  <a:pt x="4480" y="13947"/>
                  <a:pt x="4514" y="13940"/>
                </a:cubicBezTo>
              </a:path>
              <a:path w="2332" h="1786">
                <a:moveTo>
                  <a:pt x="4738" y="13742"/>
                </a:moveTo>
                <a:cubicBezTo>
                  <a:pt x="4757" y="13680"/>
                  <a:pt x="4774" y="13644"/>
                  <a:pt x="4787" y="13593"/>
                </a:cubicBezTo>
                <a:cubicBezTo>
                  <a:pt x="4776" y="13683"/>
                  <a:pt x="4746" y="13774"/>
                  <a:pt x="4738" y="13866"/>
                </a:cubicBezTo>
                <a:cubicBezTo>
                  <a:pt x="4732" y="13930"/>
                  <a:pt x="4738" y="13999"/>
                  <a:pt x="4738" y="14064"/>
                </a:cubicBezTo>
                <a:cubicBezTo>
                  <a:pt x="4769" y="14033"/>
                  <a:pt x="4822" y="13976"/>
                  <a:pt x="4862" y="13965"/>
                </a:cubicBezTo>
                <a:cubicBezTo>
                  <a:pt x="4878" y="13965"/>
                  <a:pt x="4895" y="13965"/>
                  <a:pt x="4911" y="13965"/>
                </a:cubicBezTo>
                <a:cubicBezTo>
                  <a:pt x="4940" y="13975"/>
                  <a:pt x="4957" y="14023"/>
                  <a:pt x="4936" y="14064"/>
                </a:cubicBezTo>
                <a:cubicBezTo>
                  <a:pt x="4904" y="14127"/>
                  <a:pt x="4818" y="14114"/>
                  <a:pt x="4762" y="14114"/>
                </a:cubicBezTo>
              </a:path>
              <a:path w="2332" h="1786">
                <a:moveTo>
                  <a:pt x="5035" y="13940"/>
                </a:moveTo>
                <a:cubicBezTo>
                  <a:pt x="5092" y="13903"/>
                  <a:pt x="5095" y="13886"/>
                  <a:pt x="5135" y="13891"/>
                </a:cubicBezTo>
                <a:cubicBezTo>
                  <a:pt x="5111" y="13931"/>
                  <a:pt x="5073" y="14010"/>
                  <a:pt x="5085" y="14064"/>
                </a:cubicBezTo>
                <a:cubicBezTo>
                  <a:pt x="5104" y="14148"/>
                  <a:pt x="5151" y="14181"/>
                  <a:pt x="5234" y="14163"/>
                </a:cubicBezTo>
                <a:cubicBezTo>
                  <a:pt x="5308" y="14139"/>
                  <a:pt x="5333" y="14131"/>
                  <a:pt x="5383" y="1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40000" y="4330800"/>
            <a:ext cx="1062000" cy="760320"/>
          </a:xfrm>
          <a:custGeom>
            <a:avLst/>
            <a:gdLst/>
            <a:ahLst/>
            <a:rect l="l" t="t" r="r" b="b"/>
            <a:pathLst>
              <a:path w="2953" h="2110">
                <a:moveTo>
                  <a:pt x="6896" y="12154"/>
                </a:moveTo>
                <a:cubicBezTo>
                  <a:pt x="6916" y="12114"/>
                  <a:pt x="6925" y="12108"/>
                  <a:pt x="6921" y="12080"/>
                </a:cubicBezTo>
                <a:cubicBezTo>
                  <a:pt x="6820" y="12180"/>
                  <a:pt x="6741" y="12275"/>
                  <a:pt x="6672" y="12402"/>
                </a:cubicBezTo>
                <a:cubicBezTo>
                  <a:pt x="6558" y="12613"/>
                  <a:pt x="6512" y="12833"/>
                  <a:pt x="6499" y="13072"/>
                </a:cubicBezTo>
                <a:cubicBezTo>
                  <a:pt x="6487" y="13284"/>
                  <a:pt x="6512" y="13537"/>
                  <a:pt x="6573" y="13742"/>
                </a:cubicBezTo>
                <a:cubicBezTo>
                  <a:pt x="6606" y="13851"/>
                  <a:pt x="6663" y="13944"/>
                  <a:pt x="6722" y="14039"/>
                </a:cubicBezTo>
              </a:path>
              <a:path w="2953" h="2110">
                <a:moveTo>
                  <a:pt x="9178" y="12055"/>
                </a:moveTo>
                <a:cubicBezTo>
                  <a:pt x="9246" y="12055"/>
                  <a:pt x="9226" y="12012"/>
                  <a:pt x="9302" y="12105"/>
                </a:cubicBezTo>
                <a:cubicBezTo>
                  <a:pt x="9411" y="12239"/>
                  <a:pt x="9440" y="12510"/>
                  <a:pt x="9451" y="12675"/>
                </a:cubicBezTo>
                <a:cubicBezTo>
                  <a:pt x="9471" y="12973"/>
                  <a:pt x="9388" y="13304"/>
                  <a:pt x="9252" y="13568"/>
                </a:cubicBezTo>
                <a:cubicBezTo>
                  <a:pt x="9154" y="13758"/>
                  <a:pt x="9021" y="13910"/>
                  <a:pt x="8855" y="14039"/>
                </a:cubicBezTo>
                <a:cubicBezTo>
                  <a:pt x="8762" y="14110"/>
                  <a:pt x="8736" y="14133"/>
                  <a:pt x="8657" y="14139"/>
                </a:cubicBezTo>
              </a:path>
              <a:path w="2953" h="2110">
                <a:moveTo>
                  <a:pt x="7342" y="12502"/>
                </a:moveTo>
                <a:cubicBezTo>
                  <a:pt x="7367" y="12502"/>
                  <a:pt x="7375" y="12502"/>
                  <a:pt x="7367" y="12477"/>
                </a:cubicBezTo>
                <a:cubicBezTo>
                  <a:pt x="7325" y="12477"/>
                  <a:pt x="7272" y="12492"/>
                  <a:pt x="7243" y="12526"/>
                </a:cubicBezTo>
                <a:cubicBezTo>
                  <a:pt x="7200" y="12576"/>
                  <a:pt x="7210" y="12632"/>
                  <a:pt x="7243" y="12675"/>
                </a:cubicBezTo>
                <a:cubicBezTo>
                  <a:pt x="7331" y="12662"/>
                  <a:pt x="7354" y="12587"/>
                  <a:pt x="7392" y="12502"/>
                </a:cubicBezTo>
                <a:cubicBezTo>
                  <a:pt x="7430" y="12418"/>
                  <a:pt x="7440" y="12329"/>
                  <a:pt x="7491" y="12254"/>
                </a:cubicBezTo>
                <a:cubicBezTo>
                  <a:pt x="7508" y="12352"/>
                  <a:pt x="7518" y="12453"/>
                  <a:pt x="7541" y="12551"/>
                </a:cubicBezTo>
                <a:cubicBezTo>
                  <a:pt x="7559" y="12628"/>
                  <a:pt x="7586" y="12702"/>
                  <a:pt x="7615" y="12774"/>
                </a:cubicBezTo>
              </a:path>
              <a:path w="2953" h="2110">
                <a:moveTo>
                  <a:pt x="8062" y="13692"/>
                </a:moveTo>
                <a:cubicBezTo>
                  <a:pt x="8074" y="13654"/>
                  <a:pt x="8086" y="13671"/>
                  <a:pt x="8086" y="13618"/>
                </a:cubicBezTo>
                <a:cubicBezTo>
                  <a:pt x="8086" y="13548"/>
                  <a:pt x="8027" y="13561"/>
                  <a:pt x="7987" y="13593"/>
                </a:cubicBezTo>
                <a:cubicBezTo>
                  <a:pt x="7942" y="13629"/>
                  <a:pt x="7914" y="13712"/>
                  <a:pt x="7938" y="13767"/>
                </a:cubicBezTo>
                <a:cubicBezTo>
                  <a:pt x="7946" y="13775"/>
                  <a:pt x="7954" y="13783"/>
                  <a:pt x="7962" y="13791"/>
                </a:cubicBezTo>
                <a:cubicBezTo>
                  <a:pt x="8012" y="13779"/>
                  <a:pt x="8033" y="13735"/>
                  <a:pt x="8086" y="13717"/>
                </a:cubicBezTo>
                <a:cubicBezTo>
                  <a:pt x="8137" y="13700"/>
                  <a:pt x="8187" y="13790"/>
                  <a:pt x="8210" y="13816"/>
                </a:cubicBezTo>
                <a:cubicBezTo>
                  <a:pt x="8227" y="13833"/>
                  <a:pt x="8243" y="13849"/>
                  <a:pt x="8260" y="13866"/>
                </a:cubicBezTo>
              </a:path>
              <a:path w="2953" h="2110">
                <a:moveTo>
                  <a:pt x="8186" y="12601"/>
                </a:moveTo>
                <a:cubicBezTo>
                  <a:pt x="8186" y="12609"/>
                  <a:pt x="8186" y="12618"/>
                  <a:pt x="8186" y="12626"/>
                </a:cubicBezTo>
                <a:cubicBezTo>
                  <a:pt x="8252" y="12626"/>
                  <a:pt x="8318" y="12626"/>
                  <a:pt x="8384" y="12626"/>
                </a:cubicBezTo>
              </a:path>
              <a:path w="2953" h="2110">
                <a:moveTo>
                  <a:pt x="8682" y="12378"/>
                </a:moveTo>
                <a:cubicBezTo>
                  <a:pt x="8682" y="12361"/>
                  <a:pt x="8682" y="12345"/>
                  <a:pt x="8682" y="12328"/>
                </a:cubicBezTo>
                <a:cubicBezTo>
                  <a:pt x="8720" y="12341"/>
                  <a:pt x="8693" y="12429"/>
                  <a:pt x="8682" y="12477"/>
                </a:cubicBezTo>
                <a:cubicBezTo>
                  <a:pt x="8662" y="12563"/>
                  <a:pt x="8662" y="12644"/>
                  <a:pt x="8632" y="12725"/>
                </a:cubicBezTo>
                <a:cubicBezTo>
                  <a:pt x="8663" y="12694"/>
                  <a:pt x="8718" y="12616"/>
                  <a:pt x="8756" y="12601"/>
                </a:cubicBezTo>
                <a:cubicBezTo>
                  <a:pt x="8852" y="12562"/>
                  <a:pt x="8890" y="12646"/>
                  <a:pt x="8905" y="12725"/>
                </a:cubicBezTo>
                <a:cubicBezTo>
                  <a:pt x="8923" y="12818"/>
                  <a:pt x="8895" y="12845"/>
                  <a:pt x="8806" y="12849"/>
                </a:cubicBezTo>
                <a:cubicBezTo>
                  <a:pt x="8716" y="12853"/>
                  <a:pt x="8660" y="12813"/>
                  <a:pt x="8582" y="12774"/>
                </a:cubicBezTo>
              </a:path>
              <a:path w="2953" h="2110">
                <a:moveTo>
                  <a:pt x="6945" y="13618"/>
                </a:moveTo>
                <a:cubicBezTo>
                  <a:pt x="6945" y="13626"/>
                  <a:pt x="6945" y="13635"/>
                  <a:pt x="6945" y="13643"/>
                </a:cubicBezTo>
                <a:cubicBezTo>
                  <a:pt x="6903" y="13611"/>
                  <a:pt x="6877" y="13618"/>
                  <a:pt x="6821" y="13618"/>
                </a:cubicBezTo>
                <a:cubicBezTo>
                  <a:pt x="6796" y="13618"/>
                  <a:pt x="6788" y="13618"/>
                  <a:pt x="6772" y="13618"/>
                </a:cubicBezTo>
              </a:path>
              <a:path w="2953" h="2110">
                <a:moveTo>
                  <a:pt x="7293" y="13593"/>
                </a:moveTo>
                <a:cubicBezTo>
                  <a:pt x="7356" y="13528"/>
                  <a:pt x="7230" y="13634"/>
                  <a:pt x="7218" y="13643"/>
                </a:cubicBezTo>
                <a:cubicBezTo>
                  <a:pt x="7146" y="13696"/>
                  <a:pt x="7206" y="13758"/>
                  <a:pt x="7243" y="13791"/>
                </a:cubicBezTo>
                <a:cubicBezTo>
                  <a:pt x="7301" y="13843"/>
                  <a:pt x="7375" y="13813"/>
                  <a:pt x="7441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95880" y="4670280"/>
            <a:ext cx="125280" cy="9864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12229" y="12998"/>
                </a:moveTo>
                <a:cubicBezTo>
                  <a:pt x="12254" y="12998"/>
                  <a:pt x="12262" y="12998"/>
                  <a:pt x="12278" y="12998"/>
                </a:cubicBezTo>
                <a:cubicBezTo>
                  <a:pt x="12266" y="12960"/>
                  <a:pt x="12249" y="12973"/>
                  <a:pt x="12204" y="12973"/>
                </a:cubicBezTo>
                <a:cubicBezTo>
                  <a:pt x="12129" y="12973"/>
                  <a:pt x="12074" y="12968"/>
                  <a:pt x="12005" y="12998"/>
                </a:cubicBezTo>
                <a:cubicBezTo>
                  <a:pt x="11965" y="13018"/>
                  <a:pt x="11958" y="13026"/>
                  <a:pt x="11931" y="13022"/>
                </a:cubicBezTo>
              </a:path>
              <a:path w="348" h="274">
                <a:moveTo>
                  <a:pt x="12229" y="13146"/>
                </a:moveTo>
                <a:cubicBezTo>
                  <a:pt x="12267" y="13185"/>
                  <a:pt x="12284" y="13187"/>
                  <a:pt x="12278" y="13221"/>
                </a:cubicBezTo>
                <a:cubicBezTo>
                  <a:pt x="12262" y="13246"/>
                  <a:pt x="12203" y="13261"/>
                  <a:pt x="12154" y="13246"/>
                </a:cubicBezTo>
                <a:cubicBezTo>
                  <a:pt x="12106" y="13222"/>
                  <a:pt x="12092" y="13213"/>
                  <a:pt x="12055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983120" y="4510080"/>
            <a:ext cx="1170000" cy="768240"/>
          </a:xfrm>
          <a:custGeom>
            <a:avLst/>
            <a:gdLst/>
            <a:ahLst/>
            <a:rect l="l" t="t" r="r" b="b"/>
            <a:pathLst>
              <a:path w="3250" h="2135">
                <a:moveTo>
                  <a:pt x="14188" y="12700"/>
                </a:moveTo>
                <a:cubicBezTo>
                  <a:pt x="14217" y="12632"/>
                  <a:pt x="14240" y="12609"/>
                  <a:pt x="14213" y="12700"/>
                </a:cubicBezTo>
                <a:cubicBezTo>
                  <a:pt x="14185" y="12796"/>
                  <a:pt x="14166" y="12895"/>
                  <a:pt x="14163" y="12998"/>
                </a:cubicBezTo>
                <a:cubicBezTo>
                  <a:pt x="14160" y="13086"/>
                  <a:pt x="14159" y="13120"/>
                  <a:pt x="14188" y="13196"/>
                </a:cubicBezTo>
              </a:path>
              <a:path w="3250" h="2135">
                <a:moveTo>
                  <a:pt x="14808" y="13320"/>
                </a:moveTo>
                <a:cubicBezTo>
                  <a:pt x="14743" y="13320"/>
                  <a:pt x="14694" y="13303"/>
                  <a:pt x="14635" y="13295"/>
                </a:cubicBezTo>
                <a:cubicBezTo>
                  <a:pt x="14531" y="13281"/>
                  <a:pt x="14417" y="13275"/>
                  <a:pt x="14312" y="13271"/>
                </a:cubicBezTo>
                <a:cubicBezTo>
                  <a:pt x="14215" y="13268"/>
                  <a:pt x="14129" y="13306"/>
                  <a:pt x="14039" y="13320"/>
                </a:cubicBezTo>
                <a:cubicBezTo>
                  <a:pt x="13978" y="13330"/>
                  <a:pt x="13926" y="13364"/>
                  <a:pt x="13866" y="13370"/>
                </a:cubicBezTo>
                <a:cubicBezTo>
                  <a:pt x="13858" y="13370"/>
                  <a:pt x="13849" y="13370"/>
                  <a:pt x="13841" y="13370"/>
                </a:cubicBezTo>
              </a:path>
              <a:path w="3250" h="2135">
                <a:moveTo>
                  <a:pt x="14263" y="13791"/>
                </a:moveTo>
                <a:cubicBezTo>
                  <a:pt x="14250" y="13742"/>
                  <a:pt x="14238" y="13742"/>
                  <a:pt x="14188" y="13742"/>
                </a:cubicBezTo>
                <a:cubicBezTo>
                  <a:pt x="14116" y="13742"/>
                  <a:pt x="14058" y="13776"/>
                  <a:pt x="13990" y="13791"/>
                </a:cubicBezTo>
                <a:cubicBezTo>
                  <a:pt x="13965" y="13791"/>
                  <a:pt x="13957" y="13791"/>
                  <a:pt x="13940" y="13791"/>
                </a:cubicBezTo>
              </a:path>
              <a:path w="3250" h="2135">
                <a:moveTo>
                  <a:pt x="14436" y="13469"/>
                </a:moveTo>
                <a:cubicBezTo>
                  <a:pt x="14518" y="13490"/>
                  <a:pt x="14472" y="13546"/>
                  <a:pt x="14486" y="13618"/>
                </a:cubicBezTo>
                <a:cubicBezTo>
                  <a:pt x="14501" y="13694"/>
                  <a:pt x="14517" y="13765"/>
                  <a:pt x="14536" y="13841"/>
                </a:cubicBezTo>
              </a:path>
              <a:path w="3250" h="2135">
                <a:moveTo>
                  <a:pt x="15776" y="12576"/>
                </a:moveTo>
                <a:cubicBezTo>
                  <a:pt x="15801" y="12551"/>
                  <a:pt x="15809" y="12543"/>
                  <a:pt x="15825" y="12526"/>
                </a:cubicBezTo>
                <a:cubicBezTo>
                  <a:pt x="15784" y="12556"/>
                  <a:pt x="15733" y="12597"/>
                  <a:pt x="15701" y="12650"/>
                </a:cubicBezTo>
                <a:cubicBezTo>
                  <a:pt x="15607" y="12806"/>
                  <a:pt x="15561" y="12969"/>
                  <a:pt x="15528" y="13146"/>
                </a:cubicBezTo>
                <a:cubicBezTo>
                  <a:pt x="15490" y="13349"/>
                  <a:pt x="15469" y="13511"/>
                  <a:pt x="15503" y="13717"/>
                </a:cubicBezTo>
                <a:cubicBezTo>
                  <a:pt x="15532" y="13894"/>
                  <a:pt x="15599" y="14053"/>
                  <a:pt x="15677" y="14213"/>
                </a:cubicBezTo>
                <a:cubicBezTo>
                  <a:pt x="15736" y="14334"/>
                  <a:pt x="15831" y="14420"/>
                  <a:pt x="15900" y="14536"/>
                </a:cubicBezTo>
                <a:cubicBezTo>
                  <a:pt x="15925" y="14578"/>
                  <a:pt x="15949" y="14620"/>
                  <a:pt x="15974" y="14660"/>
                </a:cubicBezTo>
              </a:path>
              <a:path w="3250" h="2135">
                <a:moveTo>
                  <a:pt x="16321" y="13146"/>
                </a:moveTo>
                <a:cubicBezTo>
                  <a:pt x="16270" y="13108"/>
                  <a:pt x="16257" y="13140"/>
                  <a:pt x="16197" y="13122"/>
                </a:cubicBezTo>
                <a:cubicBezTo>
                  <a:pt x="16142" y="13106"/>
                  <a:pt x="16073" y="13082"/>
                  <a:pt x="16024" y="13072"/>
                </a:cubicBezTo>
                <a:cubicBezTo>
                  <a:pt x="15982" y="13072"/>
                  <a:pt x="15974" y="13072"/>
                  <a:pt x="15949" y="13072"/>
                </a:cubicBezTo>
              </a:path>
              <a:path w="3250" h="2135">
                <a:moveTo>
                  <a:pt x="16669" y="12874"/>
                </a:moveTo>
                <a:cubicBezTo>
                  <a:pt x="16715" y="12874"/>
                  <a:pt x="16642" y="12887"/>
                  <a:pt x="16619" y="12923"/>
                </a:cubicBezTo>
                <a:cubicBezTo>
                  <a:pt x="16583" y="12979"/>
                  <a:pt x="16549" y="13015"/>
                  <a:pt x="16594" y="13072"/>
                </a:cubicBezTo>
                <a:cubicBezTo>
                  <a:pt x="16636" y="13125"/>
                  <a:pt x="16714" y="13134"/>
                  <a:pt x="16768" y="13171"/>
                </a:cubicBezTo>
                <a:cubicBezTo>
                  <a:pt x="16827" y="13212"/>
                  <a:pt x="16886" y="13278"/>
                  <a:pt x="16892" y="13345"/>
                </a:cubicBezTo>
                <a:cubicBezTo>
                  <a:pt x="16893" y="13362"/>
                  <a:pt x="16843" y="13408"/>
                  <a:pt x="16818" y="13419"/>
                </a:cubicBezTo>
                <a:cubicBezTo>
                  <a:pt x="16777" y="13437"/>
                  <a:pt x="16724" y="13411"/>
                  <a:pt x="16694" y="13395"/>
                </a:cubicBezTo>
                <a:cubicBezTo>
                  <a:pt x="16632" y="13362"/>
                  <a:pt x="16619" y="13386"/>
                  <a:pt x="16619" y="13320"/>
                </a:cubicBezTo>
              </a:path>
              <a:path w="3250" h="2135">
                <a:moveTo>
                  <a:pt x="17090" y="12923"/>
                </a:moveTo>
                <a:cubicBezTo>
                  <a:pt x="17090" y="12915"/>
                  <a:pt x="17090" y="12906"/>
                  <a:pt x="17090" y="12898"/>
                </a:cubicBezTo>
                <a:cubicBezTo>
                  <a:pt x="17032" y="12898"/>
                  <a:pt x="16975" y="12898"/>
                  <a:pt x="16917" y="12898"/>
                </a:cubicBezTo>
              </a:path>
              <a:path w="3250" h="2135">
                <a:moveTo>
                  <a:pt x="16396" y="14188"/>
                </a:moveTo>
                <a:cubicBezTo>
                  <a:pt x="16388" y="14188"/>
                  <a:pt x="16379" y="14188"/>
                  <a:pt x="16371" y="14188"/>
                </a:cubicBezTo>
                <a:cubicBezTo>
                  <a:pt x="16380" y="14151"/>
                  <a:pt x="16410" y="14113"/>
                  <a:pt x="16446" y="14089"/>
                </a:cubicBezTo>
                <a:cubicBezTo>
                  <a:pt x="16506" y="14050"/>
                  <a:pt x="16550" y="14039"/>
                  <a:pt x="16619" y="14039"/>
                </a:cubicBezTo>
                <a:cubicBezTo>
                  <a:pt x="16694" y="14039"/>
                  <a:pt x="16714" y="14068"/>
                  <a:pt x="16718" y="14139"/>
                </a:cubicBezTo>
                <a:cubicBezTo>
                  <a:pt x="16722" y="14202"/>
                  <a:pt x="16683" y="14287"/>
                  <a:pt x="16644" y="14337"/>
                </a:cubicBezTo>
                <a:cubicBezTo>
                  <a:pt x="16607" y="14385"/>
                  <a:pt x="16521" y="14414"/>
                  <a:pt x="16495" y="14461"/>
                </a:cubicBezTo>
                <a:cubicBezTo>
                  <a:pt x="16488" y="14474"/>
                  <a:pt x="16495" y="14520"/>
                  <a:pt x="16495" y="14536"/>
                </a:cubicBezTo>
                <a:cubicBezTo>
                  <a:pt x="16603" y="14536"/>
                  <a:pt x="16710" y="14536"/>
                  <a:pt x="16818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99160" y="4643280"/>
            <a:ext cx="625680" cy="822600"/>
          </a:xfrm>
          <a:custGeom>
            <a:avLst/>
            <a:gdLst/>
            <a:ahLst/>
            <a:rect l="l" t="t" r="r" b="b"/>
            <a:pathLst>
              <a:path w="1737" h="2283">
                <a:moveTo>
                  <a:pt x="19472" y="12923"/>
                </a:moveTo>
                <a:cubicBezTo>
                  <a:pt x="19546" y="12914"/>
                  <a:pt x="19495" y="12927"/>
                  <a:pt x="19571" y="12948"/>
                </a:cubicBezTo>
                <a:cubicBezTo>
                  <a:pt x="19652" y="12970"/>
                  <a:pt x="19725" y="13036"/>
                  <a:pt x="19794" y="13097"/>
                </a:cubicBezTo>
                <a:cubicBezTo>
                  <a:pt x="19903" y="13193"/>
                  <a:pt x="19976" y="13330"/>
                  <a:pt x="20017" y="13469"/>
                </a:cubicBezTo>
                <a:cubicBezTo>
                  <a:pt x="20072" y="13655"/>
                  <a:pt x="20072" y="13827"/>
                  <a:pt x="20042" y="14015"/>
                </a:cubicBezTo>
                <a:cubicBezTo>
                  <a:pt x="20010" y="14214"/>
                  <a:pt x="19939" y="14407"/>
                  <a:pt x="19844" y="14585"/>
                </a:cubicBezTo>
                <a:cubicBezTo>
                  <a:pt x="19767" y="14729"/>
                  <a:pt x="19676" y="14882"/>
                  <a:pt x="19571" y="15007"/>
                </a:cubicBezTo>
                <a:cubicBezTo>
                  <a:pt x="19522" y="15065"/>
                  <a:pt x="19485" y="15132"/>
                  <a:pt x="19447" y="15180"/>
                </a:cubicBezTo>
              </a:path>
              <a:path w="1737" h="2283">
                <a:moveTo>
                  <a:pt x="18355" y="13221"/>
                </a:moveTo>
                <a:cubicBezTo>
                  <a:pt x="18347" y="13229"/>
                  <a:pt x="18339" y="13238"/>
                  <a:pt x="18331" y="13246"/>
                </a:cubicBezTo>
                <a:cubicBezTo>
                  <a:pt x="18366" y="13258"/>
                  <a:pt x="18371" y="13271"/>
                  <a:pt x="18430" y="13271"/>
                </a:cubicBezTo>
                <a:cubicBezTo>
                  <a:pt x="18521" y="13271"/>
                  <a:pt x="18612" y="13271"/>
                  <a:pt x="18703" y="13271"/>
                </a:cubicBezTo>
              </a:path>
              <a:path w="1737" h="2283">
                <a:moveTo>
                  <a:pt x="19025" y="13072"/>
                </a:moveTo>
                <a:cubicBezTo>
                  <a:pt x="19069" y="13039"/>
                  <a:pt x="19091" y="13047"/>
                  <a:pt x="19149" y="13047"/>
                </a:cubicBezTo>
                <a:cubicBezTo>
                  <a:pt x="19218" y="13047"/>
                  <a:pt x="19311" y="13046"/>
                  <a:pt x="19372" y="13072"/>
                </a:cubicBezTo>
                <a:cubicBezTo>
                  <a:pt x="19447" y="13104"/>
                  <a:pt x="19416" y="13167"/>
                  <a:pt x="19397" y="13221"/>
                </a:cubicBezTo>
                <a:cubicBezTo>
                  <a:pt x="19364" y="13315"/>
                  <a:pt x="19295" y="13379"/>
                  <a:pt x="19248" y="13469"/>
                </a:cubicBezTo>
                <a:cubicBezTo>
                  <a:pt x="19223" y="13518"/>
                  <a:pt x="19186" y="13570"/>
                  <a:pt x="19174" y="13618"/>
                </a:cubicBezTo>
              </a:path>
              <a:path w="1737" h="2283">
                <a:moveTo>
                  <a:pt x="18678" y="14213"/>
                </a:moveTo>
                <a:cubicBezTo>
                  <a:pt x="18667" y="14213"/>
                  <a:pt x="18564" y="14213"/>
                  <a:pt x="18628" y="14213"/>
                </a:cubicBezTo>
                <a:cubicBezTo>
                  <a:pt x="18668" y="14189"/>
                  <a:pt x="18751" y="14148"/>
                  <a:pt x="18802" y="14139"/>
                </a:cubicBezTo>
                <a:cubicBezTo>
                  <a:pt x="18866" y="14128"/>
                  <a:pt x="18938" y="14128"/>
                  <a:pt x="18976" y="14188"/>
                </a:cubicBezTo>
                <a:cubicBezTo>
                  <a:pt x="19024" y="14265"/>
                  <a:pt x="18987" y="14315"/>
                  <a:pt x="18951" y="14387"/>
                </a:cubicBezTo>
                <a:cubicBezTo>
                  <a:pt x="18918" y="14452"/>
                  <a:pt x="18875" y="14454"/>
                  <a:pt x="18827" y="14486"/>
                </a:cubicBezTo>
                <a:cubicBezTo>
                  <a:pt x="18819" y="14494"/>
                  <a:pt x="18810" y="14503"/>
                  <a:pt x="18802" y="14511"/>
                </a:cubicBezTo>
                <a:cubicBezTo>
                  <a:pt x="18816" y="14568"/>
                  <a:pt x="18880" y="14593"/>
                  <a:pt x="18926" y="14635"/>
                </a:cubicBezTo>
                <a:cubicBezTo>
                  <a:pt x="18968" y="14673"/>
                  <a:pt x="19012" y="14708"/>
                  <a:pt x="19025" y="14759"/>
                </a:cubicBezTo>
                <a:cubicBezTo>
                  <a:pt x="18940" y="14802"/>
                  <a:pt x="18897" y="14808"/>
                  <a:pt x="18802" y="14808"/>
                </a:cubicBezTo>
                <a:cubicBezTo>
                  <a:pt x="18720" y="14808"/>
                  <a:pt x="18654" y="14796"/>
                  <a:pt x="18579" y="14784"/>
                </a:cubicBezTo>
                <a:cubicBezTo>
                  <a:pt x="18534" y="14784"/>
                  <a:pt x="18521" y="14787"/>
                  <a:pt x="18504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97320" y="5491080"/>
            <a:ext cx="625680" cy="804960"/>
          </a:xfrm>
          <a:custGeom>
            <a:avLst/>
            <a:gdLst/>
            <a:ahLst/>
            <a:rect l="l" t="t" r="r" b="b"/>
            <a:pathLst>
              <a:path w="1738" h="2233">
                <a:moveTo>
                  <a:pt x="14858" y="15280"/>
                </a:moveTo>
                <a:cubicBezTo>
                  <a:pt x="14866" y="15272"/>
                  <a:pt x="14875" y="15263"/>
                  <a:pt x="14883" y="15255"/>
                </a:cubicBezTo>
                <a:cubicBezTo>
                  <a:pt x="14867" y="15271"/>
                  <a:pt x="14832" y="15295"/>
                  <a:pt x="14808" y="15329"/>
                </a:cubicBezTo>
                <a:cubicBezTo>
                  <a:pt x="14774" y="15378"/>
                  <a:pt x="14728" y="15461"/>
                  <a:pt x="14684" y="15503"/>
                </a:cubicBezTo>
                <a:cubicBezTo>
                  <a:pt x="14616" y="15567"/>
                  <a:pt x="14579" y="15636"/>
                  <a:pt x="14536" y="15726"/>
                </a:cubicBezTo>
                <a:cubicBezTo>
                  <a:pt x="14495" y="15813"/>
                  <a:pt x="14482" y="15885"/>
                  <a:pt x="14461" y="15974"/>
                </a:cubicBezTo>
                <a:cubicBezTo>
                  <a:pt x="14440" y="16064"/>
                  <a:pt x="14414" y="16177"/>
                  <a:pt x="14436" y="16272"/>
                </a:cubicBezTo>
                <a:cubicBezTo>
                  <a:pt x="14455" y="16356"/>
                  <a:pt x="14472" y="16439"/>
                  <a:pt x="14511" y="16520"/>
                </a:cubicBezTo>
                <a:cubicBezTo>
                  <a:pt x="14551" y="16603"/>
                  <a:pt x="14596" y="16685"/>
                  <a:pt x="14635" y="16768"/>
                </a:cubicBezTo>
                <a:cubicBezTo>
                  <a:pt x="14694" y="16894"/>
                  <a:pt x="14764" y="16995"/>
                  <a:pt x="14833" y="17115"/>
                </a:cubicBezTo>
                <a:cubicBezTo>
                  <a:pt x="14892" y="17217"/>
                  <a:pt x="14943" y="17343"/>
                  <a:pt x="15007" y="17438"/>
                </a:cubicBezTo>
                <a:cubicBezTo>
                  <a:pt x="15023" y="17454"/>
                  <a:pt x="15040" y="17471"/>
                  <a:pt x="15056" y="17487"/>
                </a:cubicBezTo>
              </a:path>
              <a:path w="1738" h="2233">
                <a:moveTo>
                  <a:pt x="15602" y="15726"/>
                </a:moveTo>
                <a:cubicBezTo>
                  <a:pt x="15602" y="15681"/>
                  <a:pt x="15600" y="15750"/>
                  <a:pt x="15577" y="15776"/>
                </a:cubicBezTo>
                <a:cubicBezTo>
                  <a:pt x="15545" y="15813"/>
                  <a:pt x="15503" y="15841"/>
                  <a:pt x="15528" y="15900"/>
                </a:cubicBezTo>
                <a:cubicBezTo>
                  <a:pt x="15554" y="15961"/>
                  <a:pt x="15651" y="15977"/>
                  <a:pt x="15701" y="15999"/>
                </a:cubicBezTo>
                <a:cubicBezTo>
                  <a:pt x="15749" y="16019"/>
                  <a:pt x="15812" y="16071"/>
                  <a:pt x="15825" y="16123"/>
                </a:cubicBezTo>
                <a:cubicBezTo>
                  <a:pt x="15836" y="16166"/>
                  <a:pt x="15800" y="16258"/>
                  <a:pt x="15751" y="16272"/>
                </a:cubicBezTo>
                <a:cubicBezTo>
                  <a:pt x="15681" y="16292"/>
                  <a:pt x="15615" y="16257"/>
                  <a:pt x="15553" y="16247"/>
                </a:cubicBezTo>
                <a:cubicBezTo>
                  <a:pt x="15536" y="16247"/>
                  <a:pt x="15520" y="16247"/>
                  <a:pt x="15503" y="16247"/>
                </a:cubicBezTo>
              </a:path>
              <a:path w="1738" h="2233">
                <a:moveTo>
                  <a:pt x="15900" y="15776"/>
                </a:moveTo>
                <a:cubicBezTo>
                  <a:pt x="15920" y="15735"/>
                  <a:pt x="15929" y="15729"/>
                  <a:pt x="15925" y="15701"/>
                </a:cubicBezTo>
                <a:cubicBezTo>
                  <a:pt x="15866" y="15701"/>
                  <a:pt x="15832" y="15705"/>
                  <a:pt x="15776" y="15726"/>
                </a:cubicBezTo>
              </a:path>
              <a:path w="1738" h="2233">
                <a:moveTo>
                  <a:pt x="15553" y="16991"/>
                </a:moveTo>
                <a:cubicBezTo>
                  <a:pt x="15561" y="16983"/>
                  <a:pt x="15569" y="16974"/>
                  <a:pt x="15577" y="16966"/>
                </a:cubicBezTo>
                <a:cubicBezTo>
                  <a:pt x="15486" y="16966"/>
                  <a:pt x="15395" y="16966"/>
                  <a:pt x="15304" y="16966"/>
                </a:cubicBezTo>
              </a:path>
              <a:path w="1738" h="2233">
                <a:moveTo>
                  <a:pt x="15900" y="16917"/>
                </a:moveTo>
                <a:cubicBezTo>
                  <a:pt x="15877" y="16894"/>
                  <a:pt x="15869" y="16890"/>
                  <a:pt x="15875" y="16867"/>
                </a:cubicBezTo>
                <a:cubicBezTo>
                  <a:pt x="15915" y="16843"/>
                  <a:pt x="15997" y="16822"/>
                  <a:pt x="16049" y="16842"/>
                </a:cubicBezTo>
                <a:cubicBezTo>
                  <a:pt x="16103" y="16863"/>
                  <a:pt x="16111" y="16944"/>
                  <a:pt x="16098" y="16991"/>
                </a:cubicBezTo>
                <a:cubicBezTo>
                  <a:pt x="16074" y="17075"/>
                  <a:pt x="15994" y="17144"/>
                  <a:pt x="15925" y="17190"/>
                </a:cubicBezTo>
                <a:cubicBezTo>
                  <a:pt x="15880" y="17220"/>
                  <a:pt x="15864" y="17210"/>
                  <a:pt x="15825" y="17239"/>
                </a:cubicBezTo>
                <a:cubicBezTo>
                  <a:pt x="15907" y="17239"/>
                  <a:pt x="15974" y="17254"/>
                  <a:pt x="16049" y="17264"/>
                </a:cubicBezTo>
                <a:cubicBezTo>
                  <a:pt x="16115" y="17264"/>
                  <a:pt x="16132" y="17264"/>
                  <a:pt x="16173" y="172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70760" y="5697360"/>
            <a:ext cx="723600" cy="857520"/>
          </a:xfrm>
          <a:custGeom>
            <a:avLst/>
            <a:gdLst/>
            <a:ahLst/>
            <a:rect l="l" t="t" r="r" b="b"/>
            <a:pathLst>
              <a:path w="2010" h="2383">
                <a:moveTo>
                  <a:pt x="18579" y="15825"/>
                </a:moveTo>
                <a:cubicBezTo>
                  <a:pt x="18630" y="15831"/>
                  <a:pt x="18635" y="15823"/>
                  <a:pt x="18678" y="15850"/>
                </a:cubicBezTo>
                <a:cubicBezTo>
                  <a:pt x="18704" y="15866"/>
                  <a:pt x="18719" y="15892"/>
                  <a:pt x="18752" y="15925"/>
                </a:cubicBezTo>
                <a:cubicBezTo>
                  <a:pt x="18808" y="15981"/>
                  <a:pt x="18830" y="16039"/>
                  <a:pt x="18876" y="16098"/>
                </a:cubicBezTo>
                <a:cubicBezTo>
                  <a:pt x="18926" y="16163"/>
                  <a:pt x="18987" y="16248"/>
                  <a:pt x="19025" y="16321"/>
                </a:cubicBezTo>
                <a:cubicBezTo>
                  <a:pt x="19074" y="16416"/>
                  <a:pt x="19079" y="16521"/>
                  <a:pt x="19100" y="16619"/>
                </a:cubicBezTo>
                <a:cubicBezTo>
                  <a:pt x="19122" y="16720"/>
                  <a:pt x="19149" y="16787"/>
                  <a:pt x="19149" y="16892"/>
                </a:cubicBezTo>
                <a:cubicBezTo>
                  <a:pt x="19149" y="16977"/>
                  <a:pt x="19144" y="17059"/>
                  <a:pt x="19124" y="17140"/>
                </a:cubicBezTo>
                <a:cubicBezTo>
                  <a:pt x="19107" y="17208"/>
                  <a:pt x="19084" y="17304"/>
                  <a:pt x="19050" y="17363"/>
                </a:cubicBezTo>
                <a:cubicBezTo>
                  <a:pt x="18999" y="17453"/>
                  <a:pt x="18943" y="17543"/>
                  <a:pt x="18901" y="17636"/>
                </a:cubicBezTo>
                <a:cubicBezTo>
                  <a:pt x="18862" y="17723"/>
                  <a:pt x="18818" y="17788"/>
                  <a:pt x="18752" y="17859"/>
                </a:cubicBezTo>
                <a:cubicBezTo>
                  <a:pt x="18691" y="17924"/>
                  <a:pt x="18644" y="17993"/>
                  <a:pt x="18579" y="18058"/>
                </a:cubicBezTo>
                <a:cubicBezTo>
                  <a:pt x="18529" y="18108"/>
                  <a:pt x="18479" y="18157"/>
                  <a:pt x="18430" y="18207"/>
                </a:cubicBezTo>
              </a:path>
              <a:path w="2010" h="2383">
                <a:moveTo>
                  <a:pt x="17487" y="16173"/>
                </a:moveTo>
                <a:cubicBezTo>
                  <a:pt x="17479" y="16173"/>
                  <a:pt x="17470" y="16173"/>
                  <a:pt x="17462" y="16173"/>
                </a:cubicBezTo>
                <a:cubicBezTo>
                  <a:pt x="17514" y="16211"/>
                  <a:pt x="17550" y="16180"/>
                  <a:pt x="17611" y="16197"/>
                </a:cubicBezTo>
                <a:cubicBezTo>
                  <a:pt x="17644" y="16206"/>
                  <a:pt x="17743" y="16220"/>
                  <a:pt x="17760" y="16247"/>
                </a:cubicBezTo>
                <a:cubicBezTo>
                  <a:pt x="17790" y="16296"/>
                  <a:pt x="17708" y="16408"/>
                  <a:pt x="17686" y="16446"/>
                </a:cubicBezTo>
                <a:cubicBezTo>
                  <a:pt x="17632" y="16539"/>
                  <a:pt x="17563" y="16622"/>
                  <a:pt x="17512" y="16718"/>
                </a:cubicBezTo>
                <a:cubicBezTo>
                  <a:pt x="17504" y="16735"/>
                  <a:pt x="17495" y="16751"/>
                  <a:pt x="17487" y="16768"/>
                </a:cubicBezTo>
              </a:path>
              <a:path w="2010" h="2383">
                <a:moveTo>
                  <a:pt x="17239" y="17264"/>
                </a:moveTo>
                <a:cubicBezTo>
                  <a:pt x="17206" y="17264"/>
                  <a:pt x="17173" y="17264"/>
                  <a:pt x="17140" y="17264"/>
                </a:cubicBezTo>
                <a:cubicBezTo>
                  <a:pt x="17190" y="17234"/>
                  <a:pt x="17227" y="17239"/>
                  <a:pt x="17289" y="17239"/>
                </a:cubicBezTo>
              </a:path>
              <a:path w="2010" h="2383">
                <a:moveTo>
                  <a:pt x="17686" y="17190"/>
                </a:moveTo>
                <a:cubicBezTo>
                  <a:pt x="17686" y="17150"/>
                  <a:pt x="17692" y="17110"/>
                  <a:pt x="17735" y="17090"/>
                </a:cubicBezTo>
                <a:cubicBezTo>
                  <a:pt x="17797" y="17062"/>
                  <a:pt x="17865" y="17066"/>
                  <a:pt x="17934" y="17066"/>
                </a:cubicBezTo>
                <a:cubicBezTo>
                  <a:pt x="17992" y="17066"/>
                  <a:pt x="18051" y="17076"/>
                  <a:pt x="18058" y="17140"/>
                </a:cubicBezTo>
                <a:cubicBezTo>
                  <a:pt x="18066" y="17213"/>
                  <a:pt x="18002" y="17251"/>
                  <a:pt x="17959" y="17289"/>
                </a:cubicBezTo>
                <a:cubicBezTo>
                  <a:pt x="17917" y="17326"/>
                  <a:pt x="17877" y="17353"/>
                  <a:pt x="17835" y="17388"/>
                </a:cubicBezTo>
                <a:cubicBezTo>
                  <a:pt x="17835" y="17464"/>
                  <a:pt x="17876" y="17447"/>
                  <a:pt x="17934" y="17487"/>
                </a:cubicBezTo>
                <a:cubicBezTo>
                  <a:pt x="17973" y="17514"/>
                  <a:pt x="18020" y="17560"/>
                  <a:pt x="18008" y="17611"/>
                </a:cubicBezTo>
                <a:cubicBezTo>
                  <a:pt x="17984" y="17713"/>
                  <a:pt x="17896" y="17732"/>
                  <a:pt x="17810" y="17735"/>
                </a:cubicBezTo>
                <a:cubicBezTo>
                  <a:pt x="17735" y="17735"/>
                  <a:pt x="17711" y="17735"/>
                  <a:pt x="17661" y="177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86160" y="5749920"/>
            <a:ext cx="88920" cy="9036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2080" y="15974"/>
                </a:moveTo>
                <a:cubicBezTo>
                  <a:pt x="12105" y="15978"/>
                  <a:pt x="12180" y="15999"/>
                  <a:pt x="12129" y="15999"/>
                </a:cubicBezTo>
                <a:cubicBezTo>
                  <a:pt x="12055" y="15999"/>
                  <a:pt x="11980" y="15999"/>
                  <a:pt x="11906" y="15999"/>
                </a:cubicBezTo>
              </a:path>
              <a:path w="249" h="249">
                <a:moveTo>
                  <a:pt x="12154" y="16222"/>
                </a:moveTo>
                <a:cubicBezTo>
                  <a:pt x="12104" y="16222"/>
                  <a:pt x="12055" y="16222"/>
                  <a:pt x="12005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80080" y="1500120"/>
            <a:ext cx="115920" cy="9864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15900" y="4217"/>
                </a:moveTo>
                <a:cubicBezTo>
                  <a:pt x="15923" y="4194"/>
                  <a:pt x="15931" y="4190"/>
                  <a:pt x="15925" y="4167"/>
                </a:cubicBezTo>
                <a:cubicBezTo>
                  <a:pt x="15873" y="4167"/>
                  <a:pt x="15872" y="4162"/>
                  <a:pt x="15850" y="4192"/>
                </a:cubicBezTo>
                <a:cubicBezTo>
                  <a:pt x="15817" y="4236"/>
                  <a:pt x="15780" y="4254"/>
                  <a:pt x="15776" y="4316"/>
                </a:cubicBezTo>
                <a:cubicBezTo>
                  <a:pt x="15773" y="4356"/>
                  <a:pt x="15776" y="4400"/>
                  <a:pt x="15776" y="4440"/>
                </a:cubicBezTo>
                <a:cubicBezTo>
                  <a:pt x="15856" y="4440"/>
                  <a:pt x="15818" y="4448"/>
                  <a:pt x="15850" y="4390"/>
                </a:cubicBezTo>
                <a:cubicBezTo>
                  <a:pt x="15877" y="4341"/>
                  <a:pt x="15910" y="4292"/>
                  <a:pt x="15925" y="4242"/>
                </a:cubicBezTo>
                <a:cubicBezTo>
                  <a:pt x="15925" y="4217"/>
                  <a:pt x="15925" y="4209"/>
                  <a:pt x="15949" y="4217"/>
                </a:cubicBezTo>
                <a:cubicBezTo>
                  <a:pt x="15955" y="4256"/>
                  <a:pt x="15972" y="4326"/>
                  <a:pt x="16024" y="4341"/>
                </a:cubicBezTo>
                <a:cubicBezTo>
                  <a:pt x="16065" y="4341"/>
                  <a:pt x="16073" y="4341"/>
                  <a:pt x="16098" y="43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47640" y="1341360"/>
                <a:ext cx="16560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995640" y="1341360"/>
                <a:ext cx="20541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324000" y="2276640"/>
            <a:ext cx="1655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|A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|B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B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48360" y="2276640"/>
            <a:ext cx="1655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B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B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34136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85840" y="249408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1989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Christmas, they buy twice as much food. How much do they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4221000"/>
            <a:ext cx="1441440" cy="1079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0760" y="308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221000"/>
            <a:ext cx="14396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2     4   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1     7   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451008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450864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4221000"/>
            <a:ext cx="1728720" cy="1079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4221000"/>
            <a:ext cx="1728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450864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221000"/>
            <a:ext cx="1441440" cy="1079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4221000"/>
            <a:ext cx="1440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9999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9999"/>
                </a:solidFill>
                <a:latin typeface="Arial"/>
              </a:rPr>
              <a:t>8  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9999"/>
                </a:solidFill>
                <a:latin typeface="Arial"/>
              </a:rPr>
              <a:t>2  14  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99000" y="4098960"/>
            <a:ext cx="679320" cy="874800"/>
          </a:xfrm>
          <a:custGeom>
            <a:avLst/>
            <a:gdLst/>
            <a:ahLst/>
            <a:rect l="l" t="t" r="r" b="b"/>
            <a:pathLst>
              <a:path w="1887" h="2432">
                <a:moveTo>
                  <a:pt x="13940" y="12030"/>
                </a:moveTo>
                <a:cubicBezTo>
                  <a:pt x="13990" y="11980"/>
                  <a:pt x="14008" y="11945"/>
                  <a:pt x="14064" y="11931"/>
                </a:cubicBezTo>
                <a:cubicBezTo>
                  <a:pt x="14032" y="11985"/>
                  <a:pt x="13993" y="12041"/>
                  <a:pt x="13965" y="12105"/>
                </a:cubicBezTo>
                <a:cubicBezTo>
                  <a:pt x="13930" y="12185"/>
                  <a:pt x="13897" y="12266"/>
                  <a:pt x="13891" y="12353"/>
                </a:cubicBezTo>
                <a:cubicBezTo>
                  <a:pt x="13891" y="12378"/>
                  <a:pt x="13891" y="12386"/>
                  <a:pt x="13891" y="12402"/>
                </a:cubicBezTo>
                <a:cubicBezTo>
                  <a:pt x="13963" y="12402"/>
                  <a:pt x="14045" y="12393"/>
                  <a:pt x="14114" y="12378"/>
                </a:cubicBezTo>
                <a:cubicBezTo>
                  <a:pt x="14220" y="12354"/>
                  <a:pt x="14309" y="12335"/>
                  <a:pt x="14412" y="12378"/>
                </a:cubicBezTo>
                <a:cubicBezTo>
                  <a:pt x="14459" y="12398"/>
                  <a:pt x="14514" y="12422"/>
                  <a:pt x="14560" y="12427"/>
                </a:cubicBezTo>
                <a:cubicBezTo>
                  <a:pt x="14592" y="12431"/>
                  <a:pt x="14627" y="12427"/>
                  <a:pt x="14660" y="12427"/>
                </a:cubicBezTo>
              </a:path>
              <a:path w="1887" h="2432">
                <a:moveTo>
                  <a:pt x="14387" y="12179"/>
                </a:moveTo>
                <a:cubicBezTo>
                  <a:pt x="14346" y="12206"/>
                  <a:pt x="14362" y="12289"/>
                  <a:pt x="14362" y="12353"/>
                </a:cubicBezTo>
                <a:cubicBezTo>
                  <a:pt x="14362" y="12436"/>
                  <a:pt x="14362" y="12518"/>
                  <a:pt x="14362" y="12601"/>
                </a:cubicBezTo>
              </a:path>
              <a:path w="1887" h="2432">
                <a:moveTo>
                  <a:pt x="13271" y="11460"/>
                </a:moveTo>
                <a:cubicBezTo>
                  <a:pt x="13288" y="11430"/>
                  <a:pt x="13303" y="11415"/>
                  <a:pt x="13320" y="11385"/>
                </a:cubicBezTo>
                <a:cubicBezTo>
                  <a:pt x="13241" y="11421"/>
                  <a:pt x="13270" y="11383"/>
                  <a:pt x="13196" y="11485"/>
                </a:cubicBezTo>
                <a:cubicBezTo>
                  <a:pt x="13095" y="11625"/>
                  <a:pt x="12984" y="11794"/>
                  <a:pt x="12923" y="11956"/>
                </a:cubicBezTo>
                <a:cubicBezTo>
                  <a:pt x="12841" y="12173"/>
                  <a:pt x="12781" y="12396"/>
                  <a:pt x="12774" y="12626"/>
                </a:cubicBezTo>
                <a:cubicBezTo>
                  <a:pt x="12767" y="12836"/>
                  <a:pt x="12762" y="13058"/>
                  <a:pt x="12874" y="13246"/>
                </a:cubicBezTo>
                <a:cubicBezTo>
                  <a:pt x="12978" y="13421"/>
                  <a:pt x="13138" y="13588"/>
                  <a:pt x="13271" y="13742"/>
                </a:cubicBezTo>
                <a:cubicBezTo>
                  <a:pt x="13317" y="13788"/>
                  <a:pt x="13329" y="13802"/>
                  <a:pt x="13370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59680" y="4340160"/>
            <a:ext cx="179280" cy="19692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17661" y="12080"/>
                </a:moveTo>
                <a:cubicBezTo>
                  <a:pt x="17693" y="12075"/>
                  <a:pt x="17761" y="12081"/>
                  <a:pt x="17711" y="12055"/>
                </a:cubicBezTo>
                <a:cubicBezTo>
                  <a:pt x="17636" y="12055"/>
                  <a:pt x="17582" y="12075"/>
                  <a:pt x="17512" y="12105"/>
                </a:cubicBezTo>
                <a:cubicBezTo>
                  <a:pt x="17444" y="12133"/>
                  <a:pt x="17428" y="12147"/>
                  <a:pt x="17388" y="12204"/>
                </a:cubicBezTo>
                <a:cubicBezTo>
                  <a:pt x="17400" y="12253"/>
                  <a:pt x="17456" y="12293"/>
                  <a:pt x="17512" y="12303"/>
                </a:cubicBezTo>
                <a:cubicBezTo>
                  <a:pt x="17596" y="12317"/>
                  <a:pt x="17685" y="12324"/>
                  <a:pt x="17760" y="12378"/>
                </a:cubicBezTo>
                <a:cubicBezTo>
                  <a:pt x="17809" y="12414"/>
                  <a:pt x="17834" y="12489"/>
                  <a:pt x="17810" y="12551"/>
                </a:cubicBezTo>
                <a:cubicBezTo>
                  <a:pt x="17789" y="12605"/>
                  <a:pt x="17682" y="12614"/>
                  <a:pt x="17636" y="12601"/>
                </a:cubicBezTo>
                <a:cubicBezTo>
                  <a:pt x="17579" y="12585"/>
                  <a:pt x="17495" y="12548"/>
                  <a:pt x="17512" y="12477"/>
                </a:cubicBezTo>
                <a:cubicBezTo>
                  <a:pt x="17535" y="12378"/>
                  <a:pt x="17674" y="12282"/>
                  <a:pt x="17735" y="12204"/>
                </a:cubicBezTo>
                <a:cubicBezTo>
                  <a:pt x="17799" y="12122"/>
                  <a:pt x="17788" y="12117"/>
                  <a:pt x="17884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75680" y="4286160"/>
            <a:ext cx="750600" cy="849240"/>
          </a:xfrm>
          <a:custGeom>
            <a:avLst/>
            <a:gdLst/>
            <a:ahLst/>
            <a:rect l="l" t="t" r="r" b="b"/>
            <a:pathLst>
              <a:path w="2084" h="2358">
                <a:moveTo>
                  <a:pt x="20489" y="12303"/>
                </a:moveTo>
                <a:cubicBezTo>
                  <a:pt x="20529" y="12283"/>
                  <a:pt x="20535" y="12274"/>
                  <a:pt x="20563" y="12278"/>
                </a:cubicBezTo>
                <a:cubicBezTo>
                  <a:pt x="20548" y="12369"/>
                  <a:pt x="20534" y="12459"/>
                  <a:pt x="20513" y="12551"/>
                </a:cubicBezTo>
                <a:cubicBezTo>
                  <a:pt x="20493" y="12641"/>
                  <a:pt x="20489" y="12708"/>
                  <a:pt x="20489" y="12799"/>
                </a:cubicBezTo>
              </a:path>
              <a:path w="2084" h="2358">
                <a:moveTo>
                  <a:pt x="20886" y="12502"/>
                </a:moveTo>
                <a:cubicBezTo>
                  <a:pt x="20898" y="12418"/>
                  <a:pt x="20910" y="12437"/>
                  <a:pt x="20985" y="12402"/>
                </a:cubicBezTo>
                <a:cubicBezTo>
                  <a:pt x="21071" y="12362"/>
                  <a:pt x="21153" y="12289"/>
                  <a:pt x="21258" y="12328"/>
                </a:cubicBezTo>
                <a:cubicBezTo>
                  <a:pt x="21405" y="12383"/>
                  <a:pt x="21419" y="12568"/>
                  <a:pt x="21406" y="12700"/>
                </a:cubicBezTo>
                <a:cubicBezTo>
                  <a:pt x="21391" y="12852"/>
                  <a:pt x="21286" y="12946"/>
                  <a:pt x="21134" y="12874"/>
                </a:cubicBezTo>
                <a:cubicBezTo>
                  <a:pt x="20973" y="12798"/>
                  <a:pt x="20940" y="12687"/>
                  <a:pt x="20935" y="12526"/>
                </a:cubicBezTo>
                <a:cubicBezTo>
                  <a:pt x="20935" y="12501"/>
                  <a:pt x="20935" y="12477"/>
                  <a:pt x="20935" y="12452"/>
                </a:cubicBezTo>
              </a:path>
              <a:path w="2084" h="2358">
                <a:moveTo>
                  <a:pt x="22151" y="11931"/>
                </a:moveTo>
                <a:cubicBezTo>
                  <a:pt x="22181" y="11925"/>
                  <a:pt x="22166" y="11902"/>
                  <a:pt x="22225" y="11956"/>
                </a:cubicBezTo>
                <a:cubicBezTo>
                  <a:pt x="22285" y="12010"/>
                  <a:pt x="22308" y="12063"/>
                  <a:pt x="22349" y="12129"/>
                </a:cubicBezTo>
                <a:cubicBezTo>
                  <a:pt x="22407" y="12224"/>
                  <a:pt x="22459" y="12323"/>
                  <a:pt x="22498" y="12427"/>
                </a:cubicBezTo>
                <a:cubicBezTo>
                  <a:pt x="22538" y="12534"/>
                  <a:pt x="22569" y="12636"/>
                  <a:pt x="22572" y="12750"/>
                </a:cubicBezTo>
                <a:cubicBezTo>
                  <a:pt x="22578" y="12951"/>
                  <a:pt x="22597" y="13175"/>
                  <a:pt x="22547" y="13370"/>
                </a:cubicBezTo>
                <a:cubicBezTo>
                  <a:pt x="22516" y="13493"/>
                  <a:pt x="22420" y="13590"/>
                  <a:pt x="22349" y="13692"/>
                </a:cubicBezTo>
                <a:cubicBezTo>
                  <a:pt x="22271" y="13804"/>
                  <a:pt x="22173" y="13872"/>
                  <a:pt x="22076" y="13965"/>
                </a:cubicBezTo>
                <a:cubicBezTo>
                  <a:pt x="21993" y="14045"/>
                  <a:pt x="21891" y="14091"/>
                  <a:pt x="21803" y="14163"/>
                </a:cubicBezTo>
                <a:cubicBezTo>
                  <a:pt x="21754" y="14213"/>
                  <a:pt x="21737" y="14230"/>
                  <a:pt x="21704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81760" y="4660920"/>
            <a:ext cx="204480" cy="223920"/>
          </a:xfrm>
          <a:custGeom>
            <a:avLst/>
            <a:gdLst/>
            <a:ahLst/>
            <a:rect l="l" t="t" r="r" b="b"/>
            <a:pathLst>
              <a:path w="571" h="621">
                <a:moveTo>
                  <a:pt x="14188" y="13171"/>
                </a:moveTo>
                <a:cubicBezTo>
                  <a:pt x="14153" y="13198"/>
                  <a:pt x="14158" y="13196"/>
                  <a:pt x="14114" y="13196"/>
                </a:cubicBezTo>
                <a:cubicBezTo>
                  <a:pt x="14128" y="13126"/>
                  <a:pt x="14162" y="13098"/>
                  <a:pt x="14213" y="13047"/>
                </a:cubicBezTo>
                <a:cubicBezTo>
                  <a:pt x="14293" y="12968"/>
                  <a:pt x="14350" y="12917"/>
                  <a:pt x="14461" y="12973"/>
                </a:cubicBezTo>
                <a:cubicBezTo>
                  <a:pt x="14574" y="13030"/>
                  <a:pt x="14487" y="13180"/>
                  <a:pt x="14461" y="13246"/>
                </a:cubicBezTo>
                <a:cubicBezTo>
                  <a:pt x="14422" y="13344"/>
                  <a:pt x="14361" y="13405"/>
                  <a:pt x="14312" y="13494"/>
                </a:cubicBezTo>
                <a:cubicBezTo>
                  <a:pt x="14292" y="13534"/>
                  <a:pt x="14284" y="13541"/>
                  <a:pt x="14288" y="13568"/>
                </a:cubicBezTo>
                <a:cubicBezTo>
                  <a:pt x="14367" y="13568"/>
                  <a:pt x="14436" y="13550"/>
                  <a:pt x="14511" y="13543"/>
                </a:cubicBezTo>
                <a:cubicBezTo>
                  <a:pt x="14602" y="13543"/>
                  <a:pt x="14626" y="13543"/>
                  <a:pt x="14684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05680" y="4670280"/>
            <a:ext cx="339480" cy="268560"/>
          </a:xfrm>
          <a:custGeom>
            <a:avLst/>
            <a:gdLst/>
            <a:ahLst/>
            <a:rect l="l" t="t" r="r" b="b"/>
            <a:pathLst>
              <a:path w="944" h="745">
                <a:moveTo>
                  <a:pt x="17264" y="13072"/>
                </a:moveTo>
                <a:cubicBezTo>
                  <a:pt x="17272" y="13064"/>
                  <a:pt x="17281" y="13055"/>
                  <a:pt x="17289" y="13047"/>
                </a:cubicBezTo>
                <a:cubicBezTo>
                  <a:pt x="17314" y="13109"/>
                  <a:pt x="17283" y="13214"/>
                  <a:pt x="17264" y="13295"/>
                </a:cubicBezTo>
                <a:cubicBezTo>
                  <a:pt x="17245" y="13377"/>
                  <a:pt x="17239" y="13436"/>
                  <a:pt x="17239" y="13519"/>
                </a:cubicBezTo>
              </a:path>
              <a:path w="944" h="745">
                <a:moveTo>
                  <a:pt x="17562" y="13022"/>
                </a:moveTo>
                <a:cubicBezTo>
                  <a:pt x="17587" y="13006"/>
                  <a:pt x="17611" y="12989"/>
                  <a:pt x="17636" y="12973"/>
                </a:cubicBezTo>
                <a:cubicBezTo>
                  <a:pt x="17636" y="13086"/>
                  <a:pt x="17624" y="13185"/>
                  <a:pt x="17611" y="13295"/>
                </a:cubicBezTo>
                <a:cubicBezTo>
                  <a:pt x="17605" y="13341"/>
                  <a:pt x="17601" y="13427"/>
                  <a:pt x="17661" y="13444"/>
                </a:cubicBezTo>
                <a:cubicBezTo>
                  <a:pt x="17802" y="13484"/>
                  <a:pt x="17973" y="13424"/>
                  <a:pt x="18107" y="13469"/>
                </a:cubicBezTo>
                <a:cubicBezTo>
                  <a:pt x="18126" y="13475"/>
                  <a:pt x="18162" y="13469"/>
                  <a:pt x="18182" y="13469"/>
                </a:cubicBezTo>
              </a:path>
              <a:path w="944" h="745">
                <a:moveTo>
                  <a:pt x="18008" y="13320"/>
                </a:moveTo>
                <a:cubicBezTo>
                  <a:pt x="18000" y="13304"/>
                  <a:pt x="17991" y="13287"/>
                  <a:pt x="17983" y="13271"/>
                </a:cubicBezTo>
                <a:cubicBezTo>
                  <a:pt x="17941" y="13327"/>
                  <a:pt x="17948" y="13374"/>
                  <a:pt x="17934" y="13444"/>
                </a:cubicBezTo>
                <a:cubicBezTo>
                  <a:pt x="17915" y="13540"/>
                  <a:pt x="17909" y="13620"/>
                  <a:pt x="17909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46960" y="4776840"/>
            <a:ext cx="125280" cy="223920"/>
          </a:xfrm>
          <a:custGeom>
            <a:avLst/>
            <a:gdLst/>
            <a:ahLst/>
            <a:rect l="l" t="t" r="r" b="b"/>
            <a:pathLst>
              <a:path w="348" h="621">
                <a:moveTo>
                  <a:pt x="20960" y="13320"/>
                </a:moveTo>
                <a:cubicBezTo>
                  <a:pt x="21000" y="13300"/>
                  <a:pt x="21017" y="13302"/>
                  <a:pt x="21010" y="13271"/>
                </a:cubicBezTo>
                <a:cubicBezTo>
                  <a:pt x="20933" y="13282"/>
                  <a:pt x="20888" y="13329"/>
                  <a:pt x="20836" y="13395"/>
                </a:cubicBezTo>
                <a:cubicBezTo>
                  <a:pt x="20771" y="13477"/>
                  <a:pt x="20683" y="13631"/>
                  <a:pt x="20687" y="13742"/>
                </a:cubicBezTo>
                <a:cubicBezTo>
                  <a:pt x="20690" y="13842"/>
                  <a:pt x="20763" y="13910"/>
                  <a:pt x="20861" y="13891"/>
                </a:cubicBezTo>
                <a:cubicBezTo>
                  <a:pt x="20924" y="13879"/>
                  <a:pt x="21018" y="13810"/>
                  <a:pt x="21034" y="13742"/>
                </a:cubicBezTo>
                <a:cubicBezTo>
                  <a:pt x="21034" y="13725"/>
                  <a:pt x="21034" y="13709"/>
                  <a:pt x="21034" y="13692"/>
                </a:cubicBezTo>
                <a:cubicBezTo>
                  <a:pt x="20958" y="13663"/>
                  <a:pt x="20894" y="13667"/>
                  <a:pt x="20811" y="13667"/>
                </a:cubicBezTo>
                <a:cubicBezTo>
                  <a:pt x="20786" y="13667"/>
                  <a:pt x="20762" y="13667"/>
                  <a:pt x="20737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3760" y="4643280"/>
            <a:ext cx="108000" cy="115920"/>
          </a:xfrm>
          <a:custGeom>
            <a:avLst/>
            <a:gdLst/>
            <a:ahLst/>
            <a:rect l="l" t="t" r="r" b="b"/>
            <a:pathLst>
              <a:path w="298" h="324">
                <a:moveTo>
                  <a:pt x="10765" y="12923"/>
                </a:moveTo>
                <a:cubicBezTo>
                  <a:pt x="10823" y="12923"/>
                  <a:pt x="10831" y="12923"/>
                  <a:pt x="10864" y="12923"/>
                </a:cubicBezTo>
                <a:cubicBezTo>
                  <a:pt x="10818" y="12887"/>
                  <a:pt x="10777" y="12898"/>
                  <a:pt x="10716" y="12898"/>
                </a:cubicBezTo>
                <a:cubicBezTo>
                  <a:pt x="10654" y="12898"/>
                  <a:pt x="10614" y="12888"/>
                  <a:pt x="10567" y="12923"/>
                </a:cubicBezTo>
              </a:path>
              <a:path w="298" h="324">
                <a:moveTo>
                  <a:pt x="10790" y="13097"/>
                </a:moveTo>
                <a:cubicBezTo>
                  <a:pt x="10833" y="13119"/>
                  <a:pt x="10845" y="13122"/>
                  <a:pt x="10864" y="13146"/>
                </a:cubicBezTo>
                <a:cubicBezTo>
                  <a:pt x="10842" y="13192"/>
                  <a:pt x="10774" y="13211"/>
                  <a:pt x="10716" y="13221"/>
                </a:cubicBezTo>
                <a:cubicBezTo>
                  <a:pt x="10699" y="13221"/>
                  <a:pt x="10683" y="13221"/>
                  <a:pt x="10666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55640" y="1484280"/>
                <a:ext cx="17002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148360" y="1413000"/>
                <a:ext cx="1930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4360" y="2781360"/>
            <a:ext cx="66960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2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3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21040" y="2919240"/>
            <a:ext cx="206280" cy="885960"/>
          </a:xfrm>
          <a:custGeom>
            <a:avLst/>
            <a:gdLst/>
            <a:ahLst/>
            <a:rect l="l" t="t" r="r" b="b"/>
            <a:pathLst>
              <a:path w="572" h="2457">
                <a:moveTo>
                  <a:pt x="11063" y="8161"/>
                </a:moveTo>
                <a:cubicBezTo>
                  <a:pt x="11086" y="8138"/>
                  <a:pt x="11094" y="8134"/>
                  <a:pt x="11088" y="8111"/>
                </a:cubicBezTo>
                <a:cubicBezTo>
                  <a:pt x="11063" y="8125"/>
                  <a:pt x="11024" y="8155"/>
                  <a:pt x="11013" y="8161"/>
                </a:cubicBezTo>
                <a:cubicBezTo>
                  <a:pt x="10949" y="8200"/>
                  <a:pt x="10935" y="8195"/>
                  <a:pt x="10889" y="8260"/>
                </a:cubicBezTo>
                <a:cubicBezTo>
                  <a:pt x="10836" y="8335"/>
                  <a:pt x="10838" y="8403"/>
                  <a:pt x="10815" y="8483"/>
                </a:cubicBezTo>
                <a:cubicBezTo>
                  <a:pt x="10793" y="8560"/>
                  <a:pt x="10745" y="8631"/>
                  <a:pt x="10716" y="8706"/>
                </a:cubicBezTo>
                <a:cubicBezTo>
                  <a:pt x="10680" y="8800"/>
                  <a:pt x="10652" y="8906"/>
                  <a:pt x="10641" y="9004"/>
                </a:cubicBezTo>
                <a:cubicBezTo>
                  <a:pt x="10630" y="9105"/>
                  <a:pt x="10616" y="9198"/>
                  <a:pt x="10616" y="9302"/>
                </a:cubicBezTo>
                <a:cubicBezTo>
                  <a:pt x="10616" y="9400"/>
                  <a:pt x="10613" y="9481"/>
                  <a:pt x="10641" y="9575"/>
                </a:cubicBezTo>
                <a:cubicBezTo>
                  <a:pt x="10681" y="9707"/>
                  <a:pt x="10722" y="9851"/>
                  <a:pt x="10790" y="9971"/>
                </a:cubicBezTo>
                <a:cubicBezTo>
                  <a:pt x="10871" y="10113"/>
                  <a:pt x="10947" y="10257"/>
                  <a:pt x="11038" y="10393"/>
                </a:cubicBezTo>
                <a:cubicBezTo>
                  <a:pt x="11083" y="10461"/>
                  <a:pt x="11130" y="10510"/>
                  <a:pt x="11187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00680" y="3027240"/>
            <a:ext cx="465120" cy="223920"/>
          </a:xfrm>
          <a:custGeom>
            <a:avLst/>
            <a:gdLst/>
            <a:ahLst/>
            <a:rect l="l" t="t" r="r" b="b"/>
            <a:pathLst>
              <a:path w="1291" h="621">
                <a:moveTo>
                  <a:pt x="11162" y="8632"/>
                </a:moveTo>
                <a:cubicBezTo>
                  <a:pt x="11139" y="8655"/>
                  <a:pt x="11135" y="8663"/>
                  <a:pt x="11112" y="8657"/>
                </a:cubicBezTo>
                <a:cubicBezTo>
                  <a:pt x="11112" y="8611"/>
                  <a:pt x="11106" y="8593"/>
                  <a:pt x="11137" y="8558"/>
                </a:cubicBezTo>
                <a:cubicBezTo>
                  <a:pt x="11171" y="8520"/>
                  <a:pt x="11205" y="8489"/>
                  <a:pt x="11261" y="8508"/>
                </a:cubicBezTo>
                <a:cubicBezTo>
                  <a:pt x="11337" y="8534"/>
                  <a:pt x="11357" y="8583"/>
                  <a:pt x="11361" y="8657"/>
                </a:cubicBezTo>
                <a:cubicBezTo>
                  <a:pt x="11365" y="8730"/>
                  <a:pt x="11318" y="8791"/>
                  <a:pt x="11286" y="8855"/>
                </a:cubicBezTo>
                <a:cubicBezTo>
                  <a:pt x="11260" y="8907"/>
                  <a:pt x="11237" y="8923"/>
                  <a:pt x="11237" y="8979"/>
                </a:cubicBezTo>
                <a:cubicBezTo>
                  <a:pt x="11237" y="9004"/>
                  <a:pt x="11237" y="9012"/>
                  <a:pt x="11237" y="9029"/>
                </a:cubicBezTo>
                <a:cubicBezTo>
                  <a:pt x="11297" y="9029"/>
                  <a:pt x="11469" y="9053"/>
                  <a:pt x="11485" y="9004"/>
                </a:cubicBezTo>
              </a:path>
              <a:path w="1291" h="621">
                <a:moveTo>
                  <a:pt x="11832" y="8830"/>
                </a:moveTo>
                <a:cubicBezTo>
                  <a:pt x="11840" y="8830"/>
                  <a:pt x="11849" y="8830"/>
                  <a:pt x="11857" y="8830"/>
                </a:cubicBezTo>
                <a:cubicBezTo>
                  <a:pt x="11844" y="8794"/>
                  <a:pt x="11826" y="8806"/>
                  <a:pt x="11782" y="8806"/>
                </a:cubicBezTo>
                <a:cubicBezTo>
                  <a:pt x="11724" y="8806"/>
                  <a:pt x="11667" y="8806"/>
                  <a:pt x="11609" y="8806"/>
                </a:cubicBezTo>
              </a:path>
              <a:path w="1291" h="621">
                <a:moveTo>
                  <a:pt x="11633" y="8706"/>
                </a:moveTo>
                <a:cubicBezTo>
                  <a:pt x="11641" y="8698"/>
                  <a:pt x="11650" y="8690"/>
                  <a:pt x="11658" y="8682"/>
                </a:cubicBezTo>
                <a:cubicBezTo>
                  <a:pt x="11658" y="8764"/>
                  <a:pt x="11670" y="8829"/>
                  <a:pt x="11683" y="8905"/>
                </a:cubicBezTo>
                <a:cubicBezTo>
                  <a:pt x="11683" y="8921"/>
                  <a:pt x="11683" y="8938"/>
                  <a:pt x="11683" y="8954"/>
                </a:cubicBezTo>
              </a:path>
              <a:path w="1291" h="621">
                <a:moveTo>
                  <a:pt x="12030" y="8582"/>
                </a:moveTo>
                <a:cubicBezTo>
                  <a:pt x="12001" y="8545"/>
                  <a:pt x="12005" y="8531"/>
                  <a:pt x="12005" y="8483"/>
                </a:cubicBezTo>
                <a:cubicBezTo>
                  <a:pt x="12005" y="8435"/>
                  <a:pt x="12063" y="8420"/>
                  <a:pt x="12105" y="8409"/>
                </a:cubicBezTo>
                <a:cubicBezTo>
                  <a:pt x="12148" y="8398"/>
                  <a:pt x="12226" y="8398"/>
                  <a:pt x="12254" y="8434"/>
                </a:cubicBezTo>
                <a:cubicBezTo>
                  <a:pt x="12300" y="8493"/>
                  <a:pt x="12281" y="8571"/>
                  <a:pt x="12254" y="8632"/>
                </a:cubicBezTo>
                <a:cubicBezTo>
                  <a:pt x="12224" y="8701"/>
                  <a:pt x="12201" y="8763"/>
                  <a:pt x="12179" y="8830"/>
                </a:cubicBezTo>
                <a:cubicBezTo>
                  <a:pt x="12162" y="8882"/>
                  <a:pt x="12154" y="8881"/>
                  <a:pt x="12154" y="8930"/>
                </a:cubicBezTo>
                <a:cubicBezTo>
                  <a:pt x="12237" y="8930"/>
                  <a:pt x="12319" y="8930"/>
                  <a:pt x="12402" y="8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89680" y="3081240"/>
            <a:ext cx="260280" cy="196920"/>
          </a:xfrm>
          <a:custGeom>
            <a:avLst/>
            <a:gdLst/>
            <a:ahLst/>
            <a:rect l="l" t="t" r="r" b="b"/>
            <a:pathLst>
              <a:path w="720" h="546">
                <a:moveTo>
                  <a:pt x="14213" y="8558"/>
                </a:moveTo>
                <a:cubicBezTo>
                  <a:pt x="14213" y="8606"/>
                  <a:pt x="14202" y="8663"/>
                  <a:pt x="14188" y="8706"/>
                </a:cubicBezTo>
                <a:cubicBezTo>
                  <a:pt x="14168" y="8765"/>
                  <a:pt x="14181" y="8824"/>
                  <a:pt x="14163" y="8880"/>
                </a:cubicBezTo>
                <a:cubicBezTo>
                  <a:pt x="14147" y="8931"/>
                  <a:pt x="14113" y="8971"/>
                  <a:pt x="14188" y="8979"/>
                </a:cubicBezTo>
                <a:cubicBezTo>
                  <a:pt x="14243" y="8985"/>
                  <a:pt x="14267" y="8957"/>
                  <a:pt x="14312" y="8954"/>
                </a:cubicBezTo>
                <a:cubicBezTo>
                  <a:pt x="14353" y="8951"/>
                  <a:pt x="14395" y="8954"/>
                  <a:pt x="14436" y="8954"/>
                </a:cubicBezTo>
              </a:path>
              <a:path w="720" h="546">
                <a:moveTo>
                  <a:pt x="14337" y="8855"/>
                </a:moveTo>
                <a:cubicBezTo>
                  <a:pt x="14337" y="8793"/>
                  <a:pt x="14313" y="8914"/>
                  <a:pt x="14312" y="8930"/>
                </a:cubicBezTo>
                <a:cubicBezTo>
                  <a:pt x="14309" y="8987"/>
                  <a:pt x="14312" y="9046"/>
                  <a:pt x="14312" y="9103"/>
                </a:cubicBezTo>
              </a:path>
              <a:path w="720" h="546">
                <a:moveTo>
                  <a:pt x="14858" y="8905"/>
                </a:moveTo>
                <a:cubicBezTo>
                  <a:pt x="14792" y="8905"/>
                  <a:pt x="14726" y="8905"/>
                  <a:pt x="14660" y="8905"/>
                </a:cubicBezTo>
              </a:path>
              <a:path w="720" h="546">
                <a:moveTo>
                  <a:pt x="14684" y="8806"/>
                </a:moveTo>
                <a:cubicBezTo>
                  <a:pt x="14692" y="8798"/>
                  <a:pt x="14701" y="8789"/>
                  <a:pt x="14709" y="8781"/>
                </a:cubicBezTo>
                <a:cubicBezTo>
                  <a:pt x="14709" y="8834"/>
                  <a:pt x="14731" y="8850"/>
                  <a:pt x="14734" y="8905"/>
                </a:cubicBezTo>
                <a:cubicBezTo>
                  <a:pt x="14736" y="8946"/>
                  <a:pt x="14734" y="8988"/>
                  <a:pt x="14734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56160" y="3224160"/>
            <a:ext cx="61920" cy="1800"/>
          </a:xfrm>
          <a:custGeom>
            <a:avLst/>
            <a:gdLst/>
            <a:ahLst/>
            <a:rect l="l" t="t" r="r" b="b"/>
            <a:pathLst>
              <a:path w="174" h="1">
                <a:moveTo>
                  <a:pt x="15180" y="8954"/>
                </a:moveTo>
                <a:cubicBezTo>
                  <a:pt x="15172" y="8954"/>
                  <a:pt x="15164" y="8954"/>
                  <a:pt x="15156" y="8954"/>
                </a:cubicBezTo>
                <a:cubicBezTo>
                  <a:pt x="15214" y="8954"/>
                  <a:pt x="15271" y="8954"/>
                  <a:pt x="15329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16720" y="3089160"/>
            <a:ext cx="107640" cy="179640"/>
          </a:xfrm>
          <a:custGeom>
            <a:avLst/>
            <a:gdLst/>
            <a:ahLst/>
            <a:rect l="l" t="t" r="r" b="b"/>
            <a:pathLst>
              <a:path w="299" h="498">
                <a:moveTo>
                  <a:pt x="15652" y="8731"/>
                </a:moveTo>
                <a:cubicBezTo>
                  <a:pt x="15652" y="8703"/>
                  <a:pt x="15654" y="8692"/>
                  <a:pt x="15677" y="8682"/>
                </a:cubicBezTo>
                <a:cubicBezTo>
                  <a:pt x="15648" y="8710"/>
                  <a:pt x="15614" y="8745"/>
                  <a:pt x="15602" y="8781"/>
                </a:cubicBezTo>
                <a:cubicBezTo>
                  <a:pt x="15589" y="8820"/>
                  <a:pt x="15606" y="8892"/>
                  <a:pt x="15652" y="8905"/>
                </a:cubicBezTo>
                <a:cubicBezTo>
                  <a:pt x="15697" y="8918"/>
                  <a:pt x="15738" y="8929"/>
                  <a:pt x="15776" y="8954"/>
                </a:cubicBezTo>
                <a:cubicBezTo>
                  <a:pt x="15809" y="8976"/>
                  <a:pt x="15817" y="9033"/>
                  <a:pt x="15776" y="9054"/>
                </a:cubicBezTo>
                <a:cubicBezTo>
                  <a:pt x="15748" y="9068"/>
                  <a:pt x="15689" y="9097"/>
                  <a:pt x="15652" y="9079"/>
                </a:cubicBezTo>
                <a:cubicBezTo>
                  <a:pt x="15644" y="9071"/>
                  <a:pt x="15635" y="9062"/>
                  <a:pt x="15627" y="9054"/>
                </a:cubicBezTo>
              </a:path>
              <a:path w="299" h="498">
                <a:moveTo>
                  <a:pt x="15900" y="8632"/>
                </a:moveTo>
                <a:cubicBezTo>
                  <a:pt x="15900" y="8607"/>
                  <a:pt x="15900" y="8599"/>
                  <a:pt x="15900" y="8582"/>
                </a:cubicBezTo>
                <a:cubicBezTo>
                  <a:pt x="15846" y="8582"/>
                  <a:pt x="15830" y="8604"/>
                  <a:pt x="15776" y="8607"/>
                </a:cubicBezTo>
                <a:cubicBezTo>
                  <a:pt x="15759" y="8607"/>
                  <a:pt x="15743" y="8607"/>
                  <a:pt x="15726" y="86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27320" y="3562200"/>
            <a:ext cx="830520" cy="179640"/>
          </a:xfrm>
          <a:custGeom>
            <a:avLst/>
            <a:gdLst/>
            <a:ahLst/>
            <a:rect l="l" t="t" r="r" b="b"/>
            <a:pathLst>
              <a:path w="2308" h="497">
                <a:moveTo>
                  <a:pt x="11361" y="10294"/>
                </a:moveTo>
                <a:cubicBezTo>
                  <a:pt x="11369" y="10294"/>
                  <a:pt x="11377" y="10294"/>
                  <a:pt x="11385" y="10294"/>
                </a:cubicBezTo>
                <a:cubicBezTo>
                  <a:pt x="11338" y="10294"/>
                  <a:pt x="11322" y="10311"/>
                  <a:pt x="11286" y="10319"/>
                </a:cubicBezTo>
                <a:cubicBezTo>
                  <a:pt x="11221" y="10333"/>
                  <a:pt x="11237" y="10306"/>
                  <a:pt x="11187" y="10344"/>
                </a:cubicBezTo>
              </a:path>
              <a:path w="2308" h="497">
                <a:moveTo>
                  <a:pt x="11633" y="10021"/>
                </a:moveTo>
                <a:cubicBezTo>
                  <a:pt x="11643" y="9992"/>
                  <a:pt x="11667" y="9976"/>
                  <a:pt x="11708" y="9971"/>
                </a:cubicBezTo>
                <a:cubicBezTo>
                  <a:pt x="11771" y="9964"/>
                  <a:pt x="11855" y="9961"/>
                  <a:pt x="11881" y="9996"/>
                </a:cubicBezTo>
                <a:cubicBezTo>
                  <a:pt x="11916" y="10043"/>
                  <a:pt x="11914" y="10046"/>
                  <a:pt x="11881" y="10071"/>
                </a:cubicBezTo>
                <a:cubicBezTo>
                  <a:pt x="11866" y="10083"/>
                  <a:pt x="11785" y="10140"/>
                  <a:pt x="11782" y="10145"/>
                </a:cubicBezTo>
                <a:cubicBezTo>
                  <a:pt x="11782" y="10153"/>
                  <a:pt x="11782" y="10162"/>
                  <a:pt x="11782" y="10170"/>
                </a:cubicBezTo>
                <a:cubicBezTo>
                  <a:pt x="11822" y="10200"/>
                  <a:pt x="11863" y="10212"/>
                  <a:pt x="11906" y="10244"/>
                </a:cubicBezTo>
                <a:cubicBezTo>
                  <a:pt x="11959" y="10284"/>
                  <a:pt x="11919" y="10305"/>
                  <a:pt x="11906" y="10344"/>
                </a:cubicBezTo>
                <a:cubicBezTo>
                  <a:pt x="11901" y="10359"/>
                  <a:pt x="11835" y="10387"/>
                  <a:pt x="11807" y="10393"/>
                </a:cubicBezTo>
                <a:cubicBezTo>
                  <a:pt x="11790" y="10393"/>
                  <a:pt x="11774" y="10393"/>
                  <a:pt x="11757" y="10393"/>
                </a:cubicBezTo>
              </a:path>
              <a:path w="2308" h="497">
                <a:moveTo>
                  <a:pt x="12502" y="10269"/>
                </a:moveTo>
                <a:cubicBezTo>
                  <a:pt x="12510" y="10269"/>
                  <a:pt x="12518" y="10269"/>
                  <a:pt x="12526" y="10269"/>
                </a:cubicBezTo>
                <a:cubicBezTo>
                  <a:pt x="12514" y="10231"/>
                  <a:pt x="12497" y="10244"/>
                  <a:pt x="12452" y="10244"/>
                </a:cubicBezTo>
                <a:cubicBezTo>
                  <a:pt x="12383" y="10244"/>
                  <a:pt x="12335" y="10239"/>
                  <a:pt x="12278" y="10220"/>
                </a:cubicBezTo>
                <a:cubicBezTo>
                  <a:pt x="12270" y="10220"/>
                  <a:pt x="12262" y="10220"/>
                  <a:pt x="12254" y="10220"/>
                </a:cubicBezTo>
              </a:path>
              <a:path w="2308" h="497">
                <a:moveTo>
                  <a:pt x="12278" y="10046"/>
                </a:moveTo>
                <a:cubicBezTo>
                  <a:pt x="12323" y="10099"/>
                  <a:pt x="12366" y="10171"/>
                  <a:pt x="12378" y="10244"/>
                </a:cubicBezTo>
                <a:cubicBezTo>
                  <a:pt x="12378" y="10269"/>
                  <a:pt x="12378" y="10294"/>
                  <a:pt x="12378" y="10319"/>
                </a:cubicBezTo>
              </a:path>
              <a:path w="2308" h="497">
                <a:moveTo>
                  <a:pt x="12774" y="10220"/>
                </a:moveTo>
                <a:cubicBezTo>
                  <a:pt x="12774" y="10212"/>
                  <a:pt x="12774" y="10203"/>
                  <a:pt x="12774" y="10195"/>
                </a:cubicBezTo>
                <a:cubicBezTo>
                  <a:pt x="12817" y="10195"/>
                  <a:pt x="12812" y="10205"/>
                  <a:pt x="12824" y="10170"/>
                </a:cubicBezTo>
                <a:cubicBezTo>
                  <a:pt x="12865" y="10170"/>
                  <a:pt x="12907" y="10170"/>
                  <a:pt x="12948" y="10170"/>
                </a:cubicBezTo>
              </a:path>
              <a:path w="2308" h="497">
                <a:moveTo>
                  <a:pt x="13097" y="9922"/>
                </a:moveTo>
                <a:cubicBezTo>
                  <a:pt x="13113" y="9914"/>
                  <a:pt x="13130" y="9905"/>
                  <a:pt x="13146" y="9897"/>
                </a:cubicBezTo>
                <a:cubicBezTo>
                  <a:pt x="13146" y="10005"/>
                  <a:pt x="13146" y="10112"/>
                  <a:pt x="13146" y="10220"/>
                </a:cubicBezTo>
                <a:cubicBezTo>
                  <a:pt x="13200" y="10233"/>
                  <a:pt x="13209" y="10264"/>
                  <a:pt x="13271" y="10269"/>
                </a:cubicBezTo>
                <a:cubicBezTo>
                  <a:pt x="13344" y="10275"/>
                  <a:pt x="13420" y="10269"/>
                  <a:pt x="13494" y="10269"/>
                </a:cubicBezTo>
              </a:path>
              <a:path w="2308" h="497">
                <a:moveTo>
                  <a:pt x="13419" y="10145"/>
                </a:moveTo>
                <a:cubicBezTo>
                  <a:pt x="13403" y="10137"/>
                  <a:pt x="13386" y="10128"/>
                  <a:pt x="13370" y="10120"/>
                </a:cubicBezTo>
                <a:cubicBezTo>
                  <a:pt x="13370" y="10195"/>
                  <a:pt x="13370" y="10269"/>
                  <a:pt x="13370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14960" y="3009960"/>
            <a:ext cx="642960" cy="768240"/>
          </a:xfrm>
          <a:custGeom>
            <a:avLst/>
            <a:gdLst/>
            <a:ahLst/>
            <a:rect l="l" t="t" r="r" b="b"/>
            <a:pathLst>
              <a:path w="1787" h="2134">
                <a:moveTo>
                  <a:pt x="15801" y="8359"/>
                </a:moveTo>
                <a:cubicBezTo>
                  <a:pt x="15839" y="8387"/>
                  <a:pt x="15849" y="8405"/>
                  <a:pt x="15875" y="8434"/>
                </a:cubicBezTo>
                <a:cubicBezTo>
                  <a:pt x="15912" y="8476"/>
                  <a:pt x="15958" y="8498"/>
                  <a:pt x="15999" y="8533"/>
                </a:cubicBezTo>
                <a:cubicBezTo>
                  <a:pt x="16063" y="8588"/>
                  <a:pt x="16106" y="8683"/>
                  <a:pt x="16148" y="8756"/>
                </a:cubicBezTo>
                <a:cubicBezTo>
                  <a:pt x="16187" y="8823"/>
                  <a:pt x="16219" y="8907"/>
                  <a:pt x="16247" y="8979"/>
                </a:cubicBezTo>
                <a:cubicBezTo>
                  <a:pt x="16282" y="9068"/>
                  <a:pt x="16272" y="9158"/>
                  <a:pt x="16272" y="9252"/>
                </a:cubicBezTo>
                <a:cubicBezTo>
                  <a:pt x="16272" y="9333"/>
                  <a:pt x="16269" y="9424"/>
                  <a:pt x="16247" y="9500"/>
                </a:cubicBezTo>
                <a:cubicBezTo>
                  <a:pt x="16213" y="9617"/>
                  <a:pt x="16148" y="9715"/>
                  <a:pt x="16098" y="9823"/>
                </a:cubicBezTo>
                <a:cubicBezTo>
                  <a:pt x="16059" y="9907"/>
                  <a:pt x="16033" y="9997"/>
                  <a:pt x="15974" y="10071"/>
                </a:cubicBezTo>
                <a:cubicBezTo>
                  <a:pt x="15918" y="10142"/>
                  <a:pt x="15868" y="10211"/>
                  <a:pt x="15825" y="10294"/>
                </a:cubicBezTo>
                <a:cubicBezTo>
                  <a:pt x="15793" y="10355"/>
                  <a:pt x="15767" y="10414"/>
                  <a:pt x="15726" y="10468"/>
                </a:cubicBezTo>
                <a:cubicBezTo>
                  <a:pt x="15726" y="10492"/>
                  <a:pt x="15726" y="10500"/>
                  <a:pt x="15701" y="10492"/>
                </a:cubicBezTo>
              </a:path>
              <a:path w="1787" h="2134">
                <a:moveTo>
                  <a:pt x="14511" y="9947"/>
                </a:moveTo>
                <a:cubicBezTo>
                  <a:pt x="14511" y="9992"/>
                  <a:pt x="14490" y="10006"/>
                  <a:pt x="14486" y="10046"/>
                </a:cubicBezTo>
                <a:cubicBezTo>
                  <a:pt x="14480" y="10101"/>
                  <a:pt x="14477" y="10123"/>
                  <a:pt x="14536" y="10145"/>
                </a:cubicBezTo>
                <a:cubicBezTo>
                  <a:pt x="14595" y="10167"/>
                  <a:pt x="14629" y="10145"/>
                  <a:pt x="14684" y="10195"/>
                </a:cubicBezTo>
                <a:cubicBezTo>
                  <a:pt x="14722" y="10230"/>
                  <a:pt x="14709" y="10272"/>
                  <a:pt x="14709" y="10319"/>
                </a:cubicBezTo>
                <a:cubicBezTo>
                  <a:pt x="14652" y="10327"/>
                  <a:pt x="14622" y="10344"/>
                  <a:pt x="14560" y="10344"/>
                </a:cubicBezTo>
              </a:path>
              <a:path w="1787" h="2134">
                <a:moveTo>
                  <a:pt x="14759" y="9947"/>
                </a:moveTo>
                <a:cubicBezTo>
                  <a:pt x="14797" y="9908"/>
                  <a:pt x="14829" y="9891"/>
                  <a:pt x="14784" y="9897"/>
                </a:cubicBezTo>
                <a:cubicBezTo>
                  <a:pt x="14730" y="9908"/>
                  <a:pt x="14679" y="9920"/>
                  <a:pt x="14635" y="9947"/>
                </a:cubicBezTo>
              </a:path>
              <a:path w="1787" h="2134">
                <a:moveTo>
                  <a:pt x="15131" y="10096"/>
                </a:moveTo>
                <a:cubicBezTo>
                  <a:pt x="15147" y="10096"/>
                  <a:pt x="15164" y="10096"/>
                  <a:pt x="15180" y="10096"/>
                </a:cubicBezTo>
                <a:cubicBezTo>
                  <a:pt x="15106" y="10096"/>
                  <a:pt x="15031" y="10096"/>
                  <a:pt x="14957" y="10096"/>
                </a:cubicBezTo>
              </a:path>
              <a:path w="1787" h="2134">
                <a:moveTo>
                  <a:pt x="14957" y="9996"/>
                </a:moveTo>
                <a:cubicBezTo>
                  <a:pt x="14990" y="10018"/>
                  <a:pt x="15004" y="10087"/>
                  <a:pt x="15007" y="10145"/>
                </a:cubicBezTo>
                <a:cubicBezTo>
                  <a:pt x="15007" y="10197"/>
                  <a:pt x="15008" y="10215"/>
                  <a:pt x="15032" y="10244"/>
                </a:cubicBezTo>
              </a:path>
              <a:path w="1787" h="2134">
                <a:moveTo>
                  <a:pt x="15304" y="9922"/>
                </a:moveTo>
                <a:cubicBezTo>
                  <a:pt x="15353" y="9873"/>
                  <a:pt x="15359" y="9872"/>
                  <a:pt x="15429" y="9872"/>
                </a:cubicBezTo>
                <a:cubicBezTo>
                  <a:pt x="15470" y="9872"/>
                  <a:pt x="15512" y="9872"/>
                  <a:pt x="15553" y="9872"/>
                </a:cubicBezTo>
                <a:cubicBezTo>
                  <a:pt x="15540" y="9935"/>
                  <a:pt x="15509" y="9947"/>
                  <a:pt x="15478" y="9996"/>
                </a:cubicBezTo>
                <a:cubicBezTo>
                  <a:pt x="15456" y="10031"/>
                  <a:pt x="15438" y="10060"/>
                  <a:pt x="15429" y="10096"/>
                </a:cubicBezTo>
                <a:cubicBezTo>
                  <a:pt x="15470" y="10106"/>
                  <a:pt x="15498" y="10124"/>
                  <a:pt x="15503" y="10170"/>
                </a:cubicBezTo>
                <a:cubicBezTo>
                  <a:pt x="15508" y="10218"/>
                  <a:pt x="15463" y="10225"/>
                  <a:pt x="15429" y="102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96040" y="3017880"/>
            <a:ext cx="704880" cy="787320"/>
          </a:xfrm>
          <a:custGeom>
            <a:avLst/>
            <a:gdLst/>
            <a:ahLst/>
            <a:rect l="l" t="t" r="r" b="b"/>
            <a:pathLst>
              <a:path w="1961" h="2184">
                <a:moveTo>
                  <a:pt x="17711" y="9327"/>
                </a:moveTo>
                <a:cubicBezTo>
                  <a:pt x="17733" y="9304"/>
                  <a:pt x="17741" y="9299"/>
                  <a:pt x="17735" y="9277"/>
                </a:cubicBezTo>
                <a:cubicBezTo>
                  <a:pt x="17694" y="9287"/>
                  <a:pt x="17649" y="9319"/>
                  <a:pt x="17611" y="9327"/>
                </a:cubicBezTo>
                <a:cubicBezTo>
                  <a:pt x="17546" y="9340"/>
                  <a:pt x="17553" y="9324"/>
                  <a:pt x="17487" y="9351"/>
                </a:cubicBezTo>
              </a:path>
              <a:path w="1961" h="2184">
                <a:moveTo>
                  <a:pt x="17686" y="9475"/>
                </a:moveTo>
                <a:cubicBezTo>
                  <a:pt x="17756" y="9503"/>
                  <a:pt x="17770" y="9488"/>
                  <a:pt x="17785" y="9550"/>
                </a:cubicBezTo>
                <a:cubicBezTo>
                  <a:pt x="17752" y="9550"/>
                  <a:pt x="17719" y="9550"/>
                  <a:pt x="17686" y="9550"/>
                </a:cubicBezTo>
              </a:path>
              <a:path w="1961" h="2184">
                <a:moveTo>
                  <a:pt x="18926" y="8632"/>
                </a:moveTo>
                <a:cubicBezTo>
                  <a:pt x="18952" y="8597"/>
                  <a:pt x="18974" y="8569"/>
                  <a:pt x="18951" y="8632"/>
                </a:cubicBezTo>
                <a:cubicBezTo>
                  <a:pt x="18928" y="8698"/>
                  <a:pt x="18905" y="8760"/>
                  <a:pt x="18901" y="8830"/>
                </a:cubicBezTo>
                <a:cubicBezTo>
                  <a:pt x="18898" y="8887"/>
                  <a:pt x="18889" y="8937"/>
                  <a:pt x="18926" y="8979"/>
                </a:cubicBezTo>
                <a:cubicBezTo>
                  <a:pt x="18962" y="9020"/>
                  <a:pt x="19024" y="9004"/>
                  <a:pt x="19075" y="9004"/>
                </a:cubicBezTo>
                <a:cubicBezTo>
                  <a:pt x="19166" y="9004"/>
                  <a:pt x="19238" y="9009"/>
                  <a:pt x="19323" y="9029"/>
                </a:cubicBezTo>
                <a:cubicBezTo>
                  <a:pt x="19369" y="9040"/>
                  <a:pt x="19405" y="9044"/>
                  <a:pt x="19447" y="9054"/>
                </a:cubicBezTo>
              </a:path>
              <a:path w="1961" h="2184">
                <a:moveTo>
                  <a:pt x="19248" y="8930"/>
                </a:moveTo>
                <a:cubicBezTo>
                  <a:pt x="19232" y="8930"/>
                  <a:pt x="19215" y="8930"/>
                  <a:pt x="19199" y="8930"/>
                </a:cubicBezTo>
                <a:cubicBezTo>
                  <a:pt x="19199" y="9034"/>
                  <a:pt x="19208" y="9129"/>
                  <a:pt x="19224" y="9227"/>
                </a:cubicBezTo>
                <a:cubicBezTo>
                  <a:pt x="19224" y="9244"/>
                  <a:pt x="19224" y="9260"/>
                  <a:pt x="19224" y="9277"/>
                </a:cubicBezTo>
              </a:path>
              <a:path w="1961" h="2184">
                <a:moveTo>
                  <a:pt x="18678" y="10071"/>
                </a:moveTo>
                <a:cubicBezTo>
                  <a:pt x="18686" y="10079"/>
                  <a:pt x="18695" y="10088"/>
                  <a:pt x="18703" y="10096"/>
                </a:cubicBezTo>
                <a:cubicBezTo>
                  <a:pt x="18659" y="10107"/>
                  <a:pt x="18627" y="10133"/>
                  <a:pt x="18579" y="10145"/>
                </a:cubicBezTo>
                <a:cubicBezTo>
                  <a:pt x="18549" y="10153"/>
                  <a:pt x="18511" y="10145"/>
                  <a:pt x="18479" y="10145"/>
                </a:cubicBezTo>
              </a:path>
              <a:path w="1961" h="2184">
                <a:moveTo>
                  <a:pt x="19000" y="9823"/>
                </a:moveTo>
                <a:cubicBezTo>
                  <a:pt x="19043" y="9823"/>
                  <a:pt x="19086" y="9834"/>
                  <a:pt x="19124" y="9847"/>
                </a:cubicBezTo>
                <a:cubicBezTo>
                  <a:pt x="19185" y="9869"/>
                  <a:pt x="19270" y="9889"/>
                  <a:pt x="19323" y="9922"/>
                </a:cubicBezTo>
                <a:cubicBezTo>
                  <a:pt x="19358" y="9944"/>
                  <a:pt x="19392" y="9951"/>
                  <a:pt x="19397" y="9996"/>
                </a:cubicBezTo>
                <a:cubicBezTo>
                  <a:pt x="19404" y="10055"/>
                  <a:pt x="19331" y="10127"/>
                  <a:pt x="19298" y="10170"/>
                </a:cubicBezTo>
                <a:cubicBezTo>
                  <a:pt x="19264" y="10214"/>
                  <a:pt x="19248" y="10238"/>
                  <a:pt x="19248" y="10294"/>
                </a:cubicBezTo>
              </a:path>
              <a:path w="1961" h="2184">
                <a:moveTo>
                  <a:pt x="18728" y="8384"/>
                </a:moveTo>
                <a:cubicBezTo>
                  <a:pt x="18704" y="8401"/>
                  <a:pt x="18670" y="8444"/>
                  <a:pt x="18653" y="8458"/>
                </a:cubicBezTo>
                <a:cubicBezTo>
                  <a:pt x="18626" y="8479"/>
                  <a:pt x="18578" y="8493"/>
                  <a:pt x="18554" y="8533"/>
                </a:cubicBezTo>
                <a:cubicBezTo>
                  <a:pt x="18530" y="8573"/>
                  <a:pt x="18503" y="8636"/>
                  <a:pt x="18479" y="8682"/>
                </a:cubicBezTo>
                <a:cubicBezTo>
                  <a:pt x="18457" y="8724"/>
                  <a:pt x="18424" y="8780"/>
                  <a:pt x="18405" y="8830"/>
                </a:cubicBezTo>
                <a:cubicBezTo>
                  <a:pt x="18385" y="8880"/>
                  <a:pt x="18353" y="8931"/>
                  <a:pt x="18331" y="8979"/>
                </a:cubicBezTo>
                <a:cubicBezTo>
                  <a:pt x="18314" y="9016"/>
                  <a:pt x="18265" y="9087"/>
                  <a:pt x="18256" y="9128"/>
                </a:cubicBezTo>
                <a:cubicBezTo>
                  <a:pt x="18242" y="9193"/>
                  <a:pt x="18252" y="9243"/>
                  <a:pt x="18231" y="9302"/>
                </a:cubicBezTo>
                <a:cubicBezTo>
                  <a:pt x="18216" y="9345"/>
                  <a:pt x="18209" y="9374"/>
                  <a:pt x="18207" y="9426"/>
                </a:cubicBezTo>
                <a:cubicBezTo>
                  <a:pt x="18205" y="9472"/>
                  <a:pt x="18188" y="9505"/>
                  <a:pt x="18182" y="9550"/>
                </a:cubicBezTo>
                <a:cubicBezTo>
                  <a:pt x="18175" y="9600"/>
                  <a:pt x="18159" y="9622"/>
                  <a:pt x="18157" y="9674"/>
                </a:cubicBezTo>
                <a:cubicBezTo>
                  <a:pt x="18150" y="9831"/>
                  <a:pt x="18119" y="10080"/>
                  <a:pt x="18182" y="10220"/>
                </a:cubicBezTo>
                <a:cubicBezTo>
                  <a:pt x="18211" y="10286"/>
                  <a:pt x="18209" y="10352"/>
                  <a:pt x="18231" y="10418"/>
                </a:cubicBezTo>
                <a:cubicBezTo>
                  <a:pt x="18250" y="10475"/>
                  <a:pt x="18274" y="10508"/>
                  <a:pt x="18281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46960" y="3027240"/>
            <a:ext cx="554040" cy="696960"/>
          </a:xfrm>
          <a:custGeom>
            <a:avLst/>
            <a:gdLst/>
            <a:ahLst/>
            <a:rect l="l" t="t" r="r" b="b"/>
            <a:pathLst>
              <a:path w="1539" h="1936">
                <a:moveTo>
                  <a:pt x="20687" y="8979"/>
                </a:moveTo>
                <a:cubicBezTo>
                  <a:pt x="20687" y="8987"/>
                  <a:pt x="20687" y="8996"/>
                  <a:pt x="20687" y="9004"/>
                </a:cubicBezTo>
                <a:cubicBezTo>
                  <a:pt x="20737" y="8991"/>
                  <a:pt x="20751" y="8979"/>
                  <a:pt x="20811" y="8979"/>
                </a:cubicBezTo>
                <a:cubicBezTo>
                  <a:pt x="20874" y="8979"/>
                  <a:pt x="20920" y="8954"/>
                  <a:pt x="20985" y="8954"/>
                </a:cubicBezTo>
                <a:cubicBezTo>
                  <a:pt x="21026" y="8954"/>
                  <a:pt x="21034" y="8954"/>
                  <a:pt x="21059" y="8954"/>
                </a:cubicBezTo>
              </a:path>
              <a:path w="1539" h="1936">
                <a:moveTo>
                  <a:pt x="21456" y="8657"/>
                </a:moveTo>
                <a:cubicBezTo>
                  <a:pt x="21481" y="8657"/>
                  <a:pt x="21489" y="8657"/>
                  <a:pt x="21506" y="8657"/>
                </a:cubicBezTo>
                <a:cubicBezTo>
                  <a:pt x="21476" y="8707"/>
                  <a:pt x="21459" y="8767"/>
                  <a:pt x="21456" y="8830"/>
                </a:cubicBezTo>
                <a:cubicBezTo>
                  <a:pt x="21452" y="8916"/>
                  <a:pt x="21429" y="9060"/>
                  <a:pt x="21481" y="9128"/>
                </a:cubicBezTo>
              </a:path>
              <a:path w="1539" h="1936">
                <a:moveTo>
                  <a:pt x="21183" y="9699"/>
                </a:moveTo>
                <a:cubicBezTo>
                  <a:pt x="21225" y="9699"/>
                  <a:pt x="21233" y="9699"/>
                  <a:pt x="21258" y="9699"/>
                </a:cubicBezTo>
                <a:cubicBezTo>
                  <a:pt x="21214" y="9666"/>
                  <a:pt x="21192" y="9674"/>
                  <a:pt x="21134" y="9674"/>
                </a:cubicBezTo>
                <a:cubicBezTo>
                  <a:pt x="21097" y="9674"/>
                  <a:pt x="21006" y="9690"/>
                  <a:pt x="20985" y="9723"/>
                </a:cubicBezTo>
                <a:cubicBezTo>
                  <a:pt x="20967" y="9751"/>
                  <a:pt x="20960" y="9786"/>
                  <a:pt x="20960" y="9823"/>
                </a:cubicBezTo>
                <a:cubicBezTo>
                  <a:pt x="20960" y="9871"/>
                  <a:pt x="21010" y="9884"/>
                  <a:pt x="21034" y="9922"/>
                </a:cubicBezTo>
                <a:cubicBezTo>
                  <a:pt x="21074" y="9984"/>
                  <a:pt x="21145" y="10004"/>
                  <a:pt x="21183" y="10071"/>
                </a:cubicBezTo>
                <a:cubicBezTo>
                  <a:pt x="21205" y="10110"/>
                  <a:pt x="21175" y="10186"/>
                  <a:pt x="21158" y="10195"/>
                </a:cubicBezTo>
                <a:cubicBezTo>
                  <a:pt x="21080" y="10238"/>
                  <a:pt x="21059" y="10214"/>
                  <a:pt x="20985" y="10195"/>
                </a:cubicBezTo>
                <a:cubicBezTo>
                  <a:pt x="20957" y="10195"/>
                  <a:pt x="20946" y="10193"/>
                  <a:pt x="20935" y="10170"/>
                </a:cubicBezTo>
                <a:cubicBezTo>
                  <a:pt x="20935" y="10100"/>
                  <a:pt x="20971" y="10087"/>
                  <a:pt x="21010" y="10021"/>
                </a:cubicBezTo>
                <a:cubicBezTo>
                  <a:pt x="21052" y="9950"/>
                  <a:pt x="21121" y="9847"/>
                  <a:pt x="21208" y="9823"/>
                </a:cubicBezTo>
                <a:cubicBezTo>
                  <a:pt x="21249" y="9823"/>
                  <a:pt x="21257" y="9823"/>
                  <a:pt x="21282" y="9823"/>
                </a:cubicBezTo>
              </a:path>
              <a:path w="1539" h="1936">
                <a:moveTo>
                  <a:pt x="21803" y="8409"/>
                </a:moveTo>
                <a:cubicBezTo>
                  <a:pt x="21815" y="8418"/>
                  <a:pt x="21866" y="8444"/>
                  <a:pt x="21878" y="8458"/>
                </a:cubicBezTo>
                <a:cubicBezTo>
                  <a:pt x="21898" y="8482"/>
                  <a:pt x="21933" y="8549"/>
                  <a:pt x="21952" y="8582"/>
                </a:cubicBezTo>
                <a:cubicBezTo>
                  <a:pt x="22001" y="8669"/>
                  <a:pt x="22063" y="8764"/>
                  <a:pt x="22101" y="8855"/>
                </a:cubicBezTo>
                <a:cubicBezTo>
                  <a:pt x="22138" y="8944"/>
                  <a:pt x="22169" y="9036"/>
                  <a:pt x="22200" y="9128"/>
                </a:cubicBezTo>
                <a:cubicBezTo>
                  <a:pt x="22228" y="9212"/>
                  <a:pt x="22245" y="9337"/>
                  <a:pt x="22225" y="9426"/>
                </a:cubicBezTo>
                <a:cubicBezTo>
                  <a:pt x="22206" y="9510"/>
                  <a:pt x="22143" y="9602"/>
                  <a:pt x="22101" y="9674"/>
                </a:cubicBezTo>
                <a:cubicBezTo>
                  <a:pt x="22037" y="9784"/>
                  <a:pt x="21955" y="9872"/>
                  <a:pt x="21878" y="9971"/>
                </a:cubicBezTo>
                <a:cubicBezTo>
                  <a:pt x="21811" y="10057"/>
                  <a:pt x="21775" y="10148"/>
                  <a:pt x="21729" y="10244"/>
                </a:cubicBezTo>
                <a:cubicBezTo>
                  <a:pt x="21704" y="10294"/>
                  <a:pt x="21696" y="10311"/>
                  <a:pt x="21679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63920" y="4106880"/>
            <a:ext cx="671400" cy="866880"/>
          </a:xfrm>
          <a:custGeom>
            <a:avLst/>
            <a:gdLst/>
            <a:ahLst/>
            <a:rect l="l" t="t" r="r" b="b"/>
            <a:pathLst>
              <a:path w="1862" h="2407">
                <a:moveTo>
                  <a:pt x="9872" y="11534"/>
                </a:moveTo>
                <a:cubicBezTo>
                  <a:pt x="9905" y="11482"/>
                  <a:pt x="9922" y="11455"/>
                  <a:pt x="9947" y="11410"/>
                </a:cubicBezTo>
                <a:cubicBezTo>
                  <a:pt x="9905" y="11438"/>
                  <a:pt x="9860" y="11458"/>
                  <a:pt x="9823" y="11509"/>
                </a:cubicBezTo>
                <a:cubicBezTo>
                  <a:pt x="9770" y="11582"/>
                  <a:pt x="9751" y="11697"/>
                  <a:pt x="9723" y="11782"/>
                </a:cubicBezTo>
                <a:cubicBezTo>
                  <a:pt x="9687" y="11892"/>
                  <a:pt x="9659" y="12014"/>
                  <a:pt x="9649" y="12129"/>
                </a:cubicBezTo>
                <a:cubicBezTo>
                  <a:pt x="9640" y="12238"/>
                  <a:pt x="9629" y="12345"/>
                  <a:pt x="9624" y="12452"/>
                </a:cubicBezTo>
                <a:cubicBezTo>
                  <a:pt x="9619" y="12554"/>
                  <a:pt x="9642" y="12629"/>
                  <a:pt x="9674" y="12725"/>
                </a:cubicBezTo>
                <a:cubicBezTo>
                  <a:pt x="9727" y="12883"/>
                  <a:pt x="9785" y="12985"/>
                  <a:pt x="9872" y="13122"/>
                </a:cubicBezTo>
                <a:cubicBezTo>
                  <a:pt x="9957" y="13256"/>
                  <a:pt x="10044" y="13371"/>
                  <a:pt x="10145" y="13494"/>
                </a:cubicBezTo>
                <a:cubicBezTo>
                  <a:pt x="10224" y="13591"/>
                  <a:pt x="10283" y="13699"/>
                  <a:pt x="10368" y="13791"/>
                </a:cubicBezTo>
                <a:cubicBezTo>
                  <a:pt x="10376" y="13799"/>
                  <a:pt x="10385" y="13808"/>
                  <a:pt x="10393" y="13816"/>
                </a:cubicBezTo>
              </a:path>
              <a:path w="1862" h="2407">
                <a:moveTo>
                  <a:pt x="10567" y="11708"/>
                </a:moveTo>
                <a:cubicBezTo>
                  <a:pt x="10575" y="11691"/>
                  <a:pt x="10584" y="11675"/>
                  <a:pt x="10592" y="11658"/>
                </a:cubicBezTo>
                <a:cubicBezTo>
                  <a:pt x="10592" y="11724"/>
                  <a:pt x="10552" y="11772"/>
                  <a:pt x="10542" y="11832"/>
                </a:cubicBezTo>
                <a:cubicBezTo>
                  <a:pt x="10529" y="11908"/>
                  <a:pt x="10517" y="11976"/>
                  <a:pt x="10517" y="12055"/>
                </a:cubicBezTo>
                <a:cubicBezTo>
                  <a:pt x="10517" y="12131"/>
                  <a:pt x="10510" y="12149"/>
                  <a:pt x="10592" y="12154"/>
                </a:cubicBezTo>
                <a:cubicBezTo>
                  <a:pt x="10748" y="12163"/>
                  <a:pt x="10907" y="12154"/>
                  <a:pt x="11063" y="12154"/>
                </a:cubicBezTo>
              </a:path>
              <a:path w="1862" h="2407">
                <a:moveTo>
                  <a:pt x="10840" y="12030"/>
                </a:moveTo>
                <a:cubicBezTo>
                  <a:pt x="10832" y="12022"/>
                  <a:pt x="10823" y="12013"/>
                  <a:pt x="10815" y="12005"/>
                </a:cubicBezTo>
                <a:cubicBezTo>
                  <a:pt x="10815" y="12137"/>
                  <a:pt x="10815" y="12270"/>
                  <a:pt x="10815" y="12402"/>
                </a:cubicBezTo>
              </a:path>
              <a:path w="1862" h="2407">
                <a:moveTo>
                  <a:pt x="10864" y="13295"/>
                </a:moveTo>
                <a:cubicBezTo>
                  <a:pt x="10872" y="13287"/>
                  <a:pt x="10881" y="13279"/>
                  <a:pt x="10889" y="13271"/>
                </a:cubicBezTo>
                <a:cubicBezTo>
                  <a:pt x="10835" y="13271"/>
                  <a:pt x="10817" y="13282"/>
                  <a:pt x="10765" y="13295"/>
                </a:cubicBezTo>
                <a:cubicBezTo>
                  <a:pt x="10716" y="13307"/>
                  <a:pt x="10658" y="13337"/>
                  <a:pt x="10616" y="13345"/>
                </a:cubicBezTo>
                <a:cubicBezTo>
                  <a:pt x="10588" y="13351"/>
                  <a:pt x="10547" y="13345"/>
                  <a:pt x="10517" y="13345"/>
                </a:cubicBezTo>
              </a:path>
              <a:path w="1862" h="2407">
                <a:moveTo>
                  <a:pt x="11435" y="13047"/>
                </a:moveTo>
                <a:cubicBezTo>
                  <a:pt x="11435" y="13022"/>
                  <a:pt x="11435" y="13014"/>
                  <a:pt x="11435" y="12998"/>
                </a:cubicBezTo>
                <a:cubicBezTo>
                  <a:pt x="11374" y="13013"/>
                  <a:pt x="11373" y="13048"/>
                  <a:pt x="11336" y="13097"/>
                </a:cubicBezTo>
                <a:cubicBezTo>
                  <a:pt x="11288" y="13162"/>
                  <a:pt x="11248" y="13222"/>
                  <a:pt x="11212" y="13295"/>
                </a:cubicBezTo>
                <a:cubicBezTo>
                  <a:pt x="11185" y="13348"/>
                  <a:pt x="11168" y="13434"/>
                  <a:pt x="11187" y="13494"/>
                </a:cubicBezTo>
                <a:cubicBezTo>
                  <a:pt x="11203" y="13544"/>
                  <a:pt x="11258" y="13605"/>
                  <a:pt x="11311" y="13618"/>
                </a:cubicBezTo>
                <a:cubicBezTo>
                  <a:pt x="11395" y="13638"/>
                  <a:pt x="11400" y="13594"/>
                  <a:pt x="11460" y="13568"/>
                </a:cubicBezTo>
                <a:cubicBezTo>
                  <a:pt x="11496" y="13552"/>
                  <a:pt x="11485" y="13541"/>
                  <a:pt x="11485" y="13494"/>
                </a:cubicBezTo>
                <a:cubicBezTo>
                  <a:pt x="11485" y="13460"/>
                  <a:pt x="11441" y="13426"/>
                  <a:pt x="11410" y="13419"/>
                </a:cubicBezTo>
                <a:cubicBezTo>
                  <a:pt x="11353" y="13407"/>
                  <a:pt x="11312" y="13425"/>
                  <a:pt x="11261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38800" y="4179960"/>
            <a:ext cx="579240" cy="803160"/>
          </a:xfrm>
          <a:custGeom>
            <a:avLst/>
            <a:gdLst/>
            <a:ahLst/>
            <a:rect l="l" t="t" r="r" b="b"/>
            <a:pathLst>
              <a:path w="1613" h="2233">
                <a:moveTo>
                  <a:pt x="12576" y="11931"/>
                </a:moveTo>
                <a:cubicBezTo>
                  <a:pt x="12628" y="11924"/>
                  <a:pt x="12648" y="11906"/>
                  <a:pt x="12700" y="11906"/>
                </a:cubicBezTo>
                <a:cubicBezTo>
                  <a:pt x="12700" y="11875"/>
                  <a:pt x="12692" y="11840"/>
                  <a:pt x="12675" y="11832"/>
                </a:cubicBezTo>
                <a:cubicBezTo>
                  <a:pt x="12624" y="11806"/>
                  <a:pt x="12567" y="11860"/>
                  <a:pt x="12526" y="11881"/>
                </a:cubicBezTo>
                <a:cubicBezTo>
                  <a:pt x="12473" y="11909"/>
                  <a:pt x="12422" y="11942"/>
                  <a:pt x="12378" y="11981"/>
                </a:cubicBezTo>
                <a:cubicBezTo>
                  <a:pt x="12352" y="12005"/>
                  <a:pt x="12305" y="12065"/>
                  <a:pt x="12328" y="12105"/>
                </a:cubicBezTo>
                <a:cubicBezTo>
                  <a:pt x="12356" y="12154"/>
                  <a:pt x="12411" y="12157"/>
                  <a:pt x="12452" y="12179"/>
                </a:cubicBezTo>
                <a:cubicBezTo>
                  <a:pt x="12496" y="12202"/>
                  <a:pt x="12578" y="12227"/>
                  <a:pt x="12601" y="12278"/>
                </a:cubicBezTo>
                <a:cubicBezTo>
                  <a:pt x="12618" y="12316"/>
                  <a:pt x="12596" y="12313"/>
                  <a:pt x="12626" y="12353"/>
                </a:cubicBezTo>
                <a:cubicBezTo>
                  <a:pt x="12596" y="12375"/>
                  <a:pt x="12544" y="12399"/>
                  <a:pt x="12502" y="12378"/>
                </a:cubicBezTo>
                <a:cubicBezTo>
                  <a:pt x="12473" y="12363"/>
                  <a:pt x="12453" y="12348"/>
                  <a:pt x="12427" y="12328"/>
                </a:cubicBezTo>
                <a:cubicBezTo>
                  <a:pt x="12440" y="12266"/>
                  <a:pt x="12484" y="12204"/>
                  <a:pt x="12526" y="12154"/>
                </a:cubicBezTo>
                <a:cubicBezTo>
                  <a:pt x="12590" y="12079"/>
                  <a:pt x="12639" y="12004"/>
                  <a:pt x="12725" y="11956"/>
                </a:cubicBezTo>
                <a:cubicBezTo>
                  <a:pt x="12774" y="11931"/>
                  <a:pt x="12791" y="11922"/>
                  <a:pt x="12824" y="11906"/>
                </a:cubicBezTo>
              </a:path>
              <a:path w="1613" h="2233">
                <a:moveTo>
                  <a:pt x="12477" y="13146"/>
                </a:moveTo>
                <a:cubicBezTo>
                  <a:pt x="12477" y="13122"/>
                  <a:pt x="12477" y="13113"/>
                  <a:pt x="12477" y="13097"/>
                </a:cubicBezTo>
                <a:cubicBezTo>
                  <a:pt x="12429" y="13113"/>
                  <a:pt x="12441" y="13168"/>
                  <a:pt x="12427" y="13221"/>
                </a:cubicBezTo>
                <a:cubicBezTo>
                  <a:pt x="12398" y="13330"/>
                  <a:pt x="12378" y="13405"/>
                  <a:pt x="12378" y="13519"/>
                </a:cubicBezTo>
                <a:cubicBezTo>
                  <a:pt x="12378" y="13560"/>
                  <a:pt x="12378" y="13568"/>
                  <a:pt x="12378" y="13593"/>
                </a:cubicBezTo>
              </a:path>
              <a:path w="1613" h="2233">
                <a:moveTo>
                  <a:pt x="12774" y="13295"/>
                </a:moveTo>
                <a:cubicBezTo>
                  <a:pt x="12774" y="13240"/>
                  <a:pt x="12762" y="13187"/>
                  <a:pt x="12799" y="13146"/>
                </a:cubicBezTo>
                <a:cubicBezTo>
                  <a:pt x="12832" y="13109"/>
                  <a:pt x="12876" y="13122"/>
                  <a:pt x="12923" y="13122"/>
                </a:cubicBezTo>
                <a:cubicBezTo>
                  <a:pt x="12965" y="13122"/>
                  <a:pt x="13013" y="13229"/>
                  <a:pt x="13022" y="13271"/>
                </a:cubicBezTo>
                <a:cubicBezTo>
                  <a:pt x="13035" y="13332"/>
                  <a:pt x="13039" y="13447"/>
                  <a:pt x="12998" y="13494"/>
                </a:cubicBezTo>
                <a:cubicBezTo>
                  <a:pt x="12958" y="13540"/>
                  <a:pt x="12913" y="13560"/>
                  <a:pt x="12849" y="13543"/>
                </a:cubicBezTo>
                <a:cubicBezTo>
                  <a:pt x="12782" y="13525"/>
                  <a:pt x="12730" y="13490"/>
                  <a:pt x="12725" y="13419"/>
                </a:cubicBezTo>
                <a:cubicBezTo>
                  <a:pt x="12725" y="13370"/>
                  <a:pt x="12725" y="13353"/>
                  <a:pt x="12725" y="13320"/>
                </a:cubicBezTo>
              </a:path>
              <a:path w="1613" h="2233">
                <a:moveTo>
                  <a:pt x="13221" y="11609"/>
                </a:moveTo>
                <a:cubicBezTo>
                  <a:pt x="13238" y="11622"/>
                  <a:pt x="13266" y="11634"/>
                  <a:pt x="13295" y="11658"/>
                </a:cubicBezTo>
                <a:cubicBezTo>
                  <a:pt x="13354" y="11707"/>
                  <a:pt x="13392" y="11786"/>
                  <a:pt x="13444" y="11832"/>
                </a:cubicBezTo>
                <a:cubicBezTo>
                  <a:pt x="13519" y="11898"/>
                  <a:pt x="13552" y="11955"/>
                  <a:pt x="13618" y="12030"/>
                </a:cubicBezTo>
                <a:cubicBezTo>
                  <a:pt x="13673" y="12092"/>
                  <a:pt x="13734" y="12177"/>
                  <a:pt x="13767" y="12254"/>
                </a:cubicBezTo>
                <a:cubicBezTo>
                  <a:pt x="13805" y="12341"/>
                  <a:pt x="13850" y="12414"/>
                  <a:pt x="13891" y="12502"/>
                </a:cubicBezTo>
                <a:cubicBezTo>
                  <a:pt x="13919" y="12562"/>
                  <a:pt x="13937" y="12634"/>
                  <a:pt x="13940" y="12700"/>
                </a:cubicBezTo>
                <a:cubicBezTo>
                  <a:pt x="13945" y="12807"/>
                  <a:pt x="13930" y="12895"/>
                  <a:pt x="13915" y="12998"/>
                </a:cubicBezTo>
                <a:cubicBezTo>
                  <a:pt x="13903" y="13081"/>
                  <a:pt x="13888" y="13198"/>
                  <a:pt x="13841" y="13271"/>
                </a:cubicBezTo>
                <a:cubicBezTo>
                  <a:pt x="13788" y="13354"/>
                  <a:pt x="13734" y="13441"/>
                  <a:pt x="13667" y="13519"/>
                </a:cubicBezTo>
                <a:cubicBezTo>
                  <a:pt x="13609" y="13586"/>
                  <a:pt x="13543" y="13644"/>
                  <a:pt x="13494" y="13717"/>
                </a:cubicBezTo>
                <a:cubicBezTo>
                  <a:pt x="13465" y="13761"/>
                  <a:pt x="13442" y="13800"/>
                  <a:pt x="13419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76240" y="6027840"/>
            <a:ext cx="108000" cy="63360"/>
          </a:xfrm>
          <a:custGeom>
            <a:avLst/>
            <a:gdLst/>
            <a:ahLst/>
            <a:rect l="l" t="t" r="r" b="b"/>
            <a:pathLst>
              <a:path w="299" h="175">
                <a:moveTo>
                  <a:pt x="5184" y="16768"/>
                </a:moveTo>
                <a:cubicBezTo>
                  <a:pt x="5184" y="16760"/>
                  <a:pt x="5184" y="16751"/>
                  <a:pt x="5184" y="16743"/>
                </a:cubicBezTo>
                <a:cubicBezTo>
                  <a:pt x="5101" y="16743"/>
                  <a:pt x="5019" y="16743"/>
                  <a:pt x="4936" y="16743"/>
                </a:cubicBezTo>
              </a:path>
              <a:path w="299" h="175">
                <a:moveTo>
                  <a:pt x="5209" y="16892"/>
                </a:moveTo>
                <a:cubicBezTo>
                  <a:pt x="5217" y="16892"/>
                  <a:pt x="5226" y="16892"/>
                  <a:pt x="5234" y="16892"/>
                </a:cubicBezTo>
                <a:cubicBezTo>
                  <a:pt x="5181" y="16892"/>
                  <a:pt x="5164" y="16912"/>
                  <a:pt x="5110" y="16917"/>
                </a:cubicBezTo>
                <a:cubicBezTo>
                  <a:pt x="5102" y="16917"/>
                  <a:pt x="5093" y="16917"/>
                  <a:pt x="5085" y="169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89080" y="5643720"/>
            <a:ext cx="1349280" cy="777600"/>
          </a:xfrm>
          <a:custGeom>
            <a:avLst/>
            <a:gdLst/>
            <a:ahLst/>
            <a:rect l="l" t="t" r="r" b="b"/>
            <a:pathLst>
              <a:path w="3747" h="2159">
                <a:moveTo>
                  <a:pt x="6648" y="16098"/>
                </a:moveTo>
                <a:cubicBezTo>
                  <a:pt x="6670" y="16046"/>
                  <a:pt x="6672" y="16028"/>
                  <a:pt x="6672" y="15974"/>
                </a:cubicBezTo>
                <a:cubicBezTo>
                  <a:pt x="6672" y="15966"/>
                  <a:pt x="6672" y="15957"/>
                  <a:pt x="6672" y="15949"/>
                </a:cubicBezTo>
                <a:cubicBezTo>
                  <a:pt x="6612" y="15949"/>
                  <a:pt x="6625" y="15959"/>
                  <a:pt x="6598" y="15999"/>
                </a:cubicBezTo>
                <a:cubicBezTo>
                  <a:pt x="6556" y="16062"/>
                  <a:pt x="6515" y="16088"/>
                  <a:pt x="6499" y="16173"/>
                </a:cubicBezTo>
                <a:cubicBezTo>
                  <a:pt x="6485" y="16247"/>
                  <a:pt x="6480" y="16331"/>
                  <a:pt x="6499" y="16396"/>
                </a:cubicBezTo>
                <a:cubicBezTo>
                  <a:pt x="6512" y="16441"/>
                  <a:pt x="6552" y="16544"/>
                  <a:pt x="6598" y="16570"/>
                </a:cubicBezTo>
                <a:cubicBezTo>
                  <a:pt x="6643" y="16595"/>
                  <a:pt x="6714" y="16545"/>
                  <a:pt x="6747" y="16520"/>
                </a:cubicBezTo>
                <a:cubicBezTo>
                  <a:pt x="6783" y="16493"/>
                  <a:pt x="6772" y="16461"/>
                  <a:pt x="6772" y="16421"/>
                </a:cubicBezTo>
                <a:cubicBezTo>
                  <a:pt x="6772" y="16385"/>
                  <a:pt x="6711" y="16374"/>
                  <a:pt x="6672" y="16371"/>
                </a:cubicBezTo>
                <a:cubicBezTo>
                  <a:pt x="6628" y="16371"/>
                  <a:pt x="6614" y="16368"/>
                  <a:pt x="6598" y="16396"/>
                </a:cubicBezTo>
              </a:path>
              <a:path w="3747" h="2159">
                <a:moveTo>
                  <a:pt x="7565" y="16371"/>
                </a:moveTo>
                <a:cubicBezTo>
                  <a:pt x="7573" y="16371"/>
                  <a:pt x="7582" y="16371"/>
                  <a:pt x="7590" y="16371"/>
                </a:cubicBezTo>
                <a:cubicBezTo>
                  <a:pt x="7605" y="16311"/>
                  <a:pt x="7629" y="16321"/>
                  <a:pt x="7689" y="16321"/>
                </a:cubicBezTo>
                <a:cubicBezTo>
                  <a:pt x="7739" y="16321"/>
                  <a:pt x="7788" y="16321"/>
                  <a:pt x="7838" y="16321"/>
                </a:cubicBezTo>
              </a:path>
              <a:path w="3747" h="2159">
                <a:moveTo>
                  <a:pt x="8111" y="16222"/>
                </a:moveTo>
                <a:cubicBezTo>
                  <a:pt x="8111" y="16155"/>
                  <a:pt x="8111" y="16261"/>
                  <a:pt x="8111" y="16272"/>
                </a:cubicBezTo>
                <a:cubicBezTo>
                  <a:pt x="8111" y="16393"/>
                  <a:pt x="8110" y="16505"/>
                  <a:pt x="8136" y="16619"/>
                </a:cubicBezTo>
                <a:cubicBezTo>
                  <a:pt x="8136" y="16644"/>
                  <a:pt x="8136" y="16652"/>
                  <a:pt x="8136" y="16669"/>
                </a:cubicBezTo>
              </a:path>
              <a:path w="3747" h="2159">
                <a:moveTo>
                  <a:pt x="8508" y="16222"/>
                </a:moveTo>
                <a:cubicBezTo>
                  <a:pt x="8531" y="16199"/>
                  <a:pt x="8535" y="16191"/>
                  <a:pt x="8558" y="16197"/>
                </a:cubicBezTo>
                <a:cubicBezTo>
                  <a:pt x="8517" y="16238"/>
                  <a:pt x="8440" y="16290"/>
                  <a:pt x="8434" y="16346"/>
                </a:cubicBezTo>
                <a:cubicBezTo>
                  <a:pt x="8430" y="16384"/>
                  <a:pt x="8442" y="16412"/>
                  <a:pt x="8483" y="16421"/>
                </a:cubicBezTo>
                <a:cubicBezTo>
                  <a:pt x="8541" y="16433"/>
                  <a:pt x="8602" y="16436"/>
                  <a:pt x="8657" y="16470"/>
                </a:cubicBezTo>
                <a:cubicBezTo>
                  <a:pt x="8692" y="16491"/>
                  <a:pt x="8748" y="16557"/>
                  <a:pt x="8756" y="16594"/>
                </a:cubicBezTo>
                <a:cubicBezTo>
                  <a:pt x="8768" y="16649"/>
                  <a:pt x="8754" y="16678"/>
                  <a:pt x="8706" y="16694"/>
                </a:cubicBezTo>
                <a:cubicBezTo>
                  <a:pt x="8653" y="16712"/>
                  <a:pt x="8566" y="16694"/>
                  <a:pt x="8508" y="16694"/>
                </a:cubicBezTo>
              </a:path>
              <a:path w="3747" h="2159">
                <a:moveTo>
                  <a:pt x="8905" y="16173"/>
                </a:moveTo>
                <a:cubicBezTo>
                  <a:pt x="8925" y="16132"/>
                  <a:pt x="8934" y="16126"/>
                  <a:pt x="8930" y="16098"/>
                </a:cubicBezTo>
                <a:cubicBezTo>
                  <a:pt x="8876" y="16098"/>
                  <a:pt x="8858" y="16100"/>
                  <a:pt x="8806" y="16123"/>
                </a:cubicBezTo>
              </a:path>
              <a:path w="3747" h="2159">
                <a:moveTo>
                  <a:pt x="6350" y="17388"/>
                </a:moveTo>
                <a:cubicBezTo>
                  <a:pt x="6358" y="17380"/>
                  <a:pt x="6367" y="17371"/>
                  <a:pt x="6375" y="17363"/>
                </a:cubicBezTo>
                <a:cubicBezTo>
                  <a:pt x="6316" y="17363"/>
                  <a:pt x="6279" y="17386"/>
                  <a:pt x="6226" y="17413"/>
                </a:cubicBezTo>
                <a:cubicBezTo>
                  <a:pt x="6184" y="17434"/>
                  <a:pt x="6144" y="17452"/>
                  <a:pt x="6102" y="17462"/>
                </a:cubicBezTo>
              </a:path>
              <a:path w="3747" h="2159">
                <a:moveTo>
                  <a:pt x="6598" y="17264"/>
                </a:moveTo>
                <a:cubicBezTo>
                  <a:pt x="6606" y="17256"/>
                  <a:pt x="6615" y="17247"/>
                  <a:pt x="6623" y="17239"/>
                </a:cubicBezTo>
                <a:cubicBezTo>
                  <a:pt x="6623" y="17388"/>
                  <a:pt x="6623" y="17537"/>
                  <a:pt x="6623" y="17686"/>
                </a:cubicBezTo>
              </a:path>
              <a:path w="3747" h="2159">
                <a:moveTo>
                  <a:pt x="6871" y="17289"/>
                </a:moveTo>
                <a:cubicBezTo>
                  <a:pt x="6884" y="17211"/>
                  <a:pt x="6900" y="17256"/>
                  <a:pt x="6921" y="17214"/>
                </a:cubicBezTo>
                <a:cubicBezTo>
                  <a:pt x="6937" y="17182"/>
                  <a:pt x="6996" y="17168"/>
                  <a:pt x="7045" y="17165"/>
                </a:cubicBezTo>
                <a:cubicBezTo>
                  <a:pt x="7089" y="17162"/>
                  <a:pt x="7178" y="17185"/>
                  <a:pt x="7193" y="17239"/>
                </a:cubicBezTo>
                <a:cubicBezTo>
                  <a:pt x="7214" y="17315"/>
                  <a:pt x="7178" y="17335"/>
                  <a:pt x="7144" y="17388"/>
                </a:cubicBezTo>
                <a:cubicBezTo>
                  <a:pt x="7118" y="17429"/>
                  <a:pt x="7078" y="17459"/>
                  <a:pt x="7069" y="17487"/>
                </a:cubicBezTo>
                <a:cubicBezTo>
                  <a:pt x="7082" y="17525"/>
                  <a:pt x="7099" y="17512"/>
                  <a:pt x="7144" y="17512"/>
                </a:cubicBezTo>
                <a:cubicBezTo>
                  <a:pt x="7209" y="17512"/>
                  <a:pt x="7234" y="17522"/>
                  <a:pt x="7293" y="17537"/>
                </a:cubicBezTo>
                <a:cubicBezTo>
                  <a:pt x="7323" y="17545"/>
                  <a:pt x="7361" y="17537"/>
                  <a:pt x="7392" y="17537"/>
                </a:cubicBezTo>
              </a:path>
              <a:path w="3747" h="2159">
                <a:moveTo>
                  <a:pt x="8607" y="17214"/>
                </a:moveTo>
                <a:cubicBezTo>
                  <a:pt x="8615" y="17214"/>
                  <a:pt x="8624" y="17214"/>
                  <a:pt x="8632" y="17214"/>
                </a:cubicBezTo>
                <a:cubicBezTo>
                  <a:pt x="8632" y="17161"/>
                  <a:pt x="8620" y="17130"/>
                  <a:pt x="8558" y="17115"/>
                </a:cubicBezTo>
                <a:cubicBezTo>
                  <a:pt x="8489" y="17099"/>
                  <a:pt x="8392" y="17132"/>
                  <a:pt x="8334" y="17165"/>
                </a:cubicBezTo>
                <a:cubicBezTo>
                  <a:pt x="8281" y="17195"/>
                  <a:pt x="8285" y="17236"/>
                  <a:pt x="8285" y="17289"/>
                </a:cubicBezTo>
                <a:cubicBezTo>
                  <a:pt x="8338" y="17289"/>
                  <a:pt x="8358" y="17288"/>
                  <a:pt x="8409" y="17264"/>
                </a:cubicBezTo>
                <a:cubicBezTo>
                  <a:pt x="8478" y="17231"/>
                  <a:pt x="8479" y="17181"/>
                  <a:pt x="8558" y="17165"/>
                </a:cubicBezTo>
                <a:cubicBezTo>
                  <a:pt x="8597" y="17254"/>
                  <a:pt x="8626" y="17346"/>
                  <a:pt x="8657" y="17438"/>
                </a:cubicBezTo>
                <a:cubicBezTo>
                  <a:pt x="8685" y="17522"/>
                  <a:pt x="8720" y="17601"/>
                  <a:pt x="8731" y="17686"/>
                </a:cubicBezTo>
              </a:path>
              <a:path w="3747" h="2159">
                <a:moveTo>
                  <a:pt x="9178" y="16173"/>
                </a:moveTo>
                <a:cubicBezTo>
                  <a:pt x="9227" y="16153"/>
                  <a:pt x="9224" y="16145"/>
                  <a:pt x="9277" y="16173"/>
                </a:cubicBezTo>
                <a:cubicBezTo>
                  <a:pt x="9340" y="16206"/>
                  <a:pt x="9390" y="16289"/>
                  <a:pt x="9426" y="16346"/>
                </a:cubicBezTo>
                <a:cubicBezTo>
                  <a:pt x="9478" y="16429"/>
                  <a:pt x="9535" y="16520"/>
                  <a:pt x="9550" y="16619"/>
                </a:cubicBezTo>
                <a:cubicBezTo>
                  <a:pt x="9570" y="16752"/>
                  <a:pt x="9538" y="16887"/>
                  <a:pt x="9525" y="17016"/>
                </a:cubicBezTo>
                <a:cubicBezTo>
                  <a:pt x="9513" y="17136"/>
                  <a:pt x="9473" y="17251"/>
                  <a:pt x="9426" y="17363"/>
                </a:cubicBezTo>
                <a:cubicBezTo>
                  <a:pt x="9378" y="17477"/>
                  <a:pt x="9303" y="17575"/>
                  <a:pt x="9252" y="17686"/>
                </a:cubicBezTo>
                <a:cubicBezTo>
                  <a:pt x="9228" y="17739"/>
                  <a:pt x="9221" y="17786"/>
                  <a:pt x="9203" y="17835"/>
                </a:cubicBezTo>
              </a:path>
              <a:path w="3747" h="2159">
                <a:moveTo>
                  <a:pt x="6052" y="15726"/>
                </a:moveTo>
                <a:cubicBezTo>
                  <a:pt x="6052" y="15701"/>
                  <a:pt x="6052" y="15693"/>
                  <a:pt x="6052" y="15677"/>
                </a:cubicBezTo>
                <a:cubicBezTo>
                  <a:pt x="6044" y="15716"/>
                  <a:pt x="6044" y="15715"/>
                  <a:pt x="6028" y="15751"/>
                </a:cubicBezTo>
                <a:cubicBezTo>
                  <a:pt x="6004" y="15804"/>
                  <a:pt x="5990" y="15873"/>
                  <a:pt x="5953" y="15925"/>
                </a:cubicBezTo>
                <a:cubicBezTo>
                  <a:pt x="5917" y="15977"/>
                  <a:pt x="5924" y="16038"/>
                  <a:pt x="5904" y="16098"/>
                </a:cubicBezTo>
                <a:cubicBezTo>
                  <a:pt x="5880" y="16169"/>
                  <a:pt x="5873" y="16229"/>
                  <a:pt x="5854" y="16297"/>
                </a:cubicBezTo>
                <a:cubicBezTo>
                  <a:pt x="5840" y="16346"/>
                  <a:pt x="5846" y="16426"/>
                  <a:pt x="5829" y="16470"/>
                </a:cubicBezTo>
                <a:cubicBezTo>
                  <a:pt x="5806" y="16528"/>
                  <a:pt x="5804" y="16574"/>
                  <a:pt x="5804" y="16644"/>
                </a:cubicBezTo>
                <a:cubicBezTo>
                  <a:pt x="5804" y="16714"/>
                  <a:pt x="5819" y="16755"/>
                  <a:pt x="5829" y="16818"/>
                </a:cubicBezTo>
                <a:cubicBezTo>
                  <a:pt x="5841" y="16890"/>
                  <a:pt x="5892" y="16947"/>
                  <a:pt x="5904" y="17016"/>
                </a:cubicBezTo>
                <a:cubicBezTo>
                  <a:pt x="5921" y="17115"/>
                  <a:pt x="5938" y="17221"/>
                  <a:pt x="5978" y="17314"/>
                </a:cubicBezTo>
                <a:cubicBezTo>
                  <a:pt x="5998" y="17360"/>
                  <a:pt x="6022" y="17399"/>
                  <a:pt x="6052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41840" y="6153120"/>
            <a:ext cx="160200" cy="7920"/>
          </a:xfrm>
          <a:custGeom>
            <a:avLst/>
            <a:gdLst/>
            <a:ahLst/>
            <a:rect l="l" t="t" r="r" b="b"/>
            <a:pathLst>
              <a:path w="448" h="26">
                <a:moveTo>
                  <a:pt x="10840" y="17115"/>
                </a:moveTo>
                <a:cubicBezTo>
                  <a:pt x="10816" y="17079"/>
                  <a:pt x="10773" y="17090"/>
                  <a:pt x="10716" y="17090"/>
                </a:cubicBezTo>
                <a:cubicBezTo>
                  <a:pt x="10642" y="17090"/>
                  <a:pt x="10588" y="17110"/>
                  <a:pt x="10517" y="17115"/>
                </a:cubicBezTo>
                <a:cubicBezTo>
                  <a:pt x="10476" y="17118"/>
                  <a:pt x="10434" y="17115"/>
                  <a:pt x="10393" y="171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16240" y="5867280"/>
            <a:ext cx="519120" cy="642960"/>
          </a:xfrm>
          <a:custGeom>
            <a:avLst/>
            <a:gdLst/>
            <a:ahLst/>
            <a:rect l="l" t="t" r="r" b="b"/>
            <a:pathLst>
              <a:path w="1440" h="1787">
                <a:moveTo>
                  <a:pt x="11733" y="16321"/>
                </a:moveTo>
                <a:cubicBezTo>
                  <a:pt x="11703" y="16351"/>
                  <a:pt x="11733" y="16336"/>
                  <a:pt x="11708" y="16371"/>
                </a:cubicBezTo>
                <a:cubicBezTo>
                  <a:pt x="11677" y="16413"/>
                  <a:pt x="11640" y="16454"/>
                  <a:pt x="11609" y="16495"/>
                </a:cubicBezTo>
                <a:cubicBezTo>
                  <a:pt x="11564" y="16555"/>
                  <a:pt x="11572" y="16608"/>
                  <a:pt x="11534" y="16669"/>
                </a:cubicBezTo>
                <a:cubicBezTo>
                  <a:pt x="11506" y="16715"/>
                  <a:pt x="11505" y="16766"/>
                  <a:pt x="11485" y="16818"/>
                </a:cubicBezTo>
                <a:cubicBezTo>
                  <a:pt x="11457" y="16893"/>
                  <a:pt x="11439" y="16986"/>
                  <a:pt x="11435" y="17066"/>
                </a:cubicBezTo>
                <a:cubicBezTo>
                  <a:pt x="11432" y="17115"/>
                  <a:pt x="11468" y="17247"/>
                  <a:pt x="11485" y="17289"/>
                </a:cubicBezTo>
                <a:cubicBezTo>
                  <a:pt x="11540" y="17420"/>
                  <a:pt x="11639" y="17538"/>
                  <a:pt x="11708" y="17661"/>
                </a:cubicBezTo>
                <a:cubicBezTo>
                  <a:pt x="11764" y="17761"/>
                  <a:pt x="11828" y="17858"/>
                  <a:pt x="11881" y="17959"/>
                </a:cubicBezTo>
                <a:cubicBezTo>
                  <a:pt x="11905" y="18004"/>
                  <a:pt x="11924" y="18043"/>
                  <a:pt x="11956" y="18083"/>
                </a:cubicBezTo>
              </a:path>
              <a:path w="1440" h="1787">
                <a:moveTo>
                  <a:pt x="12080" y="16718"/>
                </a:moveTo>
                <a:cubicBezTo>
                  <a:pt x="12045" y="16672"/>
                  <a:pt x="12047" y="16668"/>
                  <a:pt x="12080" y="16644"/>
                </a:cubicBezTo>
                <a:cubicBezTo>
                  <a:pt x="12124" y="16611"/>
                  <a:pt x="12122" y="16594"/>
                  <a:pt x="12179" y="16594"/>
                </a:cubicBezTo>
                <a:cubicBezTo>
                  <a:pt x="12258" y="16594"/>
                  <a:pt x="12271" y="16588"/>
                  <a:pt x="12278" y="16669"/>
                </a:cubicBezTo>
                <a:cubicBezTo>
                  <a:pt x="12283" y="16729"/>
                  <a:pt x="12280" y="16770"/>
                  <a:pt x="12254" y="16818"/>
                </a:cubicBezTo>
                <a:cubicBezTo>
                  <a:pt x="12232" y="16860"/>
                  <a:pt x="12197" y="16902"/>
                  <a:pt x="12179" y="16942"/>
                </a:cubicBezTo>
                <a:cubicBezTo>
                  <a:pt x="12179" y="16950"/>
                  <a:pt x="12179" y="16958"/>
                  <a:pt x="12179" y="16966"/>
                </a:cubicBezTo>
                <a:cubicBezTo>
                  <a:pt x="12268" y="16966"/>
                  <a:pt x="12344" y="16977"/>
                  <a:pt x="12427" y="16991"/>
                </a:cubicBezTo>
                <a:cubicBezTo>
                  <a:pt x="12469" y="16991"/>
                  <a:pt x="12477" y="16991"/>
                  <a:pt x="12502" y="16991"/>
                </a:cubicBezTo>
              </a:path>
              <a:path w="1440" h="1787">
                <a:moveTo>
                  <a:pt x="12179" y="17587"/>
                </a:moveTo>
                <a:cubicBezTo>
                  <a:pt x="12179" y="17595"/>
                  <a:pt x="12179" y="17603"/>
                  <a:pt x="12179" y="17611"/>
                </a:cubicBezTo>
                <a:cubicBezTo>
                  <a:pt x="12128" y="17611"/>
                  <a:pt x="12121" y="17622"/>
                  <a:pt x="12080" y="17636"/>
                </a:cubicBezTo>
                <a:cubicBezTo>
                  <a:pt x="12029" y="17653"/>
                  <a:pt x="11997" y="17610"/>
                  <a:pt x="11981" y="17661"/>
                </a:cubicBezTo>
              </a:path>
              <a:path w="1440" h="1787">
                <a:moveTo>
                  <a:pt x="12576" y="17512"/>
                </a:moveTo>
                <a:cubicBezTo>
                  <a:pt x="12576" y="17487"/>
                  <a:pt x="12576" y="17479"/>
                  <a:pt x="12576" y="17462"/>
                </a:cubicBezTo>
                <a:cubicBezTo>
                  <a:pt x="12638" y="17462"/>
                  <a:pt x="12667" y="17441"/>
                  <a:pt x="12725" y="17438"/>
                </a:cubicBezTo>
                <a:cubicBezTo>
                  <a:pt x="12789" y="17434"/>
                  <a:pt x="12829" y="17476"/>
                  <a:pt x="12849" y="17537"/>
                </a:cubicBezTo>
                <a:cubicBezTo>
                  <a:pt x="12860" y="17571"/>
                  <a:pt x="12795" y="17637"/>
                  <a:pt x="12774" y="17661"/>
                </a:cubicBezTo>
                <a:cubicBezTo>
                  <a:pt x="12741" y="17699"/>
                  <a:pt x="12672" y="17711"/>
                  <a:pt x="12650" y="17760"/>
                </a:cubicBezTo>
                <a:cubicBezTo>
                  <a:pt x="12630" y="17805"/>
                  <a:pt x="12726" y="17846"/>
                  <a:pt x="12750" y="17859"/>
                </a:cubicBezTo>
                <a:cubicBezTo>
                  <a:pt x="12787" y="17878"/>
                  <a:pt x="12855" y="17917"/>
                  <a:pt x="12874" y="17959"/>
                </a:cubicBezTo>
                <a:cubicBezTo>
                  <a:pt x="12881" y="17975"/>
                  <a:pt x="12874" y="18015"/>
                  <a:pt x="12874" y="18033"/>
                </a:cubicBezTo>
                <a:cubicBezTo>
                  <a:pt x="12799" y="18033"/>
                  <a:pt x="12747" y="18019"/>
                  <a:pt x="12675" y="18008"/>
                </a:cubicBezTo>
                <a:cubicBezTo>
                  <a:pt x="12626" y="18008"/>
                  <a:pt x="12609" y="18008"/>
                  <a:pt x="12576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38840" y="5919840"/>
            <a:ext cx="517320" cy="696960"/>
          </a:xfrm>
          <a:custGeom>
            <a:avLst/>
            <a:gdLst/>
            <a:ahLst/>
            <a:rect l="l" t="t" r="r" b="b"/>
            <a:pathLst>
              <a:path w="1440" h="1935">
                <a:moveTo>
                  <a:pt x="13791" y="16718"/>
                </a:moveTo>
                <a:cubicBezTo>
                  <a:pt x="13780" y="16764"/>
                  <a:pt x="13770" y="16822"/>
                  <a:pt x="13742" y="16867"/>
                </a:cubicBezTo>
                <a:cubicBezTo>
                  <a:pt x="13711" y="16917"/>
                  <a:pt x="13717" y="16955"/>
                  <a:pt x="13717" y="17016"/>
                </a:cubicBezTo>
                <a:cubicBezTo>
                  <a:pt x="13717" y="17057"/>
                  <a:pt x="13752" y="17087"/>
                  <a:pt x="13791" y="17090"/>
                </a:cubicBezTo>
                <a:cubicBezTo>
                  <a:pt x="13955" y="17101"/>
                  <a:pt x="14123" y="17090"/>
                  <a:pt x="14288" y="17090"/>
                </a:cubicBezTo>
              </a:path>
              <a:path w="1440" h="1935">
                <a:moveTo>
                  <a:pt x="14039" y="16942"/>
                </a:moveTo>
                <a:cubicBezTo>
                  <a:pt x="14039" y="17061"/>
                  <a:pt x="14027" y="17173"/>
                  <a:pt x="14015" y="17289"/>
                </a:cubicBezTo>
                <a:cubicBezTo>
                  <a:pt x="14009" y="17350"/>
                  <a:pt x="14000" y="17402"/>
                  <a:pt x="13990" y="17462"/>
                </a:cubicBezTo>
              </a:path>
              <a:path w="1440" h="1935">
                <a:moveTo>
                  <a:pt x="14213" y="17859"/>
                </a:moveTo>
                <a:cubicBezTo>
                  <a:pt x="14221" y="17851"/>
                  <a:pt x="14230" y="17843"/>
                  <a:pt x="14238" y="17835"/>
                </a:cubicBezTo>
                <a:cubicBezTo>
                  <a:pt x="14193" y="17835"/>
                  <a:pt x="14173" y="17829"/>
                  <a:pt x="14139" y="17859"/>
                </a:cubicBezTo>
                <a:cubicBezTo>
                  <a:pt x="14116" y="17882"/>
                  <a:pt x="14108" y="17886"/>
                  <a:pt x="14114" y="17909"/>
                </a:cubicBezTo>
                <a:cubicBezTo>
                  <a:pt x="14161" y="17947"/>
                  <a:pt x="14209" y="17979"/>
                  <a:pt x="14263" y="18008"/>
                </a:cubicBezTo>
                <a:cubicBezTo>
                  <a:pt x="14322" y="18039"/>
                  <a:pt x="14337" y="18043"/>
                  <a:pt x="14337" y="18107"/>
                </a:cubicBezTo>
                <a:cubicBezTo>
                  <a:pt x="14337" y="18115"/>
                  <a:pt x="14337" y="18124"/>
                  <a:pt x="14337" y="18132"/>
                </a:cubicBezTo>
                <a:cubicBezTo>
                  <a:pt x="14254" y="18132"/>
                  <a:pt x="14172" y="18132"/>
                  <a:pt x="14089" y="18132"/>
                </a:cubicBezTo>
              </a:path>
              <a:path w="1440" h="1935">
                <a:moveTo>
                  <a:pt x="14461" y="17934"/>
                </a:moveTo>
                <a:cubicBezTo>
                  <a:pt x="14461" y="17892"/>
                  <a:pt x="14461" y="17884"/>
                  <a:pt x="14461" y="17859"/>
                </a:cubicBezTo>
                <a:cubicBezTo>
                  <a:pt x="14406" y="17859"/>
                  <a:pt x="14367" y="17838"/>
                  <a:pt x="14312" y="17835"/>
                </a:cubicBezTo>
                <a:cubicBezTo>
                  <a:pt x="14261" y="17835"/>
                  <a:pt x="14242" y="17834"/>
                  <a:pt x="14213" y="17810"/>
                </a:cubicBezTo>
              </a:path>
              <a:path w="1440" h="1935">
                <a:moveTo>
                  <a:pt x="14461" y="16446"/>
                </a:moveTo>
                <a:cubicBezTo>
                  <a:pt x="14511" y="16470"/>
                  <a:pt x="14540" y="16479"/>
                  <a:pt x="14585" y="16520"/>
                </a:cubicBezTo>
                <a:cubicBezTo>
                  <a:pt x="14660" y="16588"/>
                  <a:pt x="14733" y="16655"/>
                  <a:pt x="14808" y="16718"/>
                </a:cubicBezTo>
                <a:cubicBezTo>
                  <a:pt x="14870" y="16770"/>
                  <a:pt x="14913" y="16850"/>
                  <a:pt x="14957" y="16917"/>
                </a:cubicBezTo>
                <a:cubicBezTo>
                  <a:pt x="15019" y="17011"/>
                  <a:pt x="15049" y="17070"/>
                  <a:pt x="15081" y="17165"/>
                </a:cubicBezTo>
                <a:cubicBezTo>
                  <a:pt x="15110" y="17251"/>
                  <a:pt x="15146" y="17321"/>
                  <a:pt x="15156" y="17413"/>
                </a:cubicBezTo>
                <a:cubicBezTo>
                  <a:pt x="15171" y="17548"/>
                  <a:pt x="15149" y="17681"/>
                  <a:pt x="15131" y="17810"/>
                </a:cubicBezTo>
                <a:cubicBezTo>
                  <a:pt x="15120" y="17892"/>
                  <a:pt x="15111" y="17979"/>
                  <a:pt x="15081" y="18058"/>
                </a:cubicBezTo>
                <a:cubicBezTo>
                  <a:pt x="15054" y="18127"/>
                  <a:pt x="15041" y="18187"/>
                  <a:pt x="15007" y="18256"/>
                </a:cubicBezTo>
                <a:cubicBezTo>
                  <a:pt x="14984" y="18302"/>
                  <a:pt x="14957" y="18335"/>
                  <a:pt x="14932" y="183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23000" y="6357960"/>
            <a:ext cx="106200" cy="81000"/>
          </a:xfrm>
          <a:custGeom>
            <a:avLst/>
            <a:gdLst/>
            <a:ahLst/>
            <a:rect l="l" t="t" r="r" b="b"/>
            <a:pathLst>
              <a:path w="298" h="224">
                <a:moveTo>
                  <a:pt x="16396" y="17711"/>
                </a:moveTo>
                <a:cubicBezTo>
                  <a:pt x="16404" y="17711"/>
                  <a:pt x="16413" y="17711"/>
                  <a:pt x="16421" y="17711"/>
                </a:cubicBezTo>
                <a:cubicBezTo>
                  <a:pt x="16408" y="17673"/>
                  <a:pt x="16391" y="17686"/>
                  <a:pt x="16346" y="17686"/>
                </a:cubicBezTo>
                <a:cubicBezTo>
                  <a:pt x="16296" y="17686"/>
                  <a:pt x="16288" y="17675"/>
                  <a:pt x="16247" y="17661"/>
                </a:cubicBezTo>
                <a:cubicBezTo>
                  <a:pt x="16228" y="17655"/>
                  <a:pt x="16193" y="17661"/>
                  <a:pt x="16173" y="17661"/>
                </a:cubicBezTo>
              </a:path>
              <a:path w="298" h="224">
                <a:moveTo>
                  <a:pt x="16446" y="17859"/>
                </a:moveTo>
                <a:cubicBezTo>
                  <a:pt x="16454" y="17859"/>
                  <a:pt x="16462" y="17859"/>
                  <a:pt x="16470" y="17859"/>
                </a:cubicBezTo>
                <a:cubicBezTo>
                  <a:pt x="16401" y="17859"/>
                  <a:pt x="16326" y="17843"/>
                  <a:pt x="16272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6680" y="6018120"/>
            <a:ext cx="580680" cy="617760"/>
          </a:xfrm>
          <a:custGeom>
            <a:avLst/>
            <a:gdLst/>
            <a:ahLst/>
            <a:rect l="l" t="t" r="r" b="b"/>
            <a:pathLst>
              <a:path w="1614" h="1713">
                <a:moveTo>
                  <a:pt x="17785" y="16743"/>
                </a:moveTo>
                <a:cubicBezTo>
                  <a:pt x="17785" y="16718"/>
                  <a:pt x="17785" y="16710"/>
                  <a:pt x="17810" y="16718"/>
                </a:cubicBezTo>
                <a:cubicBezTo>
                  <a:pt x="17794" y="16734"/>
                  <a:pt x="17764" y="16763"/>
                  <a:pt x="17735" y="16793"/>
                </a:cubicBezTo>
                <a:cubicBezTo>
                  <a:pt x="17695" y="16834"/>
                  <a:pt x="17663" y="16891"/>
                  <a:pt x="17636" y="16942"/>
                </a:cubicBezTo>
                <a:cubicBezTo>
                  <a:pt x="17599" y="17011"/>
                  <a:pt x="17594" y="17090"/>
                  <a:pt x="17562" y="17165"/>
                </a:cubicBezTo>
                <a:cubicBezTo>
                  <a:pt x="17534" y="17231"/>
                  <a:pt x="17499" y="17294"/>
                  <a:pt x="17487" y="17363"/>
                </a:cubicBezTo>
                <a:cubicBezTo>
                  <a:pt x="17474" y="17439"/>
                  <a:pt x="17462" y="17509"/>
                  <a:pt x="17462" y="17587"/>
                </a:cubicBezTo>
                <a:cubicBezTo>
                  <a:pt x="17462" y="17669"/>
                  <a:pt x="17463" y="17759"/>
                  <a:pt x="17487" y="17835"/>
                </a:cubicBezTo>
                <a:cubicBezTo>
                  <a:pt x="17512" y="17914"/>
                  <a:pt x="17568" y="17968"/>
                  <a:pt x="17611" y="18033"/>
                </a:cubicBezTo>
                <a:cubicBezTo>
                  <a:pt x="17663" y="18112"/>
                  <a:pt x="17736" y="18175"/>
                  <a:pt x="17785" y="18256"/>
                </a:cubicBezTo>
                <a:cubicBezTo>
                  <a:pt x="17812" y="18301"/>
                  <a:pt x="17865" y="18358"/>
                  <a:pt x="17884" y="18405"/>
                </a:cubicBezTo>
                <a:cubicBezTo>
                  <a:pt x="17884" y="18413"/>
                  <a:pt x="17884" y="18422"/>
                  <a:pt x="17884" y="18430"/>
                </a:cubicBezTo>
              </a:path>
              <a:path w="1614" h="1713">
                <a:moveTo>
                  <a:pt x="18207" y="18058"/>
                </a:moveTo>
                <a:cubicBezTo>
                  <a:pt x="18251" y="18058"/>
                  <a:pt x="18256" y="18065"/>
                  <a:pt x="18281" y="18083"/>
                </a:cubicBezTo>
                <a:cubicBezTo>
                  <a:pt x="18289" y="18091"/>
                  <a:pt x="18298" y="18099"/>
                  <a:pt x="18306" y="18107"/>
                </a:cubicBezTo>
                <a:cubicBezTo>
                  <a:pt x="18247" y="18083"/>
                  <a:pt x="18189" y="18077"/>
                  <a:pt x="18132" y="18058"/>
                </a:cubicBezTo>
                <a:cubicBezTo>
                  <a:pt x="18084" y="18034"/>
                  <a:pt x="18070" y="18025"/>
                  <a:pt x="18033" y="18033"/>
                </a:cubicBezTo>
              </a:path>
              <a:path w="1614" h="1713">
                <a:moveTo>
                  <a:pt x="18926" y="18033"/>
                </a:moveTo>
                <a:cubicBezTo>
                  <a:pt x="18951" y="18033"/>
                  <a:pt x="18959" y="18033"/>
                  <a:pt x="18976" y="18033"/>
                </a:cubicBezTo>
                <a:cubicBezTo>
                  <a:pt x="18963" y="17980"/>
                  <a:pt x="18939" y="17993"/>
                  <a:pt x="18901" y="17959"/>
                </a:cubicBezTo>
                <a:cubicBezTo>
                  <a:pt x="18858" y="17921"/>
                  <a:pt x="18809" y="17934"/>
                  <a:pt x="18752" y="17934"/>
                </a:cubicBezTo>
                <a:cubicBezTo>
                  <a:pt x="18700" y="17934"/>
                  <a:pt x="18703" y="17967"/>
                  <a:pt x="18703" y="18008"/>
                </a:cubicBezTo>
                <a:cubicBezTo>
                  <a:pt x="18703" y="18016"/>
                  <a:pt x="18703" y="18025"/>
                  <a:pt x="18703" y="18033"/>
                </a:cubicBezTo>
                <a:cubicBezTo>
                  <a:pt x="18756" y="18033"/>
                  <a:pt x="18776" y="18032"/>
                  <a:pt x="18827" y="18008"/>
                </a:cubicBezTo>
                <a:cubicBezTo>
                  <a:pt x="18878" y="17984"/>
                  <a:pt x="18897" y="17983"/>
                  <a:pt x="18951" y="17983"/>
                </a:cubicBezTo>
                <a:cubicBezTo>
                  <a:pt x="18951" y="18099"/>
                  <a:pt x="18951" y="18215"/>
                  <a:pt x="18951" y="18331"/>
                </a:cubicBezTo>
              </a:path>
              <a:path w="1614" h="1713">
                <a:moveTo>
                  <a:pt x="18554" y="16991"/>
                </a:moveTo>
                <a:cubicBezTo>
                  <a:pt x="18581" y="16955"/>
                  <a:pt x="18570" y="16953"/>
                  <a:pt x="18604" y="16942"/>
                </a:cubicBezTo>
                <a:cubicBezTo>
                  <a:pt x="18557" y="16987"/>
                  <a:pt x="18515" y="17050"/>
                  <a:pt x="18504" y="17115"/>
                </a:cubicBezTo>
                <a:cubicBezTo>
                  <a:pt x="18497" y="17158"/>
                  <a:pt x="18486" y="17287"/>
                  <a:pt x="18529" y="17314"/>
                </a:cubicBezTo>
                <a:cubicBezTo>
                  <a:pt x="18587" y="17350"/>
                  <a:pt x="18664" y="17325"/>
                  <a:pt x="18728" y="17338"/>
                </a:cubicBezTo>
                <a:cubicBezTo>
                  <a:pt x="18799" y="17353"/>
                  <a:pt x="18886" y="17384"/>
                  <a:pt x="18951" y="17413"/>
                </a:cubicBezTo>
                <a:cubicBezTo>
                  <a:pt x="19003" y="17436"/>
                  <a:pt x="19021" y="17438"/>
                  <a:pt x="19075" y="17438"/>
                </a:cubicBezTo>
              </a:path>
              <a:path w="1614" h="1713">
                <a:moveTo>
                  <a:pt x="18901" y="17289"/>
                </a:moveTo>
                <a:cubicBezTo>
                  <a:pt x="18901" y="17225"/>
                  <a:pt x="18877" y="17357"/>
                  <a:pt x="18876" y="17363"/>
                </a:cubicBezTo>
                <a:cubicBezTo>
                  <a:pt x="18864" y="17430"/>
                  <a:pt x="18857" y="17494"/>
                  <a:pt x="18852" y="17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86760" y="6134040"/>
            <a:ext cx="635040" cy="573120"/>
          </a:xfrm>
          <a:custGeom>
            <a:avLst/>
            <a:gdLst/>
            <a:ahLst/>
            <a:rect l="l" t="t" r="r" b="b"/>
            <a:pathLst>
              <a:path w="1762" h="1588">
                <a:moveTo>
                  <a:pt x="21605" y="17041"/>
                </a:moveTo>
                <a:cubicBezTo>
                  <a:pt x="21658" y="17049"/>
                  <a:pt x="21651" y="17044"/>
                  <a:pt x="21679" y="17066"/>
                </a:cubicBezTo>
                <a:cubicBezTo>
                  <a:pt x="21746" y="17118"/>
                  <a:pt x="21813" y="17192"/>
                  <a:pt x="21853" y="17264"/>
                </a:cubicBezTo>
                <a:cubicBezTo>
                  <a:pt x="21900" y="17348"/>
                  <a:pt x="21922" y="17446"/>
                  <a:pt x="21952" y="17537"/>
                </a:cubicBezTo>
                <a:cubicBezTo>
                  <a:pt x="21988" y="17644"/>
                  <a:pt x="22002" y="17722"/>
                  <a:pt x="22002" y="17835"/>
                </a:cubicBezTo>
                <a:cubicBezTo>
                  <a:pt x="22002" y="17928"/>
                  <a:pt x="21994" y="17976"/>
                  <a:pt x="21952" y="18058"/>
                </a:cubicBezTo>
                <a:cubicBezTo>
                  <a:pt x="21899" y="18163"/>
                  <a:pt x="21846" y="18247"/>
                  <a:pt x="21779" y="18331"/>
                </a:cubicBezTo>
                <a:cubicBezTo>
                  <a:pt x="21745" y="18373"/>
                  <a:pt x="21707" y="18433"/>
                  <a:pt x="21679" y="18479"/>
                </a:cubicBezTo>
                <a:cubicBezTo>
                  <a:pt x="21668" y="18498"/>
                  <a:pt x="21664" y="18534"/>
                  <a:pt x="21654" y="18554"/>
                </a:cubicBezTo>
              </a:path>
              <a:path w="1762" h="1588">
                <a:moveTo>
                  <a:pt x="20290" y="17462"/>
                </a:moveTo>
                <a:cubicBezTo>
                  <a:pt x="20265" y="17462"/>
                  <a:pt x="20257" y="17462"/>
                  <a:pt x="20241" y="17462"/>
                </a:cubicBezTo>
                <a:cubicBezTo>
                  <a:pt x="20287" y="17428"/>
                  <a:pt x="20329" y="17438"/>
                  <a:pt x="20389" y="17438"/>
                </a:cubicBezTo>
                <a:cubicBezTo>
                  <a:pt x="20455" y="17438"/>
                  <a:pt x="20522" y="17438"/>
                  <a:pt x="20588" y="17438"/>
                </a:cubicBezTo>
              </a:path>
              <a:path w="1762" h="1588">
                <a:moveTo>
                  <a:pt x="20910" y="17289"/>
                </a:moveTo>
                <a:cubicBezTo>
                  <a:pt x="20949" y="17250"/>
                  <a:pt x="20951" y="17233"/>
                  <a:pt x="20985" y="17239"/>
                </a:cubicBezTo>
                <a:cubicBezTo>
                  <a:pt x="20985" y="17320"/>
                  <a:pt x="20951" y="17333"/>
                  <a:pt x="20935" y="17413"/>
                </a:cubicBezTo>
                <a:cubicBezTo>
                  <a:pt x="20922" y="17478"/>
                  <a:pt x="20910" y="17543"/>
                  <a:pt x="20910" y="17611"/>
                </a:cubicBezTo>
              </a:path>
              <a:path w="1762" h="1588">
                <a:moveTo>
                  <a:pt x="21382" y="17388"/>
                </a:moveTo>
                <a:cubicBezTo>
                  <a:pt x="21406" y="17388"/>
                  <a:pt x="21415" y="17388"/>
                  <a:pt x="21431" y="17388"/>
                </a:cubicBezTo>
                <a:cubicBezTo>
                  <a:pt x="21431" y="17343"/>
                  <a:pt x="21433" y="17320"/>
                  <a:pt x="21382" y="17314"/>
                </a:cubicBezTo>
                <a:cubicBezTo>
                  <a:pt x="21336" y="17309"/>
                  <a:pt x="21264" y="17298"/>
                  <a:pt x="21233" y="17338"/>
                </a:cubicBezTo>
                <a:cubicBezTo>
                  <a:pt x="21197" y="17384"/>
                  <a:pt x="21200" y="17437"/>
                  <a:pt x="21258" y="17462"/>
                </a:cubicBezTo>
                <a:cubicBezTo>
                  <a:pt x="21297" y="17479"/>
                  <a:pt x="21381" y="17445"/>
                  <a:pt x="21406" y="17413"/>
                </a:cubicBezTo>
                <a:cubicBezTo>
                  <a:pt x="21428" y="17385"/>
                  <a:pt x="21413" y="17492"/>
                  <a:pt x="21406" y="17537"/>
                </a:cubicBezTo>
                <a:cubicBezTo>
                  <a:pt x="21392" y="17627"/>
                  <a:pt x="21382" y="17694"/>
                  <a:pt x="21382" y="17785"/>
                </a:cubicBezTo>
              </a:path>
              <a:path w="1762" h="1588">
                <a:moveTo>
                  <a:pt x="20762" y="18107"/>
                </a:moveTo>
                <a:cubicBezTo>
                  <a:pt x="20782" y="18067"/>
                  <a:pt x="20780" y="18051"/>
                  <a:pt x="20811" y="18058"/>
                </a:cubicBezTo>
                <a:cubicBezTo>
                  <a:pt x="20799" y="18105"/>
                  <a:pt x="20764" y="18116"/>
                  <a:pt x="20737" y="18157"/>
                </a:cubicBezTo>
                <a:cubicBezTo>
                  <a:pt x="20718" y="18186"/>
                  <a:pt x="20665" y="18266"/>
                  <a:pt x="20687" y="18306"/>
                </a:cubicBezTo>
                <a:cubicBezTo>
                  <a:pt x="20713" y="18353"/>
                  <a:pt x="20789" y="18372"/>
                  <a:pt x="20836" y="18380"/>
                </a:cubicBezTo>
                <a:cubicBezTo>
                  <a:pt x="20901" y="18391"/>
                  <a:pt x="20969" y="18400"/>
                  <a:pt x="21034" y="18405"/>
                </a:cubicBezTo>
                <a:cubicBezTo>
                  <a:pt x="21091" y="18409"/>
                  <a:pt x="21115" y="18396"/>
                  <a:pt x="21158" y="18430"/>
                </a:cubicBezTo>
              </a:path>
              <a:path w="1762" h="1588">
                <a:moveTo>
                  <a:pt x="21034" y="18331"/>
                </a:moveTo>
                <a:cubicBezTo>
                  <a:pt x="20973" y="18346"/>
                  <a:pt x="20963" y="18399"/>
                  <a:pt x="20935" y="18455"/>
                </a:cubicBezTo>
                <a:cubicBezTo>
                  <a:pt x="20905" y="18515"/>
                  <a:pt x="20893" y="18563"/>
                  <a:pt x="20886" y="186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ula and Greg want to compare the cost of shopping at two supermar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ula and Greg want to compare the cost of shopping at two supermar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4149720"/>
            <a:ext cx="5182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3) x (3 x 2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2 x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4149720"/>
            <a:ext cx="360360" cy="57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8000" y="4076640"/>
            <a:ext cx="360360" cy="57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413000"/>
            <a:ext cx="20890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2492280"/>
            <a:ext cx="1656000" cy="1657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797360"/>
            <a:ext cx="4464000" cy="1511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of columns in the first must equal the number of rows in the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4292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4292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0:06:07Z</dcterms:created>
  <dc:creator>N Holden</dc:creator>
  <dc:description/>
  <dc:language>en-US</dc:language>
  <cp:lastModifiedBy>N Holden</cp:lastModifiedBy>
  <dcterms:modified xsi:type="dcterms:W3CDTF">2009-03-13T15:45:16Z</dcterms:modified>
  <cp:revision>9</cp:revision>
  <dc:subject/>
  <dc:title>L.O. Multiply matrices by scalars and other matrices</dc:title>
</cp:coreProperties>
</file>